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524D-99C2-4F16-9321-94B1EFD58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2C08-3487-41F1-B5E3-BEB26451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043D-EFC2-410C-8325-885995AB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DE62-A7D4-42C1-8549-C3861062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1BDB-6A82-4326-9913-7E8265A5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2606-2B4D-4C05-BF04-D98AA0E7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6AA4-47D1-48D6-9EB1-C07DCAF4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A34B-B087-416C-9F48-E81892B5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A01-4803-4DA6-B883-B51E22F0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7FA-017E-418B-90DD-4EDF9E9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5DF-A95F-4184-8F84-70F95F58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CAD-E9AA-4879-A792-E3EBDE4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4818-4305-4F2B-BA77-C4AD3A978C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scattered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1523880"/>
            <a:ext cx="815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short comments on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l &amp; multimodal informatio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quisition of linguistic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ning of lexic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v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‘aware’ vs. language ‘unaware’ approa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medial &amp; Multimodal Information processing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3760" y="1654200"/>
            <a:ext cx="88567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medial and multimodal information processing appear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ting in which we will operate in the future, as it represents w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losest to real-life communicative scenaria (natural dialog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-to-human / human-to-machine, interactive / digital TV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multimedial/multimodal information setting we have to reali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rden put on text and its pro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ost modalities converted to text through convers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eech recognition, image captions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ed for robust infrastructure (resources &amp; tools) monolingua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lingual, as in most architectures robustness is required from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t processing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guistic knowledge acqui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3840" y="1447920"/>
            <a:ext cx="88246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HLT community has accumulated knowledge and experience 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extract linguistic knowledge from primary 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corpora), model and somehow represen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ontological engineering and the semantic web(s) approach h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ntrated more on formalising representations and developing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logical background for performing in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espite unclear definition, notion of semantic web is expanding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 and (be) integrate(d) with e.g. ERP 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utomatic linguistic knowledge elicitation methods can be take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greatly benefit the data population tasks as the conte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xical Tu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5840" y="2022480"/>
            <a:ext cx="8052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widely believed that HLT can be of benefit only if customi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articular domains and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masses of resources out there, generic or domain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ed for lexical tuning approaches so that existing resources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s of them are directly usable by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peed, high degree of automation of lexical tuning are key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gh range of successful applications (machine transl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extraction,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aborative work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4840" y="1143000"/>
            <a:ext cx="858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open, distributed language resources infrastructure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tanti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s (will) play a key role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 on collaborative work (e.g. for multilingual resour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l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a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ems to be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requisi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vail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ems to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e qua n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ample can be set, however, sustainable growth of the L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ion sector necessitates the elaboration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siness mode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this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nguage ‘aware’ vs. Language ‘unaware’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8160" y="1523880"/>
            <a:ext cx="8709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/word crunching methods, statistical processing,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ffect the setting in which the HLT/CL/NLP community h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en oper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-aware methods and tools will need to prove that 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erform language-unaware methods for a range of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.g. text classification, cross-lingual retrieval, even mach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LT resources and tools (e.g. term extraction, bilingual termi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ion, etc) vs. e.g. Bayesian networks or self-organi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aches (e.g. Autonomy’s set of solu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guage aware vs. Language unawar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5920" y="1752480"/>
            <a:ext cx="8279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able to derive the proof we need a more sound evalu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hough the metrics are available, the evaluation data set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sing making the proof almost im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on will also allow to estimate return-on-investmen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igure absolutely necessary today for take-up of our methods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ust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2T16:07:29Z</dcterms:created>
  <dc:creator>spip</dc:creator>
  <dc:description/>
  <dc:language>en-US</dc:language>
  <cp:lastModifiedBy>spip</cp:lastModifiedBy>
  <dcterms:modified xsi:type="dcterms:W3CDTF">2002-12-03T08:15:54Z</dcterms:modified>
  <cp:revision>9</cp:revision>
  <dc:subject/>
  <dc:title>Language aware vs. unaware methods</dc:title>
</cp:coreProperties>
</file>