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005-6344-422D-A6F2-05E26A97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8F6-DC6E-4DB2-87B1-B149E3F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FBE-3514-4FDA-93C6-585248E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183-5302-4BB1-A7C7-4730EB38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70B-9DAD-4DB3-8287-08AD093E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D8B-4604-47C0-9F4A-2E8E0BEC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BD5-A49F-4F23-8926-9B84033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953-8081-4F24-9F93-4368628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4FB-476D-4AAD-BFBD-9B994FE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3C9-F833-4043-A6E7-CEDB662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0B2-0E5C-4370-91B8-77AAEFA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9C9-464D-4EAB-9382-9D523C2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657-A8B8-498A-90DD-B974ABA26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52280"/>
            <a:ext cx="421920" cy="990360"/>
            <a:chOff x="228600" y="152280"/>
            <a:chExt cx="421920" cy="9903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421920" cy="74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74320" y="922320"/>
              <a:ext cx="28440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Arial"/>
                </a:rPr>
                <a:t>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990720" y="1676520"/>
            <a:ext cx="7061040" cy="856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Open Lexicon Cre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lph Grish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Lexicon Cre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t least) two possible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entire domain lexicons by computational lexicography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ntributions by large number of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ibuting Domain Lexi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:  computational lexic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 vocabulary list for new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MIL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s Pisa for dinner (at least tw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s it with other lex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ing Lexic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same language dictionaries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framework (MILE) is helpful, but may not address the main obst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istic compatibility more cru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a t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a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886200"/>
            <a:ext cx="1143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5715000"/>
            <a:ext cx="11430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3962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4952880"/>
            <a:ext cx="0" cy="914400"/>
          </a:xfrm>
          <a:prstGeom prst="line">
            <a:avLst/>
          </a:prstGeom>
          <a:ln w="3049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5105520"/>
            <a:ext cx="0" cy="914400"/>
          </a:xfrm>
          <a:prstGeom prst="line">
            <a:avLst/>
          </a:prstGeom>
          <a:ln w="254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5029200"/>
            <a:ext cx="0" cy="914400"/>
          </a:xfrm>
          <a:prstGeom prst="line">
            <a:avLst/>
          </a:prstGeom>
          <a:ln w="254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72400" y="5029200"/>
            <a:ext cx="0" cy="914400"/>
          </a:xfrm>
          <a:prstGeom prst="line">
            <a:avLst/>
          </a:prstGeom>
          <a:ln w="3049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5029200"/>
            <a:ext cx="0" cy="914400"/>
          </a:xfrm>
          <a:prstGeom prst="line">
            <a:avLst/>
          </a:prstGeom>
          <a:ln w="254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5029200"/>
            <a:ext cx="0" cy="914400"/>
          </a:xfrm>
          <a:prstGeom prst="line">
            <a:avLst/>
          </a:prstGeom>
          <a:ln w="254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800600"/>
            <a:ext cx="11430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5400" y="53341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ing Lexic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ictionary gets richer, merging becomes ha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complement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gram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selection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concept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eep dictionary structu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it translatable to new formal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parameterized patterns (features) rather than complex structures (Coml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general information from grammatical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tated examples (J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ing Lexic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just common format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ies of comparable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core lexicon (as exemp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notated cor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specialist (or bored web sur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s to write a few entries for new term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wants to come to Pisa for dinner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willing to study MIL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acquire useful lexical information from such ‘users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something more similar to ‘annotated examples’ than full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e subcategorization, selection, transfer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by similarity to prior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 exemplars from multiple users for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get sufficiently reliable entries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get enough volunte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Compaq</cp:lastModifiedBy>
  <dcterms:modified xsi:type="dcterms:W3CDTF">2002-12-03T13:34:45Z</dcterms:modified>
  <cp:revision>9</cp:revision>
  <dc:subject/>
  <dc:title>Distributed Lexicon Creation?</dc:title>
</cp:coreProperties>
</file>