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F002-7827-4A5D-8AEF-6DE89E87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6C83-8CAC-452F-BC9F-71AE7EFF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C7B7-34B9-4279-8F82-EABDD4DD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B30-79D5-4E6B-A01B-439ED2C5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78B4-1E9B-48F1-8782-1C6364DD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1BA-00C4-44D5-B494-3C72A449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CEDA-3E49-416A-8C7F-7B9EFF1B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05C-CD6C-4DD2-B470-A4EE5A1E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00F2-C006-460C-A71F-515E7BCE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F631-CEA0-4766-93FC-4833B0DFF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F44C-579C-45C1-965C-B9463181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5DD-264F-432A-8B2C-B3CBCB6FC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ISLE Final Workshop -Pisa,  Dec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D220-E94C-4E92-91E5-4E389B609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Panel and open discussion on issues related to</a:t>
            </a:r>
            <a:br>
              <a:rPr sz="3200"/>
            </a:br>
            <a:br>
              <a:rPr sz="3200"/>
            </a:b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 ISLE themes </a:t>
            </a:r>
            <a:br>
              <a:rPr sz="4400"/>
            </a:b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&amp; future initiativ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4197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ahoma"/>
              </a:rPr>
              <a:t>Multilingual Computational Lexic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ahoma"/>
              </a:rPr>
              <a:t>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2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ahoma"/>
              </a:rPr>
              <a:t>Nicoletta Calzo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248520" y="0"/>
            <a:ext cx="2889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6553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 new paradigm for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Comic Sans MS"/>
              </a:rPr>
              <a:t>a “new generation” of L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ew Strategic 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wards a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Distributed Open Lexical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8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2320" cy="861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8600" y="1905120"/>
            <a:ext cx="990720" cy="1371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211680 h 1371600"/>
              <a:gd name="textAreaBottom" fmla="*/ 10227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447920"/>
            <a:ext cx="7391520" cy="10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Focus on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coopera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lso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 between different comm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4572000"/>
            <a:ext cx="8458200" cy="1867320"/>
          </a:xfrm>
          <a:prstGeom prst="rect">
            <a:avLst/>
          </a:prstGeom>
          <a:solidFill>
            <a:srgbClr val="bbc6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8000"/>
              </a:lnSpc>
              <a:spcAft>
                <a:spcPts val="11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distributed &amp; cooperative creation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management, etc. of Lexic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8000"/>
              </a:lnSpc>
              <a:spcAft>
                <a:spcPts val="11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MIL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as a common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8000"/>
              </a:lnSpc>
              <a:spcAft>
                <a:spcPts val="1199"/>
              </a:spcAft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technical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&amp; organisational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4800600"/>
            <a:ext cx="8534520" cy="1447920"/>
          </a:xfrm>
          <a:prstGeom prst="rect">
            <a:avLst/>
          </a:prstGeom>
          <a:solidFill>
            <a:srgbClr val="bbc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through    </a:t>
            </a:r>
            <a:r>
              <a:rPr b="1" lang="en-GB" sz="3600" spc="-1" strike="noStrike">
                <a:solidFill>
                  <a:srgbClr val="ff0000"/>
                </a:solidFill>
                <a:latin typeface="Arial Black"/>
              </a:rPr>
              <a:t>“ELITE”  </a:t>
            </a:r>
            <a:r>
              <a:rPr b="0" lang="en-GB" sz="1800" spc="-1" strike="noStrike">
                <a:solidFill>
                  <a:srgbClr val="ff0000"/>
                </a:solidFill>
                <a:latin typeface="Arial Black"/>
              </a:rPr>
              <a:t>(EoI for the 6</a:t>
            </a:r>
            <a:r>
              <a:rPr b="0" lang="en-GB" sz="1800" spc="-1" strike="noStrike" baseline="30000">
                <a:solidFill>
                  <a:srgbClr val="ff0000"/>
                </a:solidFill>
                <a:latin typeface="Arial Black"/>
              </a:rPr>
              <a:t>th</a:t>
            </a:r>
            <a:r>
              <a:rPr b="0" lang="en-GB" sz="1800" spc="-1" strike="noStrike">
                <a:solidFill>
                  <a:srgbClr val="ff0000"/>
                </a:solidFill>
                <a:latin typeface="Arial Black"/>
              </a:rPr>
              <a:t>FP)</a:t>
            </a:r>
            <a:br>
              <a:rPr sz="1800"/>
            </a:br>
            <a:r>
              <a:rPr b="1" lang="en-GB" sz="1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“European </a:t>
            </a:r>
            <a:r>
              <a:rPr b="1" lang="en-GB" sz="2800" spc="-1" strike="noStrike">
                <a:solidFill>
                  <a:srgbClr val="000000"/>
                </a:solidFill>
                <a:latin typeface="Garamond"/>
              </a:rPr>
              <a:t>Lexical Infrastructure and Technology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-360" y="1523520"/>
            <a:ext cx="8915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.. discussing the possibility of designing &amp; launching 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Open &amp; Distributed Lexical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r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for content description and 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content interoperability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r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to make lexical resources usable within the emerging 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Semantic Web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scen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4191120"/>
            <a:ext cx="685800" cy="914400"/>
          </a:xfrm>
          <a:custGeom>
            <a:avLst/>
            <a:gdLst>
              <a:gd name="textAreaLeft" fmla="*/ 91800 w 685800"/>
              <a:gd name="textAreaRight" fmla="*/ 594000 w 68580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167832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for Language Resources &amp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Semantic Web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 Black"/>
              </a:rPr>
              <a:t>Panel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5053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ISLE memb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Nicoletta Calzo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Ralph Grish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952880" y="1447920"/>
            <a:ext cx="3810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Non-ISLE memb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Takenobu Tokunaga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Gudrun Magnusdott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telios Piperi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00400" y="46483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ALL: discu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2320" cy="86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05120" y="3657600"/>
            <a:ext cx="990360" cy="1371600"/>
          </a:xfrm>
          <a:custGeom>
            <a:avLst/>
            <a:gdLst>
              <a:gd name="textAreaLeft" fmla="*/ 132480 w 990360"/>
              <a:gd name="textAreaRight" fmla="*/ 857880 w 990360"/>
              <a:gd name="textAreaTop" fmla="*/ 211680 h 1371600"/>
              <a:gd name="textAreaBottom" fmla="*/ 10227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 Black"/>
              </a:rPr>
              <a:t>A few Issues for the Panel:</a:t>
            </a:r>
            <a:br>
              <a:rPr sz="2000"/>
            </a:br>
            <a:r>
              <a:rPr b="1" lang="en-GB" sz="2800" spc="-1" strike="noStrike">
                <a:solidFill>
                  <a:srgbClr val="3333cc"/>
                </a:solidFill>
                <a:latin typeface="Arial Black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 Black"/>
              </a:rPr>
              <a:t>MILE &amp; lexicon standards</a:t>
            </a:r>
            <a:br>
              <a:rPr sz="2800"/>
            </a:br>
            <a:r>
              <a:rPr b="1" lang="en-GB" sz="28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800" spc="-1" strike="noStrike">
                <a:solidFill>
                  <a:srgbClr val="ff0000"/>
                </a:solidFill>
                <a:latin typeface="Arial Black"/>
              </a:rPr>
              <a:t>More standardisation initiativ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88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Garamond"/>
              </a:rPr>
              <a:t>MILE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- a general schema for encoding multilingual lexical info, </a:t>
            </a:r>
            <a:r>
              <a:rPr b="1" lang="en-GB" sz="2400" spc="-1" strike="noStrike">
                <a:solidFill>
                  <a:srgbClr val="ff0000"/>
                </a:solidFill>
                <a:latin typeface="Garamond"/>
              </a:rPr>
              <a:t>as a meta-entry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, as a common representational lay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88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Short &amp; medium term requirements wrt 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standards for multilingual lexicons and content encoding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, also 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industrial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8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Relation with Spoken language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community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8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Semantic Web standards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&amp; the needs of 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content processing technologies: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importance of reaching consensus on (linguistic &amp; non-linguistic) 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“content”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, in addition to agreement on formats &amp; encoding issues (…</a:t>
            </a:r>
            <a:r>
              <a:rPr b="0" lang="en-GB" sz="2400" spc="-1" strike="noStrike">
                <a:solidFill>
                  <a:srgbClr val="3333cc"/>
                </a:solidFill>
                <a:latin typeface="Garamond"/>
              </a:rPr>
              <a:t>words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convey content &amp; knowle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lnSpc>
                <a:spcPct val="88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Define 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further steps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necessary to converge on common 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88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232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 Black"/>
              </a:rPr>
              <a:t>A few Issues for the Panel:</a:t>
            </a:r>
            <a:br>
              <a:rPr sz="2000"/>
            </a:b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NLP, lexicons, content, ontologies,</a:t>
            </a:r>
            <a:br>
              <a:rPr sz="2400"/>
            </a:b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Semantic Web: a continu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534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88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Need for 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robust systems, able to acquire/tune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multilingual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 lexical/linguistic/conceptual knowledge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, to auto-enrich static basic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88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Relation betw. lexical standards &amp; acquisition &amp; text annotation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88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Knowledge management is critical. 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For “content” interoperability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, is the field 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‘mature’ enough to converge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around agreed standards also for the semantic/conceptual level (e.g. to automatically establish links among different languages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lnSpc>
                <a:spcPct val="88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Is the field of multilingual lexical resources 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ready to tackle the challenges set by the Semantic Web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develop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232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 Black"/>
              </a:rPr>
              <a:t>A few Issues for the Panel: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3333cc"/>
                </a:solidFill>
                <a:latin typeface="Arial Black"/>
              </a:rPr>
              <a:t>                        </a:t>
            </a:r>
            <a:r>
              <a:rPr b="1" lang="en-GB" sz="2800" spc="-1" strike="noStrike">
                <a:solidFill>
                  <a:srgbClr val="ff0000"/>
                </a:solidFill>
                <a:latin typeface="Arial Black"/>
              </a:rPr>
              <a:t>“content”, priorities… </a:t>
            </a:r>
            <a:r>
              <a:rPr b="1" lang="en-GB" sz="2800" spc="-1" strike="noStrike">
                <a:solidFill>
                  <a:srgbClr val="ff0000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83818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8000"/>
              </a:lnSpc>
              <a:spcBef>
                <a:spcPts val="601"/>
              </a:spcBef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Comic Sans MS"/>
              </a:rPr>
              <a:t>For which type of resources to invest?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wrt short vs. medium term result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8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thout redoing what exists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8000"/>
              </a:lnSpc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ich synerg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8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2320" cy="861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47920" y="4724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Black"/>
              </a:rPr>
              <a:t>Towards a new paradigm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752480" y="533520"/>
            <a:ext cx="7162920" cy="914400"/>
          </a:xfrm>
          <a:prstGeom prst="bevel">
            <a:avLst>
              <a:gd name="adj" fmla="val 23106"/>
            </a:avLst>
          </a:prstGeom>
          <a:solidFill>
            <a:srgbClr val="ffcc00"/>
          </a:solidFill>
          <a:ln w="12600">
            <a:solidFill>
              <a:srgbClr val="eaeaea"/>
            </a:solidFill>
            <a:miter/>
          </a:ln>
          <a:effectLst>
            <a:outerShdw dist="153753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480" y="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Black"/>
              </a:rPr>
              <a:t>Content for practical use:</a:t>
            </a:r>
            <a:br>
              <a:rPr sz="2800"/>
            </a:br>
            <a:r>
              <a:rPr b="1" lang="en-GB" sz="2800" spc="-1" strike="noStrike">
                <a:solidFill>
                  <a:srgbClr val="008000"/>
                </a:solidFill>
                <a:latin typeface="Arial Black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Arial Black"/>
              </a:rPr>
              <a:t>Gap betw. Resources &amp; Syst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If we have 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real-size lexicons with very fine-grained semantic /conceptual info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, are there 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systems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(non ad-hoc toy systems) 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able to use them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ts val="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vicious circl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bet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i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lack of suitable, large-size, knowledge intensive, resourc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ii)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systems’ ability to use them effe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 algn="just">
              <a:lnSpc>
                <a:spcPts val="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fine a 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strategy of R&amp;D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ithin whi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 tw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argets can be 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pursued in paralle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losely 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interac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ith each other,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e 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gradually integr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2895480"/>
            <a:ext cx="838440" cy="838440"/>
          </a:xfrm>
          <a:custGeom>
            <a:avLst/>
            <a:gdLst>
              <a:gd name="textAreaLeft" fmla="*/ 112320 w 838440"/>
              <a:gd name="textAreaRight" fmla="*/ 726120 w 83844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8000"/>
            </a:solidFill>
            <a:miter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2743200"/>
            <a:ext cx="838080" cy="762120"/>
          </a:xfrm>
          <a:custGeom>
            <a:avLst/>
            <a:gdLst>
              <a:gd name="textAreaLeft" fmla="*/ 112320 w 838080"/>
              <a:gd name="textAreaRight" fmla="*/ 725760 w 83808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89080"/>
            <a:ext cx="941400" cy="1008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6019920"/>
            <a:ext cx="18288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74284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ISLE Final Workshop -Pisa,  Dec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210960"/>
            <a:ext cx="8915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Target…..</a:t>
            </a: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          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          </a:t>
            </a:r>
            <a:r>
              <a:rPr b="1" lang="en-GB" sz="2800" spc="-1" strike="noStrike">
                <a:solidFill>
                  <a:srgbClr val="3333cc"/>
                </a:solidFill>
                <a:latin typeface="Arial Black"/>
              </a:rPr>
              <a:t>Multilingual Knowledge Management</a:t>
            </a:r>
            <a:br>
              <a:rPr sz="3200"/>
            </a:br>
            <a:r>
              <a:rPr b="1" lang="en-GB" sz="3200" spc="-1" strike="noStrike">
                <a:solidFill>
                  <a:srgbClr val="008000"/>
                </a:solidFill>
                <a:latin typeface="Arial Black"/>
              </a:rPr>
              <a:t>                                    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Technical Feasibility:</a:t>
            </a:r>
            <a:r>
              <a:rPr b="1" lang="en-GB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Prerequisit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s it an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achievable goa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en-GB" sz="2400" spc="-1" strike="noStrike">
                <a:solidFill>
                  <a:srgbClr val="3333cc"/>
                </a:solidFill>
                <a:latin typeface="Comic Sans MS"/>
              </a:rPr>
              <a:t>commonly agreed</a:t>
            </a: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Comic Sans MS"/>
              </a:rPr>
              <a:t>text/lexicon annotation protocol also for the semantic/conceptual leve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(to be able to automatically establish links among different languages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Y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, at the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lexica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ore complex, for corpus annot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4267080"/>
            <a:ext cx="3048120" cy="1219320"/>
          </a:xfrm>
          <a:prstGeom prst="cloudCallout">
            <a:avLst>
              <a:gd name="adj1" fmla="val -82500"/>
              <a:gd name="adj2" fmla="val -4622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 Black"/>
              </a:rPr>
              <a:t>EAGLES/IS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266720" y="5105520"/>
            <a:ext cx="1219320" cy="533160"/>
          </a:xfrm>
          <a:prstGeom prst="line">
            <a:avLst/>
          </a:prstGeom>
          <a:ln w="25560">
            <a:solidFill>
              <a:srgbClr val="3333cc"/>
            </a:solidFill>
            <a:miter/>
            <a:headEnd len="med" type="diamond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657600"/>
            <a:ext cx="838080" cy="533520"/>
          </a:xfrm>
          <a:custGeom>
            <a:avLst/>
            <a:gdLst>
              <a:gd name="textAreaLeft" fmla="*/ 146520 w 838080"/>
              <a:gd name="textAreaRight" fmla="*/ 607680 w 8380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33cc"/>
          </a:solidFill>
          <a:ln w="0">
            <a:noFill/>
          </a:ln>
          <a:effectLst>
            <a:outerShdw dist="107932" dir="135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5715000"/>
            <a:ext cx="762120" cy="533520"/>
          </a:xfrm>
          <a:custGeom>
            <a:avLst/>
            <a:gdLst>
              <a:gd name="textAreaLeft" fmla="*/ 133200 w 762120"/>
              <a:gd name="textAreaRight" fmla="*/ 552600 w 76212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0120" y="6137280"/>
            <a:ext cx="152388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To make the Semantic Web 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a reality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9154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…</a:t>
            </a: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need to tackle the twofold challeng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Garamond"/>
              </a:rPr>
              <a:t>content availability</a:t>
            </a: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Garamond"/>
              </a:rPr>
              <a:t>multilinguality</a:t>
            </a: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Natural convergence with </a:t>
            </a:r>
            <a:r>
              <a:rPr b="1" lang="en-GB" sz="3200" spc="-1" strike="noStrike">
                <a:solidFill>
                  <a:srgbClr val="000000"/>
                </a:solidFill>
                <a:latin typeface="Garamond"/>
              </a:rPr>
              <a:t>HLT</a:t>
            </a: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Garamond"/>
              </a:rPr>
              <a:t>multilingual semantic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Garamond"/>
              </a:rPr>
              <a:t>ont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Garamond"/>
              </a:rPr>
              <a:t>semantic</a:t>
            </a:r>
            <a:r>
              <a:rPr b="1" lang="en-GB" sz="2800" spc="-1" strike="noStrike">
                <a:solidFill>
                  <a:srgbClr val="3333cc"/>
                </a:solidFill>
                <a:latin typeface="Garamond"/>
              </a:rPr>
              <a:t>-syntactic computational lexi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4648320"/>
            <a:ext cx="48564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99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5257800"/>
            <a:ext cx="485640" cy="45720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53280" y="1371600"/>
            <a:ext cx="990720" cy="4572000"/>
          </a:xfrm>
          <a:custGeom>
            <a:avLst/>
            <a:gdLst>
              <a:gd name="textAreaLeft" fmla="*/ 155520 w 990720"/>
              <a:gd name="textAreaRight" fmla="*/ 690840 w 990720"/>
              <a:gd name="textAreaTop" fmla="*/ 2119680 h 4572000"/>
              <a:gd name="textAreaBottom" fmla="*/ 3187440 h 4572000"/>
            </a:gdLst>
            <a:ahLst/>
            <a:rect l="textAreaLeft" t="textAreaTop" r="textAreaRight" b="textAreaBottom"/>
            <a:pathLst>
              <a:path w="21600" h="21600">
                <a:moveTo>
                  <a:pt x="0" y="16556"/>
                </a:moveTo>
                <a:lnTo>
                  <a:pt x="10014" y="16556"/>
                </a:lnTo>
                <a:lnTo>
                  <a:pt x="10014" y="3392"/>
                </a:lnTo>
                <a:lnTo>
                  <a:pt x="3472" y="3392"/>
                </a:lnTo>
                <a:lnTo>
                  <a:pt x="12536" y="0"/>
                </a:lnTo>
                <a:lnTo>
                  <a:pt x="21600" y="3392"/>
                </a:lnTo>
                <a:lnTo>
                  <a:pt x="15058" y="3392"/>
                </a:lnTo>
                <a:lnTo>
                  <a:pt x="15058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8d69b0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002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e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7620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 Black"/>
              </a:rPr>
              <a:t>Computational Multilingual Lexicons: </a:t>
            </a:r>
            <a:br>
              <a:rPr sz="2800"/>
            </a:br>
            <a:r>
              <a:rPr b="1" lang="en-GB" sz="28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Arial Black"/>
              </a:rPr>
              <a:t>essential component for the </a:t>
            </a:r>
            <a:r>
              <a:rPr b="1" lang="en-GB" sz="2800" spc="-1" strike="noStrike">
                <a:solidFill>
                  <a:srgbClr val="ff0000"/>
                </a:solidFill>
                <a:latin typeface="Arial Black"/>
              </a:rPr>
              <a:t>Semantic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Language - &amp; lexicons -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are the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 gateway to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Semantic Web developers need 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repositories of words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&amp; terms - &amp; knowledge of their relations in language use &amp; ontological classific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The cost of adding this structured and </a:t>
            </a:r>
            <a:r>
              <a:rPr b="1" i="1" lang="en-GB" sz="2400" spc="-1" strike="noStrike">
                <a:solidFill>
                  <a:srgbClr val="3333cc"/>
                </a:solidFill>
                <a:latin typeface="Garamond"/>
              </a:rPr>
              <a:t>machine-understandable lexical information</a:t>
            </a:r>
            <a:r>
              <a:rPr b="0" i="1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can be one of the factors that delays its full deploy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The effort of making available </a:t>
            </a:r>
            <a:r>
              <a:rPr b="1" lang="en-GB" sz="2400" spc="-1" strike="noStrike">
                <a:solidFill>
                  <a:srgbClr val="ff0000"/>
                </a:solidFill>
                <a:latin typeface="Garamond"/>
              </a:rPr>
              <a:t>millions of ‘words’ for dozens of languages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is something that 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no small group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is able to aff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181480"/>
            <a:ext cx="7772400" cy="1496160"/>
          </a:xfrm>
          <a:prstGeom prst="rect">
            <a:avLst/>
          </a:prstGeom>
          <a:solidFill>
            <a:srgbClr val="d9d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radical shift in the lexical paradigm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- whereby many participants add linguistic content descriptions in an open distributed lexical framework -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required to make the Web us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48006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05840 h 685800"/>
              <a:gd name="textAreaBottom" fmla="*/ 5115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671" stAng="-5400000" swAng="-5400000"/>
                <a:lnTo>
                  <a:pt x="0" y="12769"/>
                </a:lnTo>
                <a:arcTo wR="21600" hR="6671" stAng="10800000" swAng="-2468308"/>
                <a:lnTo>
                  <a:pt x="14400" y="21218"/>
                </a:lnTo>
                <a:lnTo>
                  <a:pt x="21600" y="16391"/>
                </a:lnTo>
                <a:lnTo>
                  <a:pt x="14400" y="10800"/>
                </a:lnTo>
                <a:lnTo>
                  <a:pt x="14400" y="12960"/>
                </a:lnTo>
                <a:arcTo wR="21600" hR="6671" stAng="8331692" swAng="1927237"/>
                <a:lnTo>
                  <a:pt x="2388" y="9720"/>
                </a:lnTo>
                <a:arcTo wR="21600" hR="6671" stAng="-10258929" swAng="4858929"/>
                <a:close/>
              </a:path>
              <a:path fill="darkenLess" w="21600" h="21600">
                <a:moveTo>
                  <a:pt x="21600" y="0"/>
                </a:moveTo>
                <a:arcTo wR="21600" hR="6671" stAng="-5400000" swAng="-5400000"/>
                <a:lnTo>
                  <a:pt x="0" y="6671"/>
                </a:lnTo>
                <a:arcTo wR="21600" hR="6671" stAng="10800000" swAng="-541071"/>
                <a:lnTo>
                  <a:pt x="2388" y="9720"/>
                </a:lnTo>
                <a:arcTo wR="21600" hR="6671" stAng="-10258929" swAng="4858929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66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76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icoletta Calzolari</dc:creator>
  <dc:description/>
  <dc:language>en-US</dc:language>
  <cp:lastModifiedBy>Nicoletta Calzolari</cp:lastModifiedBy>
  <dcterms:modified xsi:type="dcterms:W3CDTF">2002-12-01T08:42:48Z</dcterms:modified>
  <cp:revision>42</cp:revision>
  <dc:subject/>
  <dc:title>Standards and best practice for multilingual computational lexicons:   ISLE MILE …. and more</dc:title>
</cp:coreProperties>
</file>