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he Suggested Upper Merged Ontology (SUMO) and its us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 Linguistic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3 December 2002</a:t>
            </a:r>
            <a:endParaRPr b="0" lang="en-US" sz="21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Adam Pease</a:t>
            </a:r>
            <a:endParaRPr b="0" lang="en-US" sz="21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apease@ks.teknowledge.com</a:t>
            </a:r>
            <a:endParaRPr b="0" lang="en-US" sz="21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http://ontology.teknowledge.com</a:t>
            </a:r>
            <a:endParaRPr b="0" lang="en-US" sz="21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Mapping Example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00008864 03 n 03 plant 0 flora 0 plant_life 0 . . . | a living organism lacking the power of locomotion &amp;%Plant=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00048640 04 n 01 insider_trading 0 001 @ 00047814 n 0000 | buying or selling corporate stock by a corporate officer or other insider &amp;%FinancialTransaction+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  <a:ea typeface="Times New Roman"/>
              </a:rPr>
              <a:t>00821498 04 n 01 Actium 0 002 @ 00614512 n 0000 #p 06449758 n 0000 | naval battle where Antony and Cleopatra were defeated by Octavian's fleet under Agrippa in 31 BC &amp;%Battle@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Mapping Rational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acilitate uses of the SUMO by those who lack extensive training in logic and mathema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llows the SUMO to be used automatically by applications that process free tex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ompleteness check on SUMO cont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Validation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esting the SUMO with a state of the art theorem-prover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Redundancy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Contradiction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Performance testi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Various caching strategie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Domain Specific Ontologie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ir force planning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Finance and investmen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Real Estate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Terrain feature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Computers and Networks (Quality of Service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rmy planning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ECommerce service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Ontologies developed outside Teknowledge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Biological viruses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Intellectual property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Linguistic elements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imple Language Generation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erm translation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Relation template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Use C-like printf statement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Result is awkward but usually grammatica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Preserves deep meani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English (Sevcenko), German (Wulf), Czech (Sevcenko), Italian (Ulivieri &amp; Molino)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Hindi, Tagalog, Russian in progres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eneration Example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ater – Acqua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(material Water AtlanticOcean)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%2 is %n &amp;%made of %1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%2 è %n &amp;%fatto di %1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tlanticOcean is made of Water.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tlanticOcean è fatto di Acqua.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Participat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reate a domain specific ontology, subclassed from SUMO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Elaborate SUMO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Many Process types just have taxonomic info and comments – the comments need to be axiomatized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ritique SUMO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pecialize SUMO to cover more low-level WordNet term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nd Here or Some Detail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patial Relation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5392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11320" indent="-2113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Disconnected, partially overlapping, externally connected, equal, tangential proper part, non-tangential proper part, tangential proper part inverse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marL="211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marL="211320" indent="-2113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One region contains another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507240" indent="-168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ondon is in Engl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11320" indent="-2113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Regions overlap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507240" indent="-168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ahara and West Africa overlap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11320" indent="-2113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Two regions are disjoint</a:t>
            </a: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507240" indent="-168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ahara and Gobi deserts do not overlap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11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507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patial Relations                 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216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wo objects with indeterminate boundarie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Many regions (including cities for example) have vague boundarie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3351" t="7501" r="17856" b="3751"/>
          <a:stretch/>
        </p:blipFill>
        <p:spPr>
          <a:xfrm>
            <a:off x="5153040" y="320760"/>
            <a:ext cx="391464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Presentation Overview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SUM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hat is it?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cent Work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ordNet Mapping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hat are they?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hy do we need them?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SUMO Search Too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anslating language to logic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emporal Relation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Enables one to talk about two events without assigning specific times to the endpoint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13AllenRelations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3d” vs “4d” representation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ddressing change and identity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lso called “endurantism vs. perdurantism”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m I the same person I was yesterday?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Yes and no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What are essential parts of my identity?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3d represents things with attributes that may change over time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d represents temporal parts with unchanging attribute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3d vs 4d exampl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Joe loses an arm at a point in time which we'll call "t"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JoeBeforeT, JoeAfterT, JoePartOtherThanHisArmBefore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Before amputation we have both Joe and the part of Joe without his arm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Endurantists also believe that Joe survives the loss of his arm with his identity intact 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fter the amputation we have only a Joe without his arm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Joe is the same as both Joe before the amputation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Joe after the amputation is the same as the spatial part of Joe minus his arm before the amputation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239760" indent="-239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Both can’t be true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miotic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The study of signs and symbol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Important for issues like intellectual property law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n edition of the printed play Hamle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 copy of an edition of Hamle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 performance of Hamle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A performance of Hamlet captured on video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The timeless informational content of the play Hamle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…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ormally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(refers ?OBJECT1 ?OBJECT2)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(represents ?THING ?ENTITY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774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ahoma"/>
              </a:rPr>
              <a:t>(realization ?PROCESS ?PROP)</a:t>
            </a:r>
            <a:endParaRPr b="0" lang="en-US" sz="3100" spc="-1" strike="noStrike">
              <a:solidFill>
                <a:srgbClr val="ffff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774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ahoma"/>
              </a:rPr>
              <a:t>(containsInformation ?OBJECT ?PROP)</a:t>
            </a:r>
            <a:endParaRPr b="0" lang="en-US" sz="31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(subsumesContentInstance ?OBJECT1 ?OBJECT2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(subsumesContentClass ?OBJECT1 ?OBJECT2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(equivalentContentInstance ?OBJECT1 ?OBJECT2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(equivalentContentClass ?OBJECT1 ?OBJECT2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UMO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Incorporates over 50 publicly available sources of high-level ontological conten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May be used without fee for any purpose (including for profit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Refined extensively on the basis of input from SUO mailing list participants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42 publicly released versions (approximately 1,000 concepts, 4000 assertions, and 600 rules so far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What’s in the SUMO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ructural Ontology 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t/Class Theory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Number Hierarchy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Quantities and Units of Measure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Biological Taxonomy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emporal Concept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Mereotopology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4197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UMO Structur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2948760" y="16095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tructural Ontolog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3080" y="2676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Base Ontolog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9520" y="3757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et/Class Theor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94920" y="3757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Numeric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2160" y="37576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Tempo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92840" y="3757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ereotopolog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9" idx="2"/>
            <a:endCxn id="50" idx="0"/>
          </p:cNvCxnSpPr>
          <p:nvPr/>
        </p:nvCxnSpPr>
        <p:spPr>
          <a:xfrm flipH="1">
            <a:off x="4144680" y="1976040"/>
            <a:ext cx="33840" cy="700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0" idx="2"/>
            <a:endCxn id="51" idx="0"/>
          </p:cNvCxnSpPr>
          <p:nvPr/>
        </p:nvCxnSpPr>
        <p:spPr>
          <a:xfrm flipH="1">
            <a:off x="1426680" y="3042720"/>
            <a:ext cx="2718720" cy="715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2" idx="0"/>
          </p:cNvCxnSpPr>
          <p:nvPr/>
        </p:nvCxnSpPr>
        <p:spPr>
          <a:xfrm flipH="1">
            <a:off x="3679560" y="3042720"/>
            <a:ext cx="465840" cy="715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3" idx="0"/>
          </p:cNvCxnSpPr>
          <p:nvPr/>
        </p:nvCxnSpPr>
        <p:spPr>
          <a:xfrm>
            <a:off x="4144680" y="3042720"/>
            <a:ext cx="1354680" cy="715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4" idx="0"/>
          </p:cNvCxnSpPr>
          <p:nvPr/>
        </p:nvCxnSpPr>
        <p:spPr>
          <a:xfrm>
            <a:off x="4145040" y="3042720"/>
            <a:ext cx="3612240" cy="715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476080" y="4734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Grap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34080" y="473400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easu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9920" y="4734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rocess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85000" y="4734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bjec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35680" y="6029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Qualit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2" idx="2"/>
            <a:endCxn id="60" idx="0"/>
          </p:cNvCxnSpPr>
          <p:nvPr/>
        </p:nvCxnSpPr>
        <p:spPr>
          <a:xfrm flipH="1">
            <a:off x="2918520" y="4124160"/>
            <a:ext cx="761400" cy="610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2" idx="2"/>
            <a:endCxn id="61" idx="0"/>
          </p:cNvCxnSpPr>
          <p:nvPr/>
        </p:nvCxnSpPr>
        <p:spPr>
          <a:xfrm>
            <a:off x="3679560" y="4124160"/>
            <a:ext cx="842040" cy="610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3" idx="2"/>
            <a:endCxn id="62" idx="0"/>
          </p:cNvCxnSpPr>
          <p:nvPr/>
        </p:nvCxnSpPr>
        <p:spPr>
          <a:xfrm>
            <a:off x="5498640" y="4124160"/>
            <a:ext cx="723240" cy="610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2"/>
            <a:endCxn id="63" idx="0"/>
          </p:cNvCxnSpPr>
          <p:nvPr/>
        </p:nvCxnSpPr>
        <p:spPr>
          <a:xfrm>
            <a:off x="7756560" y="4124160"/>
            <a:ext cx="551520" cy="610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2" idx="3"/>
            <a:endCxn id="63" idx="1"/>
          </p:cNvCxnSpPr>
          <p:nvPr/>
        </p:nvCxnSpPr>
        <p:spPr>
          <a:xfrm>
            <a:off x="6954840" y="4917600"/>
            <a:ext cx="77400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2" idx="2"/>
            <a:endCxn id="64" idx="0"/>
          </p:cNvCxnSpPr>
          <p:nvPr/>
        </p:nvCxnSpPr>
        <p:spPr>
          <a:xfrm>
            <a:off x="6221160" y="5100480"/>
            <a:ext cx="1221480" cy="929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 flipH="1">
            <a:off x="7441560" y="5100480"/>
            <a:ext cx="865800" cy="929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UMO Source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667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SL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Enterprise Ontology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TBM-CNR ontologie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Unrestricted-Time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Representation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natom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Biologic-Function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Biologic-Substance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topic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meronym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topolog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topo-morpholog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localization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ssessment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tructuring-concept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physical-concept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top-level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ocial-object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Quantitie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ctor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Position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Natural-Kinds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447920"/>
            <a:ext cx="3429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Ontolingua ontologi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component-assemblies - Gruber and Ols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product-ontology - Fik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physical-quantities - Brauch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calar-quantities - Gruber and Ols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unary-scalar-functions - Gruber and Ols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bstract-algebra authored - Genesereth, Gruber and Ols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kif-extension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kif-relation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kif-se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frame-ontology - Mribier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okbc-ontology - Xpetar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tandard Dimensions - U Madrid, Spai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imple-Time - Mribiere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tandard-Units  - Loeser + Pinto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gents - Arnaoudov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KIF-Numbe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1447920"/>
            <a:ext cx="2666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len - temporal ontolog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ease - Core Plan Represent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Borgo, Guarino, and Masolo's - Formal Theory of Physical Object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Casati and Varzi - Theory of Ho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ussell and Norvig - upper ontolog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mith - Formal Theory of Fiat/Bona Fide Boundaries/Object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owa - upper ontolog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tten - Starter KB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Recent Effort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Hundreds of new concepts added on the basis of the WordNet mapping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Hundreds of new axioms added to capture the informal meaning behind the concept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he only complete formal hierarchy of process/event types?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Many refinements made on the basis of comments from the SUO Working Group and from public presentation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Is It Useful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acilitates interoperability between heterogeneous information system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he basis for deep natural language processing systems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Permits rapid development of domain ontologies (e.g. the SUMO-based terrain, finance and distributed computing ontologies)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Mapping SUMO to WordNe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lign noun, verb and adjective database (96,000 synsets) of WordNet 1.6 to SUMO concepts 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subsumingExternalConcep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synonymousExternalConcept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Instance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dverbs done by end of year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22:29:09Z</dcterms:created>
  <dc:creator>Adam Pease</dc:creator>
  <dc:description/>
  <dc:language>en-US</dc:language>
  <cp:lastModifiedBy>apease</cp:lastModifiedBy>
  <cp:lastPrinted>1999-08-18T16:50:08Z</cp:lastPrinted>
  <dcterms:modified xsi:type="dcterms:W3CDTF">2002-12-12T17:49:53Z</dcterms:modified>
  <cp:revision>163</cp:revision>
  <dc:subject/>
  <dc:title>Architecture</dc:title>
</cp:coreProperties>
</file>