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0CC-253D-4F55-B1E9-F83D39946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386-89AB-4FF2-8E9F-6870D44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DEA-84EE-4E17-AD9E-1AE844AC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505-D069-4953-9549-8634D0F8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A5D6-65CF-4B5C-8128-E28083D9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8ABB-047D-4F5A-A541-37C40E77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B954-8612-424F-B9E0-77C6928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C790-803E-4E33-91A3-EE37E761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C1C9-745E-4B68-9145-391377AA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F1DC-771B-4C31-BC91-CEFEA9D8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827D-C6B0-4D6B-AA7D-2990994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D61-F0A9-41C4-8F96-3E34EF90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EBD4-5852-4C24-88C4-528B6307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3882-BD7D-45B1-B303-2FA7D3E2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D301-2734-4972-8017-CB688C58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5901-330E-426E-9796-66F82E7A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E820-EDBB-4B56-A568-0529C694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A3C2-3C5F-4ED6-8966-21535867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5B2-D4C0-41CA-A757-1DDB9E43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A48-6849-418F-8963-D0CBB7B2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76B-4265-44E1-BFFC-E43D62B7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483-02D8-4426-9298-6D6E57A0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77A-8D8D-49B1-910A-620CFBDC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320-94AF-407C-89C1-9F7F82C7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DF2-45F8-4887-95B1-37EA31F81B4D}" type="datetime">
              <a:rPr b="0" lang="zh-TW" sz="1000" spc="-1" strike="noStrike">
                <a:solidFill>
                  <a:srgbClr val="ffffff"/>
                </a:solidFill>
                <a:latin typeface="Arial"/>
                <a:ea typeface="新細明體"/>
              </a:rPr>
              <a:t>115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822-7E8B-442B-B29A-CD21DE51B2C6}" type="slidenum">
              <a:rPr b="0" lang="zh-TW" sz="10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718-8AC2-4BD4-91EF-4F1B3FAE2052}" type="datetime"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115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ahoma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CF49-FF7C-4A0F-96C1-B12481855FC2}" type="slidenum">
              <a:rPr b="0" lang="zh-TW" sz="1000" spc="-1" strike="noStrike">
                <a:solidFill>
                  <a:srgbClr val="ffffff"/>
                </a:solidFill>
                <a:latin typeface="Tahoma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Issues in the Structure of Lexicons: </a:t>
            </a:r>
            <a:br>
              <a:rPr sz="4800"/>
            </a:b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A Multilingual Perspectiv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49240" y="3049200"/>
            <a:ext cx="7467840" cy="27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Chu-Ren Huang, Academia Sin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LE/EAGLES Workshop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cember 3, 200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ILE as a Step towards Sharable Multilingual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22CD-AA9F-4684-88C5-DCF4E0D296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9729222-5F61-4212-888F-6EBEA09720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rthographic Conventions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re Code-Switch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apane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ahoma"/>
              </a:rPr>
              <a:t>-Kanj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ahoma"/>
              </a:rPr>
              <a:t>-Katak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66"/>
                </a:solidFill>
                <a:latin typeface="Tahoma"/>
              </a:rPr>
              <a:t>-Hiraga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F32-B4C1-4E0F-B0D8-FBC47FEA0F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B2C5E-98C6-4210-80B7-964DA5CDA3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de-Switches Plus Code-Mixer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ne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imultaneous loan of word and orthograp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9966"/>
                </a:solidFill>
                <a:latin typeface="Tahoma"/>
              </a:rPr>
              <a:t>IBM, ADS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Loan word adopting loan orthography form a different sour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9966"/>
                </a:solidFill>
                <a:latin typeface="Tahoma"/>
              </a:rPr>
              <a:t>LKK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be old and senile, from Taiwanes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au-ko-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8A1-7197-4758-8EAB-9833F427DF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39829-7D65-46FC-B76B-42FD796410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de-Switches Plus Code-Mix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Code-mixed within an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zh-TW" sz="2800" spc="-1" strike="noStrike">
                <a:solidFill>
                  <a:srgbClr val="ff9966"/>
                </a:solidFill>
                <a:latin typeface="Tahoma"/>
              </a:rPr>
              <a:t>阿</a:t>
            </a: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Q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ypical Chinese who is cynical and fatalistic, from a famous no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K</a:t>
            </a:r>
            <a:r>
              <a:rPr b="1" i="1" lang="zh-TW" sz="2800" spc="-1" strike="noStrike">
                <a:solidFill>
                  <a:srgbClr val="ff9966"/>
                </a:solidFill>
                <a:latin typeface="Tahoma"/>
              </a:rPr>
              <a:t>書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it the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C</a:t>
            </a:r>
            <a:r>
              <a:rPr b="1" i="1" lang="zh-TW" sz="2800" spc="-1" strike="noStrike">
                <a:solidFill>
                  <a:srgbClr val="ff9966"/>
                </a:solidFill>
                <a:latin typeface="Tahoma"/>
              </a:rPr>
              <a:t>罩杯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-cup (as in a 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A</a:t>
            </a:r>
            <a:r>
              <a:rPr b="1" i="1" lang="zh-TW" sz="2800" spc="-1" strike="noStrike">
                <a:solidFill>
                  <a:srgbClr val="ff9966"/>
                </a:solidFill>
                <a:latin typeface="Tahoma"/>
              </a:rPr>
              <a:t>錢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ill-gain money, gained but not ear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zh-TW" sz="2800" spc="-1" strike="noStrike">
                <a:solidFill>
                  <a:srgbClr val="ff9966"/>
                </a:solidFill>
                <a:latin typeface="Tahoma"/>
              </a:rPr>
              <a:t>阿</a:t>
            </a: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Sir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Hong Kong Cantonese) a police offic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664-686A-458A-85DF-096806E692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15793-FBE1-4AB0-A467-5BB05A9CDB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hallen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tion will be lost if one orthography is l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not be represented otherw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graphy encodes significant linguistic inform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nstance, all the code-mixed words are pronounced according to its orthogra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9C4-CA3C-436E-BEA9-EF7DD1BD3D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04B8C-DAEA-4374-874D-7068673122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ggested 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Lexic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thographic conventions in the language must be described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xicon structure conventionalized by the orthograph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alphabetical order – with alphabet sets identified, radical classification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hould be done regardless of the representation adopted in the lexicon (e.g. Pinyin Romanization for Chines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ord/lemma boundaries are marked by the orthograp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2F9-F993-4B37-ABE3-D80149099B0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681EE-BA63-4E62-81D5-66D81763CC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ggested Solution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807920"/>
            <a:ext cx="854064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t Entry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thographic convention will be marked on each entry, including the possibility of code-mixed orthograph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marked default would be the dominant orthography stipulated for the whole lexic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8F3-BDB8-489F-A98B-8FDF5E977B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31351-1657-404E-BEF8-4659E20D8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Tahoma"/>
              </a:rPr>
              <a:t>Directionalit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Multilingual Lexic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2457360"/>
            <a:ext cx="854064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e-entry, multi-lingual record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nked multi mono-lingual entri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806-1CF3-4EC2-A351-3E8E02E565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BA33EE-7075-4CDD-8734-D2C6D5DFB6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maples I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Phoen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eng4huang2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鳳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ird in Egyptian mythology that lived in the desert for 500 years and then consumed itself by fire, later to rise renewed from its ashes. [AHDEL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Feng4huang2</a:t>
            </a:r>
            <a:r>
              <a:rPr b="1" i="1" lang="en-US" sz="28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1" i="1" lang="zh-TW" sz="2800" spc="-1" strike="noStrike">
                <a:solidFill>
                  <a:srgbClr val="ff9966"/>
                </a:solidFill>
                <a:latin typeface="Tahoma"/>
              </a:rPr>
              <a:t>鳳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hoen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ird in Chinese mythology that always showed up in a pair: the mal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eng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the femal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huang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They symbolized love and marital bli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5D3-2000-4206-911E-2B3C7EC136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C5D64-2CDE-4B42-BA2B-DC512EBF6F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axamples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Tahoma"/>
              </a:rPr>
              <a:t>bo2bo5 </a:t>
            </a:r>
            <a:r>
              <a:rPr b="1" i="1" lang="zh-TW" sz="2400" spc="-1" strike="noStrike">
                <a:solidFill>
                  <a:srgbClr val="ff9966"/>
                </a:solidFill>
                <a:latin typeface="Tahoma"/>
              </a:rPr>
              <a:t>伯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c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 elder brother one’s f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Tahoma"/>
              </a:rPr>
              <a:t>shu2shu5 </a:t>
            </a:r>
            <a:r>
              <a:rPr b="1" i="1" lang="zh-TW" sz="2400" spc="-1" strike="noStrike">
                <a:solidFill>
                  <a:srgbClr val="ff9966"/>
                </a:solidFill>
                <a:latin typeface="Tahoma"/>
              </a:rPr>
              <a:t>叔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younger brother of one’s fa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Tahoma"/>
              </a:rPr>
              <a:t>jiu4jiu5 </a:t>
            </a:r>
            <a:r>
              <a:rPr b="1" i="1" lang="zh-TW" sz="2400" spc="-1" strike="noStrike">
                <a:solidFill>
                  <a:srgbClr val="ff9966"/>
                </a:solidFill>
                <a:latin typeface="Tahoma"/>
              </a:rPr>
              <a:t>舅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rother of one’s moth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Tahoma"/>
              </a:rPr>
              <a:t>unc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2bo5 or shu2shu5, or jiu4jiu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3A9-839D-4126-B0CE-8C5B9B6FF4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E6D8C-14FB-48AB-A9CC-D6EA6621EF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ggested 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rectionality must be marked in multilingual lexic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Adopt OLAC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ject.langu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e language being describ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the language used in descri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n English-to-Chinese lexicon, English will be the Subject.Lanuage, and Chinese will be the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786-2C50-4D7B-B9EF-2D71E75A18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5BDF7-80E5-4EE0-B009-2C181CAC61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fining Lexical Entry / Lemm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rthograph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irectionality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ordnet as Linguistic Ontolog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666-5B90-4F74-9895-A81A929E0B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EF185-09DF-45C6-B324-F1DF870185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rther S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st allow categorical mismatches between Language and Subject.language. Hence, must be able to specify categories of both Language and Subject.languag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001-E037-4B5E-BC09-B5A1185910C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743F0-7CCB-4CB0-8892-049A50B3E2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dnet as Linguistic Ont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wordnet like lexicon is the linguistic ontology of a langu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 contains all concepts and conceptually links which are linguistically defined in that langua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889-0EF0-4D62-955D-DC11DB9B03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9751B-C0E1-4EFD-8840-8312F75AB4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ordnet as Linguistic Ontology I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e are defined and differentiated intra-lingu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tology vary from one language to the other language, just like ontology vary form one domain to the other dom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es are organized differently in different langu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lation equivalents are not necessarily synony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988-AF6E-4FED-B7E7-2D7F5FB71DA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C792A-A1A5-4AA0-AE50-738D2E21C2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rdnet as Linguistic Ontology II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intain the integrity of each linguistic ontology, sense (hence synset) must be defined solely based on monolingual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-lingual meaning correspondences are marked by lexical semantic re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uang et al. 2002 SemaNet workshop paper Cross-lingual Inference of Lexical Semantic Relations: A First Step Towards Population of Multilingual Wordn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B80-3676-4C25-BD9D-EEB3A58319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FFF4C-1E64-4FBE-ADA4-8E2D22BF41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66"/>
                </a:solidFill>
                <a:latin typeface="Tahoma"/>
              </a:rPr>
              <a:t>Comments are Welcomed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0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-Ren Hu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en@sinica.edu.tw corpus.ling.sinica.edu.tw/member/churen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B181-A46C-454D-B8AF-99E768989BF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6C296FA-AEC8-4B6D-B564-FC3C185056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sic Notion: </a:t>
            </a:r>
            <a:br>
              <a:rPr sz="4000"/>
            </a:br>
            <a:r>
              <a:rPr b="1" lang="en-US" sz="4000" spc="-1" strike="noStrike">
                <a:solidFill>
                  <a:srgbClr val="ff00ff"/>
                </a:solidFill>
                <a:latin typeface="Tahoma"/>
              </a:rPr>
              <a:t>Lexical Entry / Lemm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952640"/>
            <a:ext cx="854064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mise: The set of</a:t>
            </a:r>
            <a:r>
              <a:rPr b="1" lang="en-US" sz="3600" spc="-1" strike="noStrike">
                <a:solidFill>
                  <a:srgbClr val="ff00ff"/>
                </a:solidFill>
                <a:latin typeface="Tahoma"/>
              </a:rPr>
              <a:t> lemma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in a language is the result of optimal lemmatiz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ypothesis: </a:t>
            </a:r>
            <a:r>
              <a:rPr b="1" lang="en-US" sz="3600" spc="-1" strike="noStrike">
                <a:solidFill>
                  <a:srgbClr val="ff00ff"/>
                </a:solidFill>
                <a:latin typeface="Tahoma"/>
              </a:rPr>
              <a:t>Lemma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re conceptual atoms which are morpho-syntactically autonomou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3C2-B293-4796-8277-0196E6BA9F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5227A-12C8-441D-8BA7-28EE2E0F7E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rds, Stems, Affixes, and Clitics can all be lemm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nglish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be, student, red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-s, -hood, -ness, -er, -i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et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inese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shi4</a:t>
            </a:r>
            <a:r>
              <a:rPr b="0" i="1" lang="zh-TW" sz="3600" spc="-1" strike="noStrike">
                <a:solidFill>
                  <a:srgbClr val="ff9966"/>
                </a:solidFill>
                <a:latin typeface="Tahoma"/>
              </a:rPr>
              <a:t>是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, lao3shi1</a:t>
            </a:r>
            <a:r>
              <a:rPr b="0" i="1" lang="zh-TW" sz="3600" spc="-1" strike="noStrike">
                <a:solidFill>
                  <a:srgbClr val="ff9966"/>
                </a:solidFill>
                <a:latin typeface="Tahoma"/>
              </a:rPr>
              <a:t>老師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, wan2mei3</a:t>
            </a:r>
            <a:r>
              <a:rPr b="0" i="1" lang="zh-TW" sz="3600" spc="-1" strike="noStrike">
                <a:solidFill>
                  <a:srgbClr val="ff9966"/>
                </a:solidFill>
                <a:latin typeface="Tahoma"/>
              </a:rPr>
              <a:t>完美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-zhe3</a:t>
            </a:r>
            <a:r>
              <a:rPr b="0" i="1" lang="zh-TW" sz="3600" spc="-1" strike="noStrike">
                <a:solidFill>
                  <a:srgbClr val="ff9966"/>
                </a:solidFill>
                <a:latin typeface="Tahoma"/>
              </a:rPr>
              <a:t>者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, -li4</a:t>
            </a:r>
            <a:r>
              <a:rPr b="0" i="1" lang="zh-TW" sz="3600" spc="-1" strike="noStrike">
                <a:solidFill>
                  <a:srgbClr val="ff9966"/>
                </a:solidFill>
                <a:latin typeface="Tahoma"/>
              </a:rPr>
              <a:t>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8A0-F4CF-4CC5-BEFD-FF97B37AE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C2B51-28A8-4F2A-9580-E0CD8C021C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Lexical Idiosyncrasies Occur at the </a:t>
            </a:r>
            <a:r>
              <a:rPr b="0" lang="en-US" sz="4000" spc="-1" strike="noStrike">
                <a:solidFill>
                  <a:srgbClr val="ff9966"/>
                </a:solidFill>
                <a:latin typeface="Tahoma"/>
              </a:rPr>
              <a:t>lemma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level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844640"/>
            <a:ext cx="85406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d-dependent languages show morph-phonemic idiosyncrasies at word leve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g. </a:t>
            </a:r>
            <a:r>
              <a:rPr b="0" i="1" lang="en-US" sz="3600" spc="-1" strike="noStrike">
                <a:solidFill>
                  <a:srgbClr val="ff9966"/>
                </a:solidFill>
                <a:latin typeface="Tahoma"/>
              </a:rPr>
              <a:t>was, children, sheep, fought</a:t>
            </a:r>
            <a:r>
              <a:rPr b="0" lang="en-US" sz="3600" spc="-1" strike="noStrike">
                <a:solidFill>
                  <a:srgbClr val="ff9966"/>
                </a:solidFill>
                <a:latin typeface="Tahoma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-dependent language show morpho-phonemic idiosyncrasies at affix (or stem)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D33-E0A9-4C4F-A317-EB29033D78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24E54-7067-4C47-A44A-F8D61FEF6A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plications for MI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87280" y="1700280"/>
            <a:ext cx="854064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ng Lemma: How lemmas defined must be clearly stated for each langu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nguages may have word+affix or stem+affix as their lexical lem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ategory of Affi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0F7-C194-4ADC-918E-C2FD861128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A70F9-0589-4261-8168-9E79187FF6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AFFI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FF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ype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minal, Verbal, Adject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nc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rivational, inflect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ix, affix, inf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ffixes are classified by their selection of the categories of their host. They also differ in whether the category after affixation is determined by the affix or by the hos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F43-AD50-4827-AE2B-37B7E40878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0DB5D-D2F9-4BE9-BF71-DBCCE65933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gmentation as a standard process in defining lemma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8920" y="2276640"/>
            <a:ext cx="854064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 a language where orthography does not conventionalize word breaks, the standard of how lemmas are tokenized must be stat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required for multi-word expressions in languages such as English and 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11E8-08BD-4B6D-B9C0-A7E68BE1EB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B57C0-83C8-4146-B017-278F934A81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sic Notion:</a:t>
            </a:r>
            <a:br>
              <a:rPr sz="4000"/>
            </a:br>
            <a:r>
              <a:rPr b="1" lang="en-US" sz="4000" spc="-1" strike="noStrike">
                <a:solidFill>
                  <a:srgbClr val="ff9966"/>
                </a:solidFill>
                <a:latin typeface="Tahoma"/>
              </a:rPr>
              <a:t>Orthograph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phabetical Order is Orthographic Or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thographic convention also conventionalize lexical struc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f one language conventionalizes and/or tolerates more than one set of Orthograp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u-Ren Huang, Academia Sinic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957-9F28-4012-90F4-3B6054E9C5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9D71F-168B-464E-BAD9-549845C1A9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ren huang</cp:lastModifiedBy>
  <dcterms:modified xsi:type="dcterms:W3CDTF">2002-11-30T19:04:43Z</dcterms:modified>
  <cp:revision>19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5</vt:r8>
  </property>
</Properties>
</file>