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4E5-C8E3-436D-BDB3-E987EEF6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0E2E-5A12-40C8-BBB4-5C225331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E26D-C7F7-4F49-B0FD-B71E17A2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E37F-7A88-406C-9BE6-F781D029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564F-105B-4BE8-8E95-E65DAB49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AFE1-5FAB-4593-9D27-5ADB338C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6BB6-752D-40C7-BE30-C19DF020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119-ED8A-48CB-95D6-F7C71AEB6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015-84EF-4CF2-9C81-83C81C8F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473B-26D4-4327-9987-2F71E3DF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2DD0-90C9-4DA2-898C-E3CEE20B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0CC-BA3E-480D-9224-0835C39C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06B4-D09E-4F8A-9842-14E79B0FA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guality , MWEs, and M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Odij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LE Worksh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sa, 2 December 200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uil_klein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44" name="uu_home_top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012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sitional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le of Compositionality of Trans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expressions are each other's translation if they are built up from parts which are each other's translation, by means of rules which are each other’s trans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ed by tuning Compositional Grammars G1 and G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BE in G1 at least one BE in G2 that is translationally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rule in G1 at least one rule in G2 that is translationally equi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80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sitional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lingual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lingua obtained as a side-effect of tuning compositional grammars (no independent interlingu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lingua expresses translational equiva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1 and B1’ are translations of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the meaning of B1/B1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ed interlingual/transfer systems are possible, e.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lingual fo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for lexical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84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sitional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er for lexical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-pair 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ent on translation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-pair dependent translational equival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simple lexical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xical item -&gt; Lexical i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mplex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nditional trans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ctions on target (creation, modification of structure, introduction of lexical items,etc.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88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Lexical E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itiv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ne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m  { stem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neme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$s_aV_00_inne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ske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m$_aV_0001_inneem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1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mbt. geneesmiddelen”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“swallow”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$_aV_0002_inne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mbt. plaatsruimte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“take up”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$_aV_0003_innee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veroveren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“take”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$_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_0004_inneem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4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binnenhalen”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“bring in”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$_aV_0005_inneem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5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aan boord nemen”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“take on”}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$_aV_0006_inneem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6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inkorten (korter)”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“take up”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$_aV_0007_inneem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7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inkorten (nauwer)”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“take in”}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$_aV_0008_inneem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8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verzamelen”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“collect”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 monolingual morphological and syntactic properties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92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Lexicon En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er for syntactic lexical uni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or more meaning identifiers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k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iers obviate the need to describe the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ed, according to prio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mbiguator for each m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ural language string in source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for interaction with user (autho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96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setta Lexical Entry in M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olingu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e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nU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tribute (6.3.3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e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mU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 (6.3.4.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Orderin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haps an instance of SemFeature (6.3.4.4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separate treatment in core is desi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mbiguato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ambiguator intentionally NOT formal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mmen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ribute too general (6.3.4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tment in core is desi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00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setta Lexical Entry in M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ling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sett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ty of Mkey across languages = translation equival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ty of SemU Ids across languages has no significance (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icit Link must be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an interlinguality be retai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04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ink L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F=Lexicon Interchange Format (Odijk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ual (CSV) representation of lexi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tracts from engine-intern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con is a flat table (set of recor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isti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language lex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language lex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lexi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08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ink L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bilingual, unidirectional trans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-pair and domain-depen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row specifies one translation of a source language head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lingual properties present if needed for trans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12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ink L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mma (source langu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ion (target langu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mma’s 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 relevant to this trans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uces tests on the context of the le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uces actions on the target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ology (inflection code for lem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16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lingual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setta lexicons and 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ink lexicons and 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word expressions (MW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Globa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oset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entative standard for (certain) MW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lu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48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ink L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Attributes (source lemma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ctic selection: TakesDO, Intransitive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antic Type: Animate, Human,Abstract, Country, Place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ctic Subcategories: Proper Name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Attributes (transl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n source le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20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ink LIF and M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LI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LE possib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lit out source language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source language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 syntactic from semantic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SynUs, SemUs, assign the attributes, and link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apse duplicate Syn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target language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Sy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source language SemU directly to target language SynU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24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ink LIF and M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ping MI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IF possibl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ILE entry is fully spec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mapping for individual attributes can be def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robably 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28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ink LIF and M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ink LIF itself no special impor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exemplary of most transfer lexicons of commercial MT system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Comprendium, Logos, Systran, see Thurmair 2001:3-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ce the  relation between MILE and such lexicons should be well-elabo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32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or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MWEs dealt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MWEs (Roset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-flexible MWEs (Globali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 MWEs (Roset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of MWEs NOT dealt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verb co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36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-word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WEs are used to deal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WEs from a monolingual 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WEs needed for translational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Rosetta all dealt with monolingu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sequences for mapping to interlin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within tuned gramm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40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ed MWEs (Rosett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MW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of the MWE in a fixed or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variation in lexical item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contiguous (no other elements in betwe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nflectional processes except at the e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44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ed MWEs (Rosett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xed MW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 hoc, stante pede, ter plaat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ng Kong, Kuala Lumpur, New York, San Franc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redit card, travel agency, real estate a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ther-in-law (cf. mothe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in-law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plaats van (cf. in plaat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(‘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rta telefonica (cf. cart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efonic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 plaat poetsen (‘polish the plate’, ‘bolt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ij heeft gister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 plaat gepoet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mdat hij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 plaa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wild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e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ij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ets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istere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de pl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48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xed MWEs (Rosett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MW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alt with by mapping sequence of strings to a single lexical i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ation in lexic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any other lexical entry, 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an underscore between individual word st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52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Flexible MW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-Flexible MWEs (Globalin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WEs with fixed order of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are impenetrable for other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s can be infl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56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tion in IS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half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employee of L&amp;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tion stopp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ipation since October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employee of Utrecht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52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Flexible MW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use of represent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mbre des représen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atas fri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nch f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ôm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employed pers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f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se au point automat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ue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ur analog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60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Flexible MW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ove-st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lus h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id-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stant aux ac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s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ade en alt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64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Flexible MW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ed in the lexicon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ying the he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separate attrib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: bol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ing inflecting words with 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lecting words in bas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68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Flexible MW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ou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of represent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mb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des représent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t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frito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n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employe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s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se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u point automatique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72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724280" y="1981080"/>
            <a:ext cx="4114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ogu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uter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culateur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alogique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lus ha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st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aux ac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lade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n alt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MWEs (Rosett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xible MW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ful method, allows for MWEs th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or require inflection in multiple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permutations of subphr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 intrusion by other phr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controlled variation (bound pronou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77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MWEs (Rosett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le MW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elfstandig naamwoord  (‘noun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zelfstandig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naamwoord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rta telefonica (‘telephone card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rt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elefonic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 plaat poetsen (‘bolt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ij heeft gisteren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 plaat gepoet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mdat hij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e plaa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wild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et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ij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oets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isteren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de pla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lose one’s tem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e los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i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em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e lost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er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em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81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MWEs (Rosett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E is assigned a normal syntactic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Rosetta: a derivation tree (D-tre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 surface tree (S-tre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too instable during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too complex (many attribu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kes it difficult to represent variable parts of the M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participation in normal grammatical pro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is assigned to a canonical 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85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MWEs (Rosett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ing sentence transformed into canonical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modifiers rem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uments local to their pred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thesis alternations norm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ctic selectional properties checked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d whether it is an M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89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MWEs (Rosett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ng whether it is an M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de the analysis by the MWEs  D-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ccessful, and the arguments  are also correctly analyzed: extend the sentence’s D-tree with an MWE `start rule’ dominating a BE (for the MWE) and the D-trees for the arg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93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MWEs (Rosett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 the MWE Start Rules, and use the MWE’s D-tree to generate an S-tree with the MWE in i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197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standards for L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want to use your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ant to use m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 interchange format is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ferably just 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that we share hence reduce effort/co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56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MWEs (Rosett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lexical entri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$s_aV_00_ga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&lt; $s_prep1286400 $s_aN_00_fles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ys of MWE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vpid87]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WE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s_id_opdeflesgaan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WE s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m_id_opdeflesgaan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WE m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illiet gaan”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WE meaning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$s_prep1286700 $s_aN_00_pijp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eys of MWE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vpid30]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WE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s_id_depijpuitgaan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WE s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m_id_depijpuitgaan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WE m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od gaan”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WE meaning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01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MWEs (Rosett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quence of skeys for MWE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WE pattern (vpid87, vpid30) identifier for the MWE D-tree modulo the terminal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ey for the idi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key for each of the meanings of the idi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ning description for each of the meanings of the idi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05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MWEs (Rosett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-tree for vpid30 (simplified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ubst,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VP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$aV_00_ga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P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$s_prep1286700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_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Pdef [$aV_00_pijp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09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exible MWEs (Rosett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nents of MWE are represented by skeys, not by strings such as base forms, lemma’s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in sequence of skeys is crucial and highly grammar-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a op fles, Ga uit pij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ce in skey sequence is highly grammar depe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te articles are introduced syncategore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13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for MW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flexible MWEs every system nee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of the M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que identification of MWE 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the MWE components in a way compatible with the MWE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17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for MW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we standard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of the MW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for uniquely identifying MWE-compone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WE-component l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21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for MW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ing MWE Structure? N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y Theory-depen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ly implementation-depen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 to create without a suppor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, detailed, unstable—cannot be maintai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25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for MW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ing method of uniquely identifying MWE-components? N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the existence of a fully standardized lexi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pted by the R&amp;D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ble in well-defined 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ed and regularly upd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29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for MW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ize MWE-component listing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haps a de facto standard per language can gr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33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for MW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if there are standardized MWE structures—how will they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p standard structure to theory/implementation-specific struc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manual inter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one most reliably and e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by directly mapping by h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selecting an analysis generated by the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37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olingual p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d in D2.2+D2.3 (Version 1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(slightly modified) Simple / Parole / Genelex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 with RDF Schema is as yet in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60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for MW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-off to slightly weaker 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require description of MWE structures, b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which MWEs have the same struct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ce classes of MW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41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for MW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 for a standard for MW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WE description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base forms of all MW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order, but applied consistently for each 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E pattern (identifi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r for MWE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to define the equivalence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sentence containing the M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sentence structure for each MWE of the same equivalence cla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45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for MW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 for a standard for MW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WE pattern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E pattern 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sentence of one of the MWEs of this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iched with markings to indic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s of the M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ed variable elements of the M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 (free tex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49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for MW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al for a standard for MW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pijp uit gaan;MWEp1;Hij is de pijp uit ge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boot in gaan;MWEp1;Hij is de boot in ge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t schip in gaan;MWEp1;Hij is het schip in gega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WE pattern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Ep1;Hij* is de pijp uit gegaan; no re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53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for MW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use the standard to extend the lexicon for system X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part, once for each MWE pattern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se the sentence of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parse structure to determine the MWE structure: define a transformation to turn the parse tree into MWE 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parse structure to determine the lexical items to b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parse structure to define a transformation to remove lexical items and/or to reorder th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this transformation and make sure that the base form of each lexical item equals the corresponding element on the transformed base form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57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for MW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the standard to extend the lexicon for system 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part, once for each MWE patte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D-tree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ete Rdecl, Rperf, Rsubj(j), RNP[$hij_Pro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3 4 =&gt; 4 3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 form(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aV_00_ga)= “gaa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form($aN_00_pijp) = “pij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form(Sprep1286700)=“uit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61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for MW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decl[Rpe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subst(j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s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subst(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1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RVP[$aV_00_g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1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P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1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$s_prep1286700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1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_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1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1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1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Pdef [$aV_00_pijp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1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1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_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1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1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P[$hij_PRO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1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1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71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65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for MW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 part, for each equivalence class me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 MWE example sentence of the same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parse tree that transforms into the idiom structure modulo the lexical i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the skeys from the parse tree, in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 transformation to the MWE compone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 that the base form of each skey equals the corresponding element on the transformed MWE compone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69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for MW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Problems/Objectio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WE pattern defin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 sentence does not yield a pa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 sentence yields multiple par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tern corresponds to 2 or more different structures in my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l MW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ence does not yield a pa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tence yields multiple par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e skeys result for the same base f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73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ndards for MW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ory-neutral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eed for prescribing syntactic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it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re are not too many different MWE patterns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fficient number of instantiations per equivalenc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a de facto standard for MWE component listing per language will gr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the equivalence class definition alone will already be help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77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lingual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documents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ations, questions, architectural design issues, design requirements and desiderata, strategy, recommendations, methodology (Grishman, Bertagn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t al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alzolar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from existing multilingual dictionaries, models, and MT transfer dictionaries (Villegas, D2.1-D3.1, Thurmair, Takenobu, Zaj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ool that, given a DTD, operates on SGML docs to create an RDB for multilingual lexicons and a user interface to it (Bel&amp;Villeg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64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ling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interlingual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bout “direct” transfer system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W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ntative Proposal for a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supplemented by approach for support verb co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81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dijk, J. (2000), Multilingual Lexicons, ISLE meeting 13 April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setta, M.T. (1994), Compositional Translation, Klu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nk, A. (1994),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rmair, G. (2001), Multilingual Dictionaries: Transfer Part, ISLE Me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285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crete Proposal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olidated set of recommendations or guideli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yet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68" name="uu_home_top" descr=""/>
          <p:cNvPicPr/>
          <p:nvPr/>
        </p:nvPicPr>
        <p:blipFill>
          <a:blip r:embed="rId2"/>
          <a:stretch/>
        </p:blipFill>
        <p:spPr>
          <a:xfrm>
            <a:off x="685800" y="12240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setta Approach and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arch Prototype M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tch, English,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ed at Philips Research L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sitional Translation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xicons based on Van Dale Contemporary Bilingual Lexic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ed up, further formalized, adapted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ble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72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sitional Trans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sitionality of M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rammars are organised in such a way that the meaning of an expression is a function of the meaning of its parts and the way they are combi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ed by Compositional Gramm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Expressions (BE), with a mea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, with a meaning  (recursively applicab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loguil_klein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2136600" cy="868320"/>
          </a:xfrm>
          <a:prstGeom prst="rect">
            <a:avLst/>
          </a:prstGeom>
          <a:ln w="0">
            <a:noFill/>
          </a:ln>
        </p:spPr>
      </p:pic>
      <p:pic>
        <p:nvPicPr>
          <p:cNvPr id="76" name="uu_home_top" descr=""/>
          <p:cNvPicPr/>
          <p:nvPr/>
        </p:nvPicPr>
        <p:blipFill>
          <a:blip r:embed="rId2"/>
          <a:stretch/>
        </p:blipFill>
        <p:spPr>
          <a:xfrm>
            <a:off x="685800" y="0"/>
            <a:ext cx="819144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4T14:56:10Z</dcterms:created>
  <dc:creator>jodijk</dc:creator>
  <dc:description/>
  <dc:language>en-US</dc:language>
  <cp:lastModifiedBy>jodijk</cp:lastModifiedBy>
  <dcterms:modified xsi:type="dcterms:W3CDTF">2002-12-02T12:26:18Z</dcterms:modified>
  <cp:revision>62</cp:revision>
  <dc:subject/>
  <dc:title>PowerPoint Presentation</dc:title>
</cp:coreProperties>
</file>