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2803-82F9-4528-BB3B-6A3182EE8F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t with elements from standards and obeserved lexic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C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lization of objects as attribute clusters. Comparison on the basis of a.o. attribute sh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BCDC-21AE-4CD7-BF2C-1375AEED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D86-5FE8-4B04-A6C5-7E2CBD70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BF6-47D0-483C-895E-71E55B92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DFB6-44AB-473F-935D-F5BCEB53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DA92-91A4-49C9-9E73-2B4BE036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245-80A0-499A-87A7-E21F58CF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328-B421-46C9-8C4D-E36A92CC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CEB-A74F-4300-9747-624FE182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C69-9146-41A6-9242-5D5ED233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58E-8D8E-4C00-A597-C50311BB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7A4-84C0-4F97-B221-922C2DE4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175-C9BB-48B8-B5B7-D91D8839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B0CF-4940-4CE9-A3A0-230AD641DB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Metadata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m Pet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of Computer Scie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Sheffiel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w.peters@dcs.shef.ac.u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rest_white" descr=""/>
          <p:cNvPicPr/>
          <p:nvPr/>
        </p:nvPicPr>
        <p:blipFill>
          <a:blip r:embed="rId1"/>
          <a:stretch/>
        </p:blipFill>
        <p:spPr>
          <a:xfrm>
            <a:off x="4038480" y="4800600"/>
            <a:ext cx="1000080" cy="12002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02720" y="5992920"/>
            <a:ext cx="1182600" cy="786600"/>
            <a:chOff x="7902720" y="5992920"/>
            <a:chExt cx="1182600" cy="78660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02720" y="5992920"/>
              <a:ext cx="11826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902720" y="6442200"/>
              <a:ext cx="1182600" cy="337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M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xt Encoding Initiative (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T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en Lexicon Interchange Format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LI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-Readable Terminology Interchange Forma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RTI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902720" y="5992920"/>
            <a:ext cx="1182600" cy="786600"/>
            <a:chOff x="7902720" y="5992920"/>
            <a:chExt cx="1182600" cy="78660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7902720" y="5992920"/>
              <a:ext cx="11826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902720" y="6442200"/>
              <a:ext cx="1182600" cy="337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M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ndable, e.g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anslation, register,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n-exhaus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exible:  more specific metadata can be added in RDF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p-down with incremental refinement to required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ables resource discovery, management and comparison at high level of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902720" y="5992920"/>
            <a:ext cx="1182600" cy="786600"/>
            <a:chOff x="7902720" y="5992920"/>
            <a:chExt cx="1182600" cy="7866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7902720" y="5992920"/>
              <a:ext cx="11826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902720" y="6442200"/>
              <a:ext cx="1182600" cy="337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M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152280"/>
            <a:ext cx="8458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808080"/>
                </a:solidFill>
                <a:latin typeface="Times New Roman"/>
              </a:rPr>
              <a:t>The </a:t>
            </a:r>
            <a:r>
              <a:rPr b="0" i="1" lang="en-GB" sz="2000" spc="-1" strike="noStrike">
                <a:solidFill>
                  <a:srgbClr val="808080"/>
                </a:solidFill>
                <a:latin typeface="Times New Roman"/>
              </a:rPr>
              <a:t>creation of </a:t>
            </a:r>
            <a:r>
              <a:rPr b="0" i="1" lang="en-US" sz="2000" spc="-1" strike="noStrike">
                <a:solidFill>
                  <a:srgbClr val="808080"/>
                </a:solidFill>
                <a:latin typeface="Times New Roman"/>
              </a:rPr>
              <a:t>Web </a:t>
            </a:r>
            <a:r>
              <a:rPr b="0" i="1" lang="en-GB" sz="2000" spc="-1" strike="noStrike">
                <a:solidFill>
                  <a:srgbClr val="808080"/>
                </a:solidFill>
                <a:latin typeface="Times New Roman"/>
              </a:rPr>
              <a:t>accessible content: The computer can learn enough about data and relations between data elements in order to be able</a:t>
            </a:r>
            <a:r>
              <a:rPr b="0" i="1" lang="en-US" sz="2000" spc="-1" strike="noStrike">
                <a:solidFill>
                  <a:srgbClr val="808080"/>
                </a:solidFill>
                <a:latin typeface="Times New Roman"/>
              </a:rPr>
              <a:t> to process it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-understandable lexical information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nterope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ve and distributed develop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aintenance of lexic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/create/maintain/acquire/access large lexical repositor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902720" y="5992920"/>
            <a:ext cx="1182600" cy="786600"/>
            <a:chOff x="7902720" y="5992920"/>
            <a:chExt cx="1182600" cy="78660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7902720" y="5992920"/>
              <a:ext cx="11826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902720" y="6442200"/>
              <a:ext cx="1182600" cy="337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M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 between MILE and IM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rtho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uctural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2743200"/>
            <a:ext cx="1214280" cy="1214280"/>
          </a:xfrm>
          <a:prstGeom prst="cube">
            <a:avLst>
              <a:gd name="adj" fmla="val 25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2666880"/>
            <a:ext cx="1214280" cy="1214640"/>
          </a:xfrm>
          <a:prstGeom prst="cube">
            <a:avLst>
              <a:gd name="adj" fmla="val 25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3276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51240" y="2479680"/>
            <a:ext cx="12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s 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4952880"/>
            <a:ext cx="1214640" cy="12146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4952880"/>
            <a:ext cx="1214280" cy="12146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5486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4572000"/>
            <a:ext cx="123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lass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2040" y="228600"/>
            <a:ext cx="753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xt ste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wards an Open and Distributed Lexical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680" y="1235160"/>
            <a:ext cx="8640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we capture lexicon content and structure in a uniform w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imposing complex standar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cc33"/>
                </a:solidFill>
                <a:latin typeface="Times New Roman"/>
              </a:rPr>
              <a:t>Abstract Lexic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ing element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e set of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noni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ilding block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 lexical objects/data categor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xical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onical relations between objects or elements of obj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ance: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&lt;super class/subcla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ord 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&lt;derived from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em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&lt;synonym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eadw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&lt;morphologically_composed_of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2280" y="2228760"/>
            <a:ext cx="8120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ad discussi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determine core set of data 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tegration of metadat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ives such as ISLE 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L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 of canonical set of relations between ALM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 of linking relations between resource specific units of descri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ALM ob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malization of the resource-specific dependencies betw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ALM elements inv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tstrap the process with a number of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 gain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mental integration of theory and terminology across areas of linguistic R&amp;D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tom-up specification of standard depend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ssible tree structures, most common pract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merg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.e. user and resource driven standardization of linguistic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ing data compatibility enables interoperability and interchange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ability of new data categories ensures user autonomy and descriptive flex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ources can be accessed and sold in a flexibl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ources can be compared and evaluated on the basis of the ALM and a specification of the resource-specific dependencies between the ALM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O/TC37/SC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orking towards standards for terminology and other language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fied principles and methods for terminological/lexical data mod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152280"/>
            <a:ext cx="76201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wo approaches to the creation of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p-down with incremental refinement to required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ables search, comparison and management at minimal level of specif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art with resource-specific attributes/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ximum level of resource-based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uild up generalizations over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ables interoperability and reusability of different lexic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902720" y="5992920"/>
            <a:ext cx="1182600" cy="786600"/>
            <a:chOff x="7902720" y="5992920"/>
            <a:chExt cx="1182600" cy="78660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7902720" y="5992920"/>
              <a:ext cx="11826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902720" y="6442200"/>
              <a:ext cx="1182600" cy="337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M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-524196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DI Lexicon Internal Metadat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066680"/>
            <a:ext cx="914400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dalit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s which mode of communication is captured in the lexicon. Possible values ar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po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rit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adword typ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on of the linguistic nature of the entry in the lexicon. Possible values ar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nt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r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ord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mm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 conforming to the unmarked wordform (e.g. infinitive for verb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stract Lemm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 not conforming to any wordform of the group subsumed by the lemm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em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f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thography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values ar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yphenated Spel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llabified Spel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pelling Variants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graphic variations with or without preferred spelling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t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rphology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values ar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em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or surface 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em Allomorphy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tions at stem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gmentation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into morphological constituents such as affix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duction rules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ing the production of surfaec forms on the basis of 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olog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classification of entries or morphological ent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rphosyntax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values ar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rt of Speec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ctic class of the ent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lec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inflectional or conjugation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untability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ralization proper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radability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djectival comparative/superlative constr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ender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ne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olog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classification of e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ardization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tadata: data abou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uctured descriptions of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blin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en Language Archive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PEG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le Meta Data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902720" y="5992920"/>
            <a:ext cx="1182600" cy="786600"/>
            <a:chOff x="7902720" y="5992920"/>
            <a:chExt cx="1182600" cy="78660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7902720" y="5992920"/>
              <a:ext cx="11826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902720" y="6442200"/>
              <a:ext cx="1182600" cy="337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M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DI Lexicon Internal Metadat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621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ntax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values ar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plementa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ctic subcategor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terna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complementation patter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ification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djectival modification patter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hallow Parsing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ation into chun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ep Pars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er grained analysis below chunk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unctional Pars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ctic functions such as su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locations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juxtaposed entries/wordfor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ology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classification, e.g. prepositional/phrasal ve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nology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values ar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nscrip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type of phonetic/phonological transcri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A Transcrip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cription in International Phonetic Alphab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 patter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cription in terms of consonant-vocal combin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stituent Structu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ation in to phonetic constitu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ona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 marking, constituent length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mantics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values ar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nse distinction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semy and/or homony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tological classification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concepts and conceptual rel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loss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l description of the sense in natural langu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finition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 description of the sense e.g. as a 1st order logic formu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notation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denotational information such as pejor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diom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iosyncratic 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ponential Features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 or list containing a finite set of meaning attribu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ross-referen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 to other entries/wordfor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mantic relations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 between entries or associated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ference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ation of the arguments in the semantic predic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ymolog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about the historical context (morphological, phonological, syntactic, semantic) of a lexical entry or wordfor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sage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gmatic/sociolinguistic information;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values ar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gion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dial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yle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la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equency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us-derived frequency of occur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680" y="325440"/>
            <a:ext cx="73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MDI for Lexica - General IMDI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r multimodal corpora and lexi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902720" y="5992920"/>
            <a:ext cx="1182600" cy="786600"/>
            <a:chOff x="7902720" y="5992920"/>
            <a:chExt cx="1182600" cy="78660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7902720" y="5992920"/>
              <a:ext cx="11826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902720" y="6442200"/>
              <a:ext cx="1182600" cy="337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M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95920" y="1905120"/>
            <a:ext cx="8699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General Info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Name, Date, Creator, Project, et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ntent Info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Languages, Genre, Modality, Lexical Entry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articipants Info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formation about various agent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Media File Info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ypical info describing media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nnotation File Info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ypical info describing 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5680" y="174600"/>
            <a:ext cx="55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MDI for Lexicons - General Object Level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6560" y="1033560"/>
            <a:ext cx="6359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Administrative Inf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f possible conform to other resour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at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catio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ject (Name, ID,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ontac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Descriptio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902720" y="5992920"/>
            <a:ext cx="1182600" cy="786600"/>
            <a:chOff x="7902720" y="5992920"/>
            <a:chExt cx="1182600" cy="7866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7902720" y="5992920"/>
              <a:ext cx="11826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02720" y="6442200"/>
              <a:ext cx="1182600" cy="337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M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-187920" y="3581280"/>
            <a:ext cx="871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Content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anguage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Descriptio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Languag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+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bject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re/Domai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.g. kinship word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ubjec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opic of resou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odalit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ritten/speech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sture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ask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.g. 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DI Lexicon Internal Metadat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596880"/>
            <a:ext cx="777240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adword ty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on of the linguistic nature of the entry in the lexicon. Possible values 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nt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r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ord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mm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 conforming to the unmarked word form (e.g. infinitive for verb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stract Lemm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 not conforming to any word form of the group subsumed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m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em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 form minus inflectional features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ffix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thography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values 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yphenated Spe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llabified Spe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pelling Variants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graphic variations with or without preferred spelling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902720" y="5992920"/>
            <a:ext cx="1182600" cy="786600"/>
            <a:chOff x="7902720" y="5992920"/>
            <a:chExt cx="1182600" cy="7866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7902720" y="5992920"/>
              <a:ext cx="11826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902720" y="6442200"/>
              <a:ext cx="1182600" cy="337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M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DI Lexicon Internal Metadat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905120"/>
            <a:ext cx="769608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rphology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values 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em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or surface 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em Allomorphy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tions at stem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gmentation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into morphological constituents such as affix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duction rules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ing the production of surface forms on the basis of 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olog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classification of entries or morphological ent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rphosyntax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values 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rt of Speec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ctic class of the en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le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inflectional or conjugational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untability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ralization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radability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djectival comparative/superlative co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ender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ne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olog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classification of e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902720" y="5992920"/>
            <a:ext cx="1182600" cy="786600"/>
            <a:chOff x="7902720" y="5992920"/>
            <a:chExt cx="1182600" cy="78660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7902720" y="5992920"/>
              <a:ext cx="11826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7902720" y="6442200"/>
              <a:ext cx="1182600" cy="337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M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DI Lexicon Internal Metadat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219320"/>
            <a:ext cx="784872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ntax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values 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plement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ctic subcatego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tern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complementation patte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ification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djectival modification patte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hallow Parsing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ation into chu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ep Pars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er grained analysis below chunk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unctional Pars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ctic functions such as su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locations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juxtaposed entries/word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ology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classification, e.g. prepositional/phrasal ve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nology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values 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nscrip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type of phonetic/phonological tran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A Transcrip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cription in International Phonetic Alphab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 patter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cription in terms of consonant-vocal combin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stituent Structu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ation in to phonetic constitu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on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 marking, constituent length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902720" y="5992920"/>
            <a:ext cx="1182600" cy="786600"/>
            <a:chOff x="7902720" y="5992920"/>
            <a:chExt cx="1182600" cy="786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902720" y="5992920"/>
              <a:ext cx="11826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902720" y="6442200"/>
              <a:ext cx="1182600" cy="337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M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DI Lexicon Internal Metadata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09480"/>
            <a:ext cx="8839080" cy="64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mantics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values 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nse distinction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semy and/or homony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tological classification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concepts and conceptual re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loss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l description of the sense in natural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finition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 description of the sense e.g. as a 1st order logic formu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notation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denotational information such as pejor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diom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iosyncratic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ponential Features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 or list containing a finite set of meaning 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ross-referenc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 to other entries/word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mantic relations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 between entries or associated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ference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ation of the arguments in the semantic pred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ymolog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about the historical context (morphological, phonological, syntactic, semantic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 lexical entry or word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sage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gmatic/sociolinguistic information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values 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gion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dia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yle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l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equency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us-derived frequency of occur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902720" y="5992920"/>
            <a:ext cx="1182600" cy="786600"/>
            <a:chOff x="7902720" y="5992920"/>
            <a:chExt cx="1182600" cy="7866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7902720" y="5992920"/>
              <a:ext cx="11826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902720" y="6442200"/>
              <a:ext cx="1182600" cy="337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M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per diction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chine readable dictionaries (Ldoce, C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xical knowledge bases (Celex, Comlex, Parole, Si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sauri (WordNet, EuroWord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eld linguistics lexicons/ endangered languages (Dob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902720" y="5992920"/>
            <a:ext cx="1182600" cy="786600"/>
            <a:chOff x="7902720" y="5992920"/>
            <a:chExt cx="1182600" cy="78660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7902720" y="5992920"/>
              <a:ext cx="11826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902720" y="6442200"/>
              <a:ext cx="1182600" cy="337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M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7:15:41Z</dcterms:created>
  <dc:creator>wim peters</dc:creator>
  <dc:description/>
  <dc:language>en-US</dc:language>
  <cp:lastModifiedBy>user1</cp:lastModifiedBy>
  <dcterms:modified xsi:type="dcterms:W3CDTF">2002-12-01T22:59:14Z</dcterms:modified>
  <cp:revision>39</cp:revision>
  <dc:subject/>
  <dc:title>IMDI Lexicon Internal Metadata</dc:title>
</cp:coreProperties>
</file>