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CEC0-BE14-4B7B-B141-F111762DF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do we want to note this in entry (for pseudo-EBMT)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C2F-84B8-4383-A179-04BCD142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720B-C80E-4C35-855C-D7C4351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2CA8-BFB7-4406-B6C6-D96E270D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554-6BD0-4AFE-A9A4-3A802509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D3A-4228-4B4C-955A-0A7061B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BEDE-674B-494C-96B5-B51714D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B570-5DC6-44C6-9D43-BB14EF98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2633-552B-4697-9173-32E8EB2C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81CC-A989-410D-A21C-04BB85D2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3D1-456A-41C9-A5D1-58F97305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51EF-D6D8-4601-B453-B6DCD961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9AE4-D613-4E02-B6FF-DF4B6D1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7309-92FD-489B-8336-5C7E90A1C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42B5-B4D3-40F2-8DA6-26D4CA3FF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228600" y="152280"/>
            <a:ext cx="421920" cy="990360"/>
            <a:chOff x="228600" y="152280"/>
            <a:chExt cx="421920" cy="990360"/>
          </a:xfrm>
        </p:grpSpPr>
        <p:pic>
          <p:nvPicPr>
            <p:cNvPr id="11" name="" descr=""/>
            <p:cNvPicPr/>
            <p:nvPr/>
          </p:nvPicPr>
          <p:blipFill>
            <a:blip r:embed="rId2"/>
            <a:stretch/>
          </p:blipFill>
          <p:spPr>
            <a:xfrm>
              <a:off x="228600" y="152280"/>
              <a:ext cx="421920" cy="74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"/>
            <p:cNvSpPr/>
            <p:nvPr/>
          </p:nvSpPr>
          <p:spPr>
            <a:xfrm>
              <a:off x="274320" y="922320"/>
              <a:ext cx="284400" cy="22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cc"/>
                  </a:solidFill>
                  <a:latin typeface="Arial"/>
                </a:rPr>
                <a:t>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990720" y="1676520"/>
            <a:ext cx="7061040" cy="8568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MIL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th Reeves, Alessandra Trecci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alph Grish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York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WEs in monolingual lexic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repres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nstructu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, as a sequence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composition or complex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only for frozen (non-productive)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uctu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complex self or a 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with lexical constraints on individual pos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productive col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ultilingual layer is relatively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WEs in multilingua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re are no corresponding monolingual MWE’s, a multi-word source/target can be captu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a lexical constraint on a position, if the position is already present as an argument in the monolingual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Pos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positions not present in the monolingual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itable for productive col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ocation, idiom, what does it mat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xicographer’s dilem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idiom is the responsibility of monolingual lexic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llocation requires no special treat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expression’s status idiomatic or collocational is a property of the source language; therefore any strategy taken for translation purposes ought not to alter the status it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translator’s work is never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e vast differences in the world’s languages, it is much more likely that every language pair will require different sets of strategies, including adjustments to the mono-lingual lexic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lator’s guide might be stated: whenever possible, avoid adjustment to the mono-lingual lex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ocations vs Idioms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umb-nail 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mposable:  individual lexical members are independently defin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ive: apply to a (limited) range of   arguments: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ability: lexical items form modifiable constituents; e.g. adjectives and possessives can interv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for argument mapping (only a translator would ca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ocation Mapping: structure 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 for argument coll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e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e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fal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weep of the scy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erion 3: un bruto colpo di falce/ un colpo del mio fal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clac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blast of the h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erion 3: un forte colpo di clacson/ un colpo colpo della mia clac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 fuci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rifle s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35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iterion 3: un forte colpo di fucile/ un colpo del mio fal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all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llocation Mapping: structure I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e to head coll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spug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n 3: un bruto colpo di spun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test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n 3: un bruto colpo di t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criteria 1, 2, and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zen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s translate into NPs in English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mancin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underhanded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bass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low b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gobb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shrewd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cod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 last ditch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’occhi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first g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colpo di fulm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ve at first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zen expressions meet none of the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turing collocation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rase to he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olpo di testa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o-lingu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ian: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po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] = SynU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: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ader] ] = SynU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lingual lay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Position PP-di;  test for N terminal, add  lexical feature “test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SynU-A to SynU-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turing collocation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gument for arg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colpo di clacs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blast of the h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no-lingual layer: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talian: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lpo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di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] ] = SynU-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nglish: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last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f [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] ]  = SynU-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ulti-lingual layer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Source: test for Position PP-di;  test for N terminal; add lexical feature “clacson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Target: constrain Self (head) add  lexical feature “blast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Map Position PP-di to Position PP-of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 Map SynU-A to SynU-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ere, in the presence of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lacson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lpo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s mapped to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last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r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ssist in the refinement of the MILE model by writing multi-lingual entries using instantiations of thi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work is based on ‘MILE Simplified Data Model’ [Lenci, April 200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 Verbs are tric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types (with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olpo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tal)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ort verb construction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g)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ort verb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vere un colpo di fulmin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to fall in love at first sigh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ital) 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port verb construction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ng)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cal verb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e un colpo di pugnale a 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stab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Enrichmen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for expressing support verb properties is not fully defined in M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 assume that support verbs are recorded as a feature of collocations and certain other types of nou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order to implement this assumption, we propose a support verb architecture which is expressible at both the monolingual layer as well as the multilingual lay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verb layer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lf of each candidate SynU will be a complex Self containing the element &lt;suppVerb&gt; , which will ex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verb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Position identifies position and function of other arguments within &lt;suppVerb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lfPosition&gt; identifies the position and function of Self within &lt;suppVerb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gual Adjust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selection of &lt;suppVerb&gt; can be added to &lt;Self&gt;, or an existing &lt;suppVerb&gt; can be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Positions in &lt;suppVerb&gt; can be added or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selfPosition&gt; within &lt;suppVerb&gt; can be added or 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stration of a mono-lingual entry with a support ve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e un colpo di fulm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lingual entry: Self = colpo di fulm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ally specifies support verb = av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Positions = [0 [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sup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Positon =1, function=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lustration of support verb layer in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are un colpo di pugnale a 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o stab 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onolingual lay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tries required in the italian lexic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po] with Construction =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]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Self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re] with Construction=[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ntry required in the english lexic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=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] with Construction = [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]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 Verb: multilingual laye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lingual layer: Target Usyn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elf [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lpo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osition PP-di, test for N terminal; add  lexical feature “pugna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Positon PP-d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Sel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unction=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for SupportVe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SuportVerb terminal, add lexical feature “da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Self to Support Verb Position,  positio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source position 0 to target positi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source position 2 to target posi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 entry appears capable of capturing constraints based on local syntactic context and individual words or clear semantic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there are many cases where translation distinctions must be made on basis of more global context (as for WSD) or ill-defined categories (‘by example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nse Indicators: wide of the 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tondo2  (full taste, round taste) Food Do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lpo 5  (theft) Crime Do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otondo4 (an impressive score in a sports event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ports Domain;  a number or score noun in the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monolingual entries for 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t (V), play(V), hit (N), round(Adj), day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monolingual entries from P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ire, giocare, colpo, rotondo,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multilingual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i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t, stri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ocar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ay, b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p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low, knock, stab, sweep, heat stroke chill, shot, th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ond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und, rounded, full-bod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orno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ord Trans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are also proposing a strategy for multi-word translations lik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po di spugn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po di fal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weep of the scy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po di fulm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ve at first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ing support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e un colpo di fulmi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all in love at first 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e un colpo di pugna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ur general goal is to assure ourselves that the formalism is adequate to capture the distinctions among translations which arise in our study of corpus examp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describe some of these in the tal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 general, our experiences have been posit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resentation is rich and 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e propose certain innovations to handle some tricky c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present an overview of these in the ta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in Multi MILE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UMultCorr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es relations between SynUs in source &amp; targe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position relations and syntactic featur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ynU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SynU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UMultCorre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resses relations between SemUs in source &amp; targ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argument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SemU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SemU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tactic Adjustment in Mapp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lpir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trik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[to have an impact on; to impress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e form in Italian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rmally passive in Englis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 modo incivile di dare la notizia a colpi Gianni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was struck by the rude manner of giving the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:  must be able to specify voice in targ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represented in MI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argetSynUAction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constrainSe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addSynFeatu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&lt;morphoSyntFeature featureName=“VOICE”</a:t>
            </a:r>
            <a:br>
              <a:rPr sz="1600"/>
            </a:b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          value=“PASSIVE”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addSynFeatur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constrainSelf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/targetSynUAction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-word entries test power of lexical re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[not needed in our examples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different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ach type, identify strategies for encoding in 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multiwo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andle multiwords ei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additional monolingual lexicon e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yond those needed for monolingual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 additional information in multilingual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adding or prohibiting syntactic features or 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bel</cp:lastModifiedBy>
  <dcterms:modified xsi:type="dcterms:W3CDTF">2002-12-02T10:23:09Z</dcterms:modified>
  <cp:revision>33</cp:revision>
  <dc:subject/>
  <dc:title>PowerPoint Presentation</dc:title>
</cp:coreProperties>
</file>