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F175-3B93-4E19-8F01-B3DF51C3049A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bilingual dictionary is a static resource; WordAssoc and LF alignment are directly learned from data &gt;&gt; this method is important for our language-pair and domain scal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observation to make here is that when we’re good, we’re very good. Babelfish, on the other hand, is consistently medioc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call that a “2” is nothing to boast about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mewhere in between “possibly comprehensible” and “acceptable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92, or 37% of MSR-MT sentences judged better than 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33, or 13% of Babelfish sentences got this ra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Our work offers the promise of much better quality, and for a good many sentences in this dataset, we’re delivering tha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ount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Babelfis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in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1.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2.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5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1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=3.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3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pair independence is what I focus on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lingual MT: weird word, but here it means language-pair independence, that will enable us to quickly deploy new language pai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do this by combining lang-specific and lang-independent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-specific components: pre-existing components, not specific to 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-independent components: alignment and transfer. Because these are lang-independent, the system can adapt to new language pairs as well as new domains pretty quick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n MT system to be scalable to language pairs (=multilingual MT), two things must be learned: lexical and structural mappings. I will show you how we learn these mappings automatically within ou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bilingual dictionary is a static resource; WordAssoc and LF alignment are directly learned from data &gt;&gt; this method is important for our language-pair and domain scal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bilingual dictionary is a static resource; WordAssoc and LF alignment are directly learned from data &gt;&gt; this method is important for our language-pair and domain scal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LF relations in a bit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tern is just one of those that w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4CC-C8D8-4A30-9341-CE0FA0B2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8CA-5F7E-4979-A901-A4AB1FA5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FFA-270F-43EE-ACB0-4265C233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7B4-CFCF-4C1E-9F14-BA17EAFA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B253-5B4F-43BB-8D13-526C7581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1BF6-ACB8-4E78-B142-D2EC61F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F2E6-CDDE-485D-8765-488ECBEA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8831-7C43-4510-934D-68421996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76E0-A46A-4EA3-A2E1-77E01527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ADC7-FF9D-4D88-B431-3F0EF44E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4F0C-C973-4A25-9E95-C9D9BB0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E71-D6E6-435B-8BEF-AF478D3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231C-533E-4CFA-9165-C0265524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1E62-9C25-43DF-9F59-00B14FD1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758D-0C0B-423E-97DE-E8A99F85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A168-3A61-4F19-9724-D869620B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4556-AEFD-4CBC-A518-5B653191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4683-B2BF-4922-A983-17FB896C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8351-DAC0-4DAC-8D15-AD19E948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68F4-0208-4FC0-B011-82D234DA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3B7C-497A-431C-8189-460DAC8C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8965-9E37-4D6A-A282-D82F0439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8B4-889C-401B-912E-108266B2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08A5-2599-4F03-8318-AAC8947F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F01E-51FA-4511-A6A7-F4963E6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55ED-F860-4112-98CF-CDFF224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B8B7-49FC-4F44-9295-1C04AFE7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46EE-1358-4E63-9286-D3C76AA4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DE8E-6DB8-44D7-A98D-592A51DA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7297B-36BF-4B9B-BFBC-9A532C67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186-1116-4C82-BA6A-37A09469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DF4-0796-40E7-A827-2901C1B3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BE9-FA47-45FD-B11D-7E650EC2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395-219D-4C32-8C0F-E9A1AEA7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239-2E4A-4E6E-8C78-734E2BC2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70E-3E87-424A-BA52-5AECEE75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09480"/>
            <a:ext cx="579096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639040" cy="1905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ff66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B196-F825-4A43-9062-7E1B61A55388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nlp/nlppubs.aspx" TargetMode="External"/><Relationship Id="rId2" Type="http://schemas.openxmlformats.org/officeDocument/2006/relationships/hyperlink" Target="http://research.microsoft.com/nlp/nlppubs.aspx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5639040" cy="1905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SR-MT</a:t>
            </a:r>
            <a:endParaRPr b="1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LP Group</a:t>
            </a:r>
            <a:endParaRPr b="0" i="1" lang="en-US" sz="36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rosoft Research</a:t>
            </a:r>
            <a:endParaRPr b="0" i="1" lang="en-US" sz="36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Hisami Suzuki</a:t>
            </a: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SLE Workshop</a:t>
            </a: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isa, 2 December 2002</a:t>
            </a:r>
            <a:endParaRPr b="0" i="1" lang="en-US" sz="2800" spc="-1" strike="noStrike">
              <a:solidFill>
                <a:srgbClr val="ff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oss-linguistic variations in LF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F normalizes many surface vari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not an interlingua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brid of symbolic and statistical techniques: alignment learns the mapping of LF subgraph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572000" y="1887480"/>
            <a:ext cx="4486320" cy="4665240"/>
            <a:chOff x="4572000" y="1887480"/>
            <a:chExt cx="4486320" cy="466524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tretch/>
          </p:blipFill>
          <p:spPr>
            <a:xfrm>
              <a:off x="4851360" y="4493520"/>
              <a:ext cx="3733920" cy="19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4694040" y="2007720"/>
              <a:ext cx="436428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4694040" y="3098160"/>
              <a:ext cx="3348000" cy="1032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4040" y="5438880"/>
              <a:ext cx="3348000" cy="1032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2000" y="1887480"/>
              <a:ext cx="4456080" cy="466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F mapping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 systematic correspondence between LF sub-graph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ed in MindN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vers for both lexical and structural mappin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hand-coded transfer ru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ucial for language-pair independ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dependency on hand-coded bilingual dictionary (fallback only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methodology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2017440"/>
            <a:ext cx="86500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h automated and human evalu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kinds of human evalu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 evaluation: compares output of two syste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solute evaluation: evaluates the quality of system output along absolute standa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ive evaluation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865160"/>
            <a:ext cx="865008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7 independent raters are presented with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human reference transl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air of machine translations (in random ord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ters are not shown the source language sent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ters don’t know which machine translation is from which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ters indicate a relative preference for system A or B or neither, which corresponds to scores of 1, −1 or 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sentence is evaluated by all raters, and scores are averag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6360" y="76320"/>
            <a:ext cx="79581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Relative evalua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Span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↔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English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"/>
          <p:cNvSpPr/>
          <p:nvPr/>
        </p:nvSpPr>
        <p:spPr>
          <a:xfrm>
            <a:off x="5191920" y="2590920"/>
            <a:ext cx="30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nglish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8680" y="2592360"/>
            <a:ext cx="31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panish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495680" y="3463920"/>
          <a:ext cx="4648320" cy="270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463920"/>
                    <a:ext cx="46483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837480" y="342756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L&amp;H (uncustomiz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18120" y="4540320"/>
            <a:ext cx="9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No p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-152280" y="3429000"/>
          <a:ext cx="4724280" cy="275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3429000"/>
                    <a:ext cx="472428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03640" y="5759280"/>
            <a:ext cx="10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MSR-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7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54400" y="342900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Babelfish (uncustomiz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25600" y="4311720"/>
            <a:ext cx="9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No p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59640" y="5715000"/>
            <a:ext cx="106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MSR-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7000" y="1905120"/>
            <a:ext cx="54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Sentence preference by mean sc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66480"/>
            <a:ext cx="779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Evaluating absolute quality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040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uman evaluators are asked to rank translation quality on a scale of 1-4, comparing to gold-standard human transl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14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4=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Ideal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宋体"/>
              </a:rPr>
              <a:t>: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grammatically correct, all information include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=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Acceptable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宋体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Not perfect, but definitely comprehensible, AND with accurate transfer of all important informatio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2=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Possibly acceptable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宋体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may be interpretable given context/time, some information transferred accuratel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= </a:t>
            </a: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Unacceptable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宋体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solutely not comprehensible and/or little or no information transferred accurately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ood inter-rater agreement on this tas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787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bsolute quality evalua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Spanish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English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165320" y="2286000"/>
          <a:ext cx="6278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286000"/>
                    <a:ext cx="6278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914400" y="18288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erage quality scores:    Babelfish=2.344    MSR-MT=2.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ench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anish in a day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978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: testing language-pair independ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linguistic tun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al hand-built bilingual dictiona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 words only, 7 person-hours of assembl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wise used automatically learned dictiona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ison to SailLabs’ F-S syst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ected commercial hand-coded transfer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9581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  <a:ea typeface="宋体"/>
              </a:rPr>
              <a:t>French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Trebuchet MS"/>
                <a:ea typeface="宋体"/>
              </a:rPr>
              <a:t>Spanish evaluation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362320"/>
            <a:ext cx="55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92160" y="243360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87640" y="2489040"/>
            <a:ext cx="14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206800" y="3657600"/>
          <a:ext cx="4673520" cy="31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0" y="3657600"/>
                    <a:ext cx="467352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976400" y="586728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SR 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5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38720" y="434340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il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54400" y="6095880"/>
            <a:ext cx="9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 p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35680" y="2057400"/>
            <a:ext cx="43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Average mean score for all senten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30640" y="373392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  <a:ea typeface="宋体"/>
              </a:rPr>
              <a:t>Sentence preference by mean sc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97000" y="2637000"/>
            <a:ext cx="4496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59320" y="2560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97000" y="2560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93040" y="2560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32480" y="30495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05960" y="2994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39320" y="301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4080" y="26668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ail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37480" y="259092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SR-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7200" y="312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0.22 ±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76920" y="2514600"/>
            <a:ext cx="0" cy="60948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pair independence achieved by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-driven metho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association (statistically learned dictionary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dNet (LF alignment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f pre-existing linguistic compon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e Microsoft’s product support websi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ly successful pilot for English-Spanis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language pairs with less closely related languag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16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SR-M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brid of symbolic and statistical techniques with example-based transf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s transfer mappings automatically from 100K’s of aligned bilingual sentence pai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fer mapping based on Logical For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quality translation automatically tuned to a specific domain (no hand-codin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pair independ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s available at: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http://</a:t>
            </a:r>
            <a:r>
              <a:rPr b="0" lang="en-GB" sz="3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research.microsoft.com/nlp/nlppubs.aspx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ining data / Language pair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ed on Microsoft technical document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/Spanish: 360K aligned sentence pai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 has been development and evaluation focus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language pairs under developmen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French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↔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nglish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German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↔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Japanese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↔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nglish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French→Spanis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hinese→Englis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text vocabulary siz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S technical text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1,8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2,936,884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8,88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3,441,891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 to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erbmobil text (Vogel et al, 2000)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,67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549,921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rma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,9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519,523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U text from ELR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l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,5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2,510,983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is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7,88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unique tokens (2,627,694 tot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ltilingual M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lingual MT: achieving language-pair independ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specific componen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ser, MindNet, Generation, Lexicon (monolingu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-existing components not specific to M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ly in 7 languag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-independent metho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ment and transf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omatic methods (1)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associ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ypothesize word and phrase translations based on co-occurrence in bitex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a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ch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s log-likelihood-ratio statistic that performs well with low frequency ite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s need for hand-coded bilingual dictiona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ntly improves overall translation qua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omatic methods (2)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ical Form (LF) Alignment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ral to automatic customization and language-pair independe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s LF transfer patterns entirely from bitext (both lexical and structur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d association creates tentative lexical mapping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ment rules extract transfer patterns/contex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terns are filtered and ranked using frequency statistic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learning techniques identify optimal contex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413480" y="4038480"/>
            <a:ext cx="1349640" cy="60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962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304920"/>
            <a:ext cx="2057400" cy="76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289080"/>
            <a:ext cx="207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tistical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ociation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0560" y="22860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80880"/>
            <a:ext cx="1082520" cy="42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0440" y="3650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62520" y="1359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9777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13590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9040" y="1660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01640" y="1660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fi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0760" y="1370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3640" y="135900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1080" y="117936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Haga clic en la fi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228600"/>
            <a:ext cx="144756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64000" y="228600"/>
            <a:ext cx="88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05740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560" y="205740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209680"/>
            <a:ext cx="1082520" cy="42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30440" y="21938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008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Arial"/>
              </a:rPr>
              <a:t>Click the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2057400"/>
            <a:ext cx="144756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86680" y="2057400"/>
            <a:ext cx="8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9560" y="2819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3240" y="3200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3960" y="34894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79280" y="31240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1905120"/>
            <a:ext cx="1752480" cy="761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66600" y="1965240"/>
            <a:ext cx="149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ord/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20720" y="26510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fich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3962520"/>
            <a:ext cx="1447560" cy="761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57840" y="396252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09720" y="509256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34080" y="4711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509256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6960" y="53942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49560" y="5394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fi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8320" y="5103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71560" y="509256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5120" y="57913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38800" y="6172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9880" y="6461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05200" y="609588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5715000"/>
            <a:ext cx="533160" cy="228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5029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57150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60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609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533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562720" y="914400"/>
            <a:ext cx="1218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685800"/>
            <a:ext cx="205740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251460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8580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038480"/>
            <a:ext cx="1600200" cy="60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334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962520"/>
            <a:ext cx="1600200" cy="761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09960" y="396252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3523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905120" y="51055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28760" y="47242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66880" y="51055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54072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4120" y="54072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33360" y="5116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66240" y="510552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59800" y="58672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33840" y="62485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75000" y="6537240"/>
            <a:ext cx="2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99880" y="617220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320" y="3962520"/>
            <a:ext cx="1676160" cy="761760"/>
          </a:xfrm>
          <a:prstGeom prst="flowChartMagneticDrum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0" y="41148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d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75212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1066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1880" y="2666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5181480"/>
            <a:ext cx="0" cy="762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6148440"/>
            <a:ext cx="21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4720" y="3976560"/>
            <a:ext cx="175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tract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898880" y="3733920"/>
            <a:ext cx="134964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3733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81560" y="5029200"/>
            <a:ext cx="1676520" cy="762120"/>
          </a:xfrm>
          <a:prstGeom prst="flowChartMagneticDrum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88400" y="502920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iling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2860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7600" y="22860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65240" y="380880"/>
            <a:ext cx="93024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380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r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063600" y="1327320"/>
            <a:ext cx="5331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18040" y="995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7120" y="132732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61200" y="1492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44800" y="149220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26800" y="1219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12400" y="121932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1080" y="99072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Haga clic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l tex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uestra resa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22860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73280" y="228600"/>
            <a:ext cx="88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4920" y="5181480"/>
            <a:ext cx="155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Arial"/>
              </a:rPr>
              <a:t>Click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Arial"/>
              </a:rPr>
              <a:t>highligh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Arial"/>
              </a:rPr>
              <a:t>sampl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243828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24520" y="2438280"/>
            <a:ext cx="90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6720" y="584028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naranjad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an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609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609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1235160"/>
            <a:ext cx="160020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1219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dM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28600"/>
            <a:ext cx="1676520" cy="762120"/>
          </a:xfrm>
          <a:prstGeom prst="flowChartMagneticDrum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3808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d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673440" y="178452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06960" y="1784520"/>
            <a:ext cx="5331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12600" y="1720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68520" y="17208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66840" y="1949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resal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5800" y="19494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mue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449568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7600" y="44956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4648320"/>
            <a:ext cx="129528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4632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4495680"/>
            <a:ext cx="1447920" cy="762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5960" y="4495680"/>
            <a:ext cx="8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20040" y="5262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98760" y="559440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90720" y="5759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12600" y="545472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75080" y="605160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08600" y="6051600"/>
            <a:ext cx="5331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98400" y="59436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69800" y="59436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47520" y="621648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highligh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47560" y="62164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324480" y="193680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78920" y="16048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ha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193680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22080" y="2101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0560" y="22543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(tex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87680" y="1828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73280" y="182880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64200" y="300348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70200" y="2940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43400" y="31687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mue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09680" y="1600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88400" y="1932120"/>
            <a:ext cx="5331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408880" y="21178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02240" y="1792440"/>
            <a:ext cx="4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29200" y="27115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47080" y="3003480"/>
            <a:ext cx="53352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36880" y="28954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86040" y="31687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23040" y="1752480"/>
            <a:ext cx="3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6094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6272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495680" y="41911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095880" y="762120"/>
            <a:ext cx="45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4191120"/>
            <a:ext cx="838440" cy="838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80" y="6202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UN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16640" y="21178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5050"/>
                </a:solidFill>
                <a:latin typeface="Arial"/>
                <a:ea typeface="ＭＳ Ｐゴシック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36800" y="22543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(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586200" y="27115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69120" y="2895480"/>
            <a:ext cx="3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06720" y="4375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00760" y="35496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highligh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51400" y="35496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resal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15200" y="3733920"/>
            <a:ext cx="3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9:32:21Z</dcterms:created>
  <dc:creator>William Dolan</dc:creator>
  <dc:description/>
  <dc:language>en-US</dc:language>
  <cp:lastModifiedBy>Hisami Suzuki</cp:lastModifiedBy>
  <dcterms:modified xsi:type="dcterms:W3CDTF">2002-12-10T21:52:39Z</dcterms:modified>
  <cp:revision>29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28817209</vt:r8>
  </property>
  <property fmtid="{D5CDD505-2E9C-101B-9397-08002B2CF9AE}" pid="3" name="_AuthorEmail">
    <vt:lpwstr>hisamis@microsoft.com</vt:lpwstr>
  </property>
  <property fmtid="{D5CDD505-2E9C-101B-9397-08002B2CF9AE}" pid="4" name="_AuthorEmailDisplayName">
    <vt:lpwstr>Hisami Suzuki</vt:lpwstr>
  </property>
  <property fmtid="{D5CDD505-2E9C-101B-9397-08002B2CF9AE}" pid="5" name="_EmailSubject">
    <vt:lpwstr>ISLE Workshop - Pisa - 02-03/12/2002 - Your Slides</vt:lpwstr>
  </property>
</Properties>
</file>