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790-33CE-4F08-9460-D4FCA934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09640" y="385632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4CB-4658-4B2F-8526-E829E99B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0964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8736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C47-5067-4BD1-99BC-7860CD57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0280" y="18288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90920" y="18288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09640" y="385632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0280" y="385632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90920" y="385632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8B2-E9A2-4DF0-9C6B-86217C31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BD33-5421-47D2-B5AA-DB140768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BDF7-0616-48BE-BE61-49FEEE7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B71-E1D4-4F05-BC84-C1D254B0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645C-A6A1-4B02-B592-2298A2F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1ADA-B993-4A40-8D44-38ED0022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6ABD-35F6-4FEF-B54B-3B35901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D6F7-E337-45F0-A466-FA647DA4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6CB-BF23-4C08-8723-84C1494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4323-63BB-4517-B65D-D659942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85632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A9C4-B248-4504-9153-64CDFC7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85632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BAC7-8F96-4F7F-9C9E-7DB3AF9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C821-F17A-4ABC-8B18-39AD4D6F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8288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8288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85632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85632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85632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A27A-6DB5-4ADC-A1EE-267DEA5A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79B-18DC-4F31-9D82-815FF730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971-7119-4DDE-9FAD-9E2339E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100-CAFF-4E34-9129-1E1BAF38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81D-58B9-448B-9AA5-FF8E35FC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964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A58-24C6-4F00-A41E-D04A8DCF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87360" y="385632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CBE-5D67-4306-9D2D-6FB62CA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87360" y="18288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9640" y="385632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DFE-3AD9-4102-9F8C-2B282DC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47640" cy="6713280"/>
            <a:chOff x="0" y="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038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66108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13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46092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849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325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7513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085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133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131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59846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798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7848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8705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184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151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036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5609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131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360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2848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4324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6512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08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131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133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8844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1800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6846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770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0846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0511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2584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2973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1828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4971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4640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39859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0431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0957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8433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767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146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6954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4956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6622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5668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5337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130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369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22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1701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0938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2414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606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17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225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224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6938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9890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4937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5794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894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8605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129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2701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223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0700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141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444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01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06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778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778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6635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1977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944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296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353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06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153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254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071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957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760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17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697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174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410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88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69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436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41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28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759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616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252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9480" y="0"/>
            <a:ext cx="8280360" cy="1782720"/>
            <a:chOff x="609480" y="0"/>
            <a:chExt cx="8280360" cy="1782720"/>
          </a:xfrm>
        </p:grpSpPr>
        <p:sp>
          <p:nvSpPr>
            <p:cNvPr id="100" name=""/>
            <p:cNvSpPr/>
            <p:nvPr/>
          </p:nvSpPr>
          <p:spPr>
            <a:xfrm>
              <a:off x="858600" y="0"/>
              <a:ext cx="496800" cy="14508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131760"/>
              <a:ext cx="5662440" cy="777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75240" y="1444680"/>
              <a:ext cx="1474920" cy="3380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7400" y="1596960"/>
              <a:ext cx="5662440" cy="777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8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2895120" y="63770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7FC1-DEEF-470A-820D-9A171DFA8887}" type="slidenum"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98720" y="457200"/>
            <a:ext cx="7580160" cy="22096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47" name="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276360" y="635796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735-5C24-46D6-AC13-9E9C95086747}" type="slidenum"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2589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4572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8000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9640" y="1046160"/>
            <a:ext cx="738036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MILE Lexical Model</a:t>
            </a:r>
            <a:br>
              <a:rPr sz="4000"/>
            </a:b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inguistic and Formal Architectur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914400" y="2998800"/>
            <a:ext cx="822960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essandro Lenci</a:t>
            </a:r>
            <a:r>
              <a:rPr b="0" lang="it-IT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Nancy Ide</a:t>
            </a:r>
            <a:r>
              <a:rPr b="0" lang="it-IT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1 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Università di Pisa</a:t>
            </a:r>
            <a:r>
              <a:rPr b="0" lang="it-IT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amp; ILC – CN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assar Colle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0" name="isle_logo_home" descr=""/>
          <p:cNvPicPr/>
          <p:nvPr/>
        </p:nvPicPr>
        <p:blipFill>
          <a:blip r:embed="rId1"/>
          <a:stretch/>
        </p:blipFill>
        <p:spPr>
          <a:xfrm>
            <a:off x="3438360" y="5105520"/>
            <a:ext cx="3191040" cy="102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Defining the ML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3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he MLM is designed as an 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E-R mod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efines th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lexical objects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and the ways they can b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combined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into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lexical ent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he MLM includes three types of lexical object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ILE Lexical Classe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ML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ILE Lexical Data Categorie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MLD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ILE Lexical Operation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(ML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Lexical Cla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09280" y="1828800"/>
            <a:ext cx="83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present th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ain building block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f lexical ent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rmalize the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ILE B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sic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L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represent notions lik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mantic unit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yntactic featur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yntactic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mantic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edicat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mantic rel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ynse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t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ilar to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lass definition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in OO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pecify the relevant attribut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fine the relations with other clas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ierarchically structu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Lexical Cla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145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33480" y="1886040"/>
          <a:ext cx="77533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886040"/>
                    <a:ext cx="7753320" cy="441936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Lexical Data Catego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640" y="1828440"/>
            <a:ext cx="79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MLDC ar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instance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of the MILE lexical Clas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Each MLDC is uniquely identified by a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UR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wo types of MLDC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Core MLD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belong to shared repositories (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Lexical Data Category Registry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present lexical objects and linguistic notions with wide consensu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User Defined MLD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present user-specific or language specific lexical objects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Lexical Data Catego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623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MLC:Featu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90720" y="2971800"/>
            <a:ext cx="4343400" cy="642600"/>
            <a:chOff x="990720" y="2971800"/>
            <a:chExt cx="4343400" cy="642600"/>
          </a:xfrm>
        </p:grpSpPr>
        <p:sp>
          <p:nvSpPr>
            <p:cNvPr id="371" name=""/>
            <p:cNvSpPr/>
            <p:nvPr/>
          </p:nvSpPr>
          <p:spPr>
            <a:xfrm>
              <a:off x="990720" y="29718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3366"/>
                  </a:solidFill>
                  <a:latin typeface="Tahoma"/>
                </a:rPr>
                <a:t>MLC:SemFeatur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29718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3366"/>
                  </a:solidFill>
                  <a:latin typeface="Tahoma"/>
                </a:rPr>
                <a:t>MLC:SynFeatur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209680" y="2362320"/>
            <a:ext cx="1828800" cy="609480"/>
            <a:chOff x="2209680" y="2362320"/>
            <a:chExt cx="1828800" cy="609480"/>
          </a:xfrm>
        </p:grpSpPr>
        <p:sp>
          <p:nvSpPr>
            <p:cNvPr id="374" name=""/>
            <p:cNvSpPr/>
            <p:nvPr/>
          </p:nvSpPr>
          <p:spPr>
            <a:xfrm flipH="1">
              <a:off x="2209680" y="2362320"/>
              <a:ext cx="914400" cy="609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24080" y="2362320"/>
              <a:ext cx="914400" cy="609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62120" y="3276720"/>
            <a:ext cx="2361960" cy="2963520"/>
            <a:chOff x="762120" y="3276720"/>
            <a:chExt cx="2361960" cy="2963520"/>
          </a:xfrm>
        </p:grpSpPr>
        <p:sp>
          <p:nvSpPr>
            <p:cNvPr id="377" name=""/>
            <p:cNvSpPr/>
            <p:nvPr/>
          </p:nvSpPr>
          <p:spPr>
            <a:xfrm>
              <a:off x="838080" y="4149720"/>
              <a:ext cx="2057400" cy="14655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eecca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HUMA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ARTIFACTUAL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EVEN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DURATIO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GROUP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8080" y="5597640"/>
              <a:ext cx="2057400" cy="642600"/>
            </a:xfrm>
            <a:prstGeom prst="rect">
              <a:avLst/>
            </a:prstGeom>
            <a:gradFill rotWithShape="0">
              <a:gsLst>
                <a:gs pos="0">
                  <a:srgbClr val="e3e2c7"/>
                </a:gs>
                <a:gs pos="100000">
                  <a:srgbClr val="f4f4e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AG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ANIMAT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828800" y="3276720"/>
              <a:ext cx="0" cy="838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3549600"/>
              <a:ext cx="1218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instance_of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6000" y="40831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76520" y="55306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UserDefined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2120" y="38862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MLDC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352680" y="3276720"/>
            <a:ext cx="2438640" cy="2689200"/>
            <a:chOff x="3352680" y="3276720"/>
            <a:chExt cx="2438640" cy="2689200"/>
          </a:xfrm>
        </p:grpSpPr>
        <p:sp>
          <p:nvSpPr>
            <p:cNvPr id="385" name=""/>
            <p:cNvSpPr/>
            <p:nvPr/>
          </p:nvSpPr>
          <p:spPr>
            <a:xfrm>
              <a:off x="3352680" y="4149720"/>
              <a:ext cx="2210040" cy="14655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eecca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GENDER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CAS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PERSO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TENS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CONTROL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52680" y="5597640"/>
              <a:ext cx="2210040" cy="368280"/>
            </a:xfrm>
            <a:prstGeom prst="rect">
              <a:avLst/>
            </a:prstGeom>
            <a:gradFill rotWithShape="0">
              <a:gsLst>
                <a:gs pos="0">
                  <a:srgbClr val="e3e2c7"/>
                </a:gs>
                <a:gs pos="100000">
                  <a:srgbClr val="f4f4e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ASPEC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52880" y="408312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3400" y="55306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UserDefined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4419720" y="3276720"/>
              <a:ext cx="0" cy="838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9880" y="3549600"/>
              <a:ext cx="12956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instance_of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2680" y="38862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MLDC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095880" y="2971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ahoma"/>
              </a:rPr>
              <a:t>MLC:Grammatical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00800" y="3276720"/>
            <a:ext cx="2438280" cy="2623680"/>
            <a:chOff x="6400800" y="3276720"/>
            <a:chExt cx="2438280" cy="2623680"/>
          </a:xfrm>
        </p:grpSpPr>
        <p:sp>
          <p:nvSpPr>
            <p:cNvPr id="394" name=""/>
            <p:cNvSpPr/>
            <p:nvPr/>
          </p:nvSpPr>
          <p:spPr>
            <a:xfrm>
              <a:off x="6400800" y="4149720"/>
              <a:ext cx="2209680" cy="11912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eecca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SUBJ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OBJ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IOBJ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PRED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5257800"/>
              <a:ext cx="2209680" cy="642600"/>
            </a:xfrm>
            <a:prstGeom prst="rect">
              <a:avLst/>
            </a:prstGeom>
            <a:gradFill rotWithShape="0">
              <a:gsLst>
                <a:gs pos="0">
                  <a:srgbClr val="e3e2c7"/>
                </a:gs>
                <a:gs pos="100000">
                  <a:srgbClr val="f4f4e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X_COMP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Courier New"/>
                </a:rPr>
                <a:t>C_COMP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01000" y="40831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91520" y="51814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UserDefined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543800" y="3276720"/>
              <a:ext cx="0" cy="838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3549600"/>
              <a:ext cx="12956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instance_of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00800" y="38545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Times New Roman"/>
                </a:rPr>
                <a:t>MLDC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Defining the ML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>
            <a:hlinkClick r:id="rId1" action="ppaction://hlinksldjump"/>
          </p:cNvPr>
          <p:cNvSpPr/>
          <p:nvPr/>
        </p:nvSpPr>
        <p:spPr>
          <a:xfrm>
            <a:off x="6400800" y="1981080"/>
            <a:ext cx="2438280" cy="990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cc99"/>
              </a:gs>
              <a:gs pos="100000">
                <a:srgbClr val="ececdb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MI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Entry Schem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>
            <a:hlinkClick r:id="rId2" action="ppaction://hlinksldjump"/>
          </p:cNvPr>
          <p:cNvSpPr/>
          <p:nvPr/>
        </p:nvSpPr>
        <p:spPr>
          <a:xfrm>
            <a:off x="3162240" y="1981080"/>
            <a:ext cx="2438640" cy="990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cc99"/>
              </a:gs>
              <a:gs pos="100000">
                <a:srgbClr val="ececdb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MILE Lexic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200400" y="3809880"/>
            <a:ext cx="2362320" cy="2590920"/>
            <a:chOff x="3200400" y="3809880"/>
            <a:chExt cx="2362320" cy="2590920"/>
          </a:xfrm>
        </p:grpSpPr>
        <p:sp>
          <p:nvSpPr>
            <p:cNvPr id="405" name=""/>
            <p:cNvSpPr/>
            <p:nvPr/>
          </p:nvSpPr>
          <p:spPr>
            <a:xfrm>
              <a:off x="3200400" y="3809880"/>
              <a:ext cx="2362320" cy="2590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rId3" action="ppaction://hlinksldjump"/>
            </p:cNvPr>
            <p:cNvSpPr/>
            <p:nvPr/>
          </p:nvSpPr>
          <p:spPr>
            <a:xfrm>
              <a:off x="3505320" y="5029200"/>
              <a:ext cx="1752480" cy="1219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b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User Defined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MLD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">
              <a:hlinkClick r:id="rId4" action="ppaction://hlinksldjump"/>
            </p:cNvPr>
            <p:cNvSpPr/>
            <p:nvPr/>
          </p:nvSpPr>
          <p:spPr>
            <a:xfrm>
              <a:off x="3505320" y="3962520"/>
              <a:ext cx="1752480" cy="1218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42688d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MLD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Registry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6934320" y="4029120"/>
            <a:ext cx="1371600" cy="1076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rot="5400000">
            <a:off x="4076640" y="3162240"/>
            <a:ext cx="685800" cy="457200"/>
          </a:xfrm>
          <a:custGeom>
            <a:avLst/>
            <a:gdLst>
              <a:gd name="textAreaLeft" fmla="*/ 106920 w 685800"/>
              <a:gd name="textAreaRight" fmla="*/ 600120 w 685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3a8a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0800000">
            <a:off x="5562720" y="2371320"/>
            <a:ext cx="761760" cy="4381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09440 h 438120"/>
              <a:gd name="textAreaBottom" fmla="*/ 328680 h 43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3a8a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3429000"/>
            <a:ext cx="1981080" cy="990720"/>
          </a:xfrm>
          <a:prstGeom prst="flowChartMultidocument">
            <a:avLst/>
          </a:prstGeom>
          <a:gradFill rotWithShape="0">
            <a:gsLst>
              <a:gs pos="0">
                <a:srgbClr val="008000"/>
              </a:gs>
              <a:gs pos="100000">
                <a:srgbClr val="42a042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RD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escrip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23880" y="2361960"/>
            <a:ext cx="1067040" cy="3124440"/>
            <a:chOff x="1523880" y="2361960"/>
            <a:chExt cx="1067040" cy="3124440"/>
          </a:xfrm>
        </p:grpSpPr>
        <p:sp>
          <p:nvSpPr>
            <p:cNvPr id="413" name=""/>
            <p:cNvSpPr/>
            <p:nvPr/>
          </p:nvSpPr>
          <p:spPr>
            <a:xfrm flipH="1" rot="5400000">
              <a:off x="1562040" y="2323440"/>
              <a:ext cx="990360" cy="1067040"/>
            </a:xfrm>
            <a:custGeom>
              <a:avLst/>
              <a:gdLst>
                <a:gd name="textAreaLeft" fmla="*/ 268200 w 990360"/>
                <a:gd name="textAreaRight" fmla="*/ 820080 w 990360"/>
                <a:gd name="textAreaTop" fmla="*/ 644760 h 1067040"/>
                <a:gd name="textAreaBottom" fmla="*/ 8838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766"/>
                  </a:moveTo>
                  <a:lnTo>
                    <a:pt x="13053" y="16766"/>
                  </a:lnTo>
                  <a:lnTo>
                    <a:pt x="13053" y="5850"/>
                  </a:lnTo>
                  <a:lnTo>
                    <a:pt x="9340" y="5850"/>
                  </a:lnTo>
                  <a:lnTo>
                    <a:pt x="15470" y="0"/>
                  </a:lnTo>
                  <a:lnTo>
                    <a:pt x="21600" y="5850"/>
                  </a:lnTo>
                  <a:lnTo>
                    <a:pt x="17887" y="5850"/>
                  </a:lnTo>
                  <a:lnTo>
                    <a:pt x="178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a8eca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 rot="16200000">
              <a:off x="1562040" y="4457520"/>
              <a:ext cx="990720" cy="1067040"/>
            </a:xfrm>
            <a:custGeom>
              <a:avLst/>
              <a:gdLst>
                <a:gd name="textAreaLeft" fmla="*/ 268200 w 990720"/>
                <a:gd name="textAreaRight" fmla="*/ 820440 w 990720"/>
                <a:gd name="textAreaTop" fmla="*/ 644760 h 1067040"/>
                <a:gd name="textAreaBottom" fmla="*/ 8838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766"/>
                  </a:moveTo>
                  <a:lnTo>
                    <a:pt x="13053" y="16766"/>
                  </a:lnTo>
                  <a:lnTo>
                    <a:pt x="13053" y="5850"/>
                  </a:lnTo>
                  <a:lnTo>
                    <a:pt x="9340" y="5850"/>
                  </a:lnTo>
                  <a:lnTo>
                    <a:pt x="15470" y="0"/>
                  </a:lnTo>
                  <a:lnTo>
                    <a:pt x="21600" y="5850"/>
                  </a:lnTo>
                  <a:lnTo>
                    <a:pt x="17887" y="5850"/>
                  </a:lnTo>
                  <a:lnTo>
                    <a:pt x="178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a8eca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781600" y="4210200"/>
            <a:ext cx="924120" cy="514080"/>
          </a:xfrm>
          <a:custGeom>
            <a:avLst/>
            <a:gdLst>
              <a:gd name="textAreaLeft" fmla="*/ 144360 w 924120"/>
              <a:gd name="textAreaRight" fmla="*/ 808920 w 924120"/>
              <a:gd name="textAreaTop" fmla="*/ 128520 h 514080"/>
              <a:gd name="textAreaBottom" fmla="*/ 385560 h 51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3a8a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7171920" y="3219480"/>
            <a:ext cx="762120" cy="4381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09440 h 438120"/>
              <a:gd name="textAreaBottom" fmla="*/ 328680 h 43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3a8a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172200" y="5029200"/>
            <a:ext cx="2819520" cy="1600200"/>
            <a:chOff x="6172200" y="5029200"/>
            <a:chExt cx="2819520" cy="1600200"/>
          </a:xfrm>
        </p:grpSpPr>
        <p:sp>
          <p:nvSpPr>
            <p:cNvPr id="418" name=""/>
            <p:cNvSpPr/>
            <p:nvPr/>
          </p:nvSpPr>
          <p:spPr>
            <a:xfrm>
              <a:off x="6172200" y="5791320"/>
              <a:ext cx="2819520" cy="838080"/>
            </a:xfrm>
            <a:prstGeom prst="foldedCorner">
              <a:avLst>
                <a:gd name="adj" fmla="val 12500"/>
              </a:avLst>
            </a:prstGeom>
            <a:solidFill>
              <a:srgbClr val="f8f8f8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00"/>
                  </a:solidFill>
                  <a:latin typeface="Times New Roman"/>
                </a:rPr>
                <a:t>Monolingual/Multilingua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00"/>
                  </a:solidFill>
                  <a:latin typeface="Times New Roman"/>
                </a:rPr>
                <a:t>Lexico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400000">
              <a:off x="7210080" y="5153040"/>
              <a:ext cx="685800" cy="4381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09440 h 438120"/>
                <a:gd name="textAreaBottom" fmla="*/ 32868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d3a8a8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he MILE Lexical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33920" y="1828800"/>
            <a:ext cx="2057400" cy="1219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faf83"/>
              </a:gs>
              <a:gs pos="100000">
                <a:srgbClr val="cccc99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MI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Lexical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143000" y="5562720"/>
            <a:ext cx="7238880" cy="761760"/>
            <a:chOff x="1143000" y="5562720"/>
            <a:chExt cx="7238880" cy="761760"/>
          </a:xfrm>
        </p:grpSpPr>
        <p:sp>
          <p:nvSpPr>
            <p:cNvPr id="423" name=""/>
            <p:cNvSpPr/>
            <p:nvPr/>
          </p:nvSpPr>
          <p:spPr>
            <a:xfrm>
              <a:off x="1143000" y="5562720"/>
              <a:ext cx="1981080" cy="7617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42688d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lexicon_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3920" y="5562720"/>
              <a:ext cx="1981080" cy="7617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42688d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lexicon_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5562720"/>
              <a:ext cx="1981080" cy="7617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42688d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lexicon_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371600" y="3048120"/>
            <a:ext cx="3429000" cy="1600200"/>
            <a:chOff x="1371600" y="3048120"/>
            <a:chExt cx="3429000" cy="1600200"/>
          </a:xfrm>
        </p:grpSpPr>
        <p:sp>
          <p:nvSpPr>
            <p:cNvPr id="427" name=""/>
            <p:cNvSpPr/>
            <p:nvPr/>
          </p:nvSpPr>
          <p:spPr>
            <a:xfrm>
              <a:off x="1371600" y="3809880"/>
              <a:ext cx="1676520" cy="8384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42a042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DTD_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133720" y="3048120"/>
              <a:ext cx="2666880" cy="761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48040" y="3048120"/>
            <a:ext cx="3086280" cy="1739520"/>
            <a:chOff x="3848040" y="3048120"/>
            <a:chExt cx="3086280" cy="1739520"/>
          </a:xfrm>
        </p:grpSpPr>
        <p:sp>
          <p:nvSpPr>
            <p:cNvPr id="430" name=""/>
            <p:cNvSpPr/>
            <p:nvPr/>
          </p:nvSpPr>
          <p:spPr>
            <a:xfrm>
              <a:off x="3848040" y="3809880"/>
              <a:ext cx="1828800" cy="8384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42a042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DTD_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67280" y="42670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3048120"/>
              <a:ext cx="0" cy="761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24280" y="3048120"/>
            <a:ext cx="3657600" cy="1600200"/>
            <a:chOff x="4724280" y="3048120"/>
            <a:chExt cx="3657600" cy="1600200"/>
          </a:xfrm>
        </p:grpSpPr>
        <p:sp>
          <p:nvSpPr>
            <p:cNvPr id="434" name=""/>
            <p:cNvSpPr/>
            <p:nvPr/>
          </p:nvSpPr>
          <p:spPr>
            <a:xfrm>
              <a:off x="6553080" y="3809880"/>
              <a:ext cx="1828800" cy="8384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42a042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DTD_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24280" y="3048120"/>
              <a:ext cx="2743200" cy="761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V="1">
            <a:off x="4724280" y="46479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800240" y="4647960"/>
            <a:ext cx="251460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209680" y="46479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Lexical Oper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9280" y="1828800"/>
            <a:ext cx="83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y are used to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tate condition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erform operation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over lexical ent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Link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syntactic slot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semantic arg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nstrain th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syntax-semantics lin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Express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tests and action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in the transfer conditions in the multi-M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hey provide the “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glue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” to link various independent 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intra-lexical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inter-lexical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modu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odularity in 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85800" y="2666880"/>
            <a:ext cx="3809880" cy="3733920"/>
            <a:chOff x="685800" y="2666880"/>
            <a:chExt cx="3809880" cy="3733920"/>
          </a:xfrm>
        </p:grpSpPr>
        <p:sp>
          <p:nvSpPr>
            <p:cNvPr id="443" name=""/>
            <p:cNvSpPr/>
            <p:nvPr/>
          </p:nvSpPr>
          <p:spPr>
            <a:xfrm>
              <a:off x="685800" y="2666880"/>
              <a:ext cx="3809880" cy="3733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5334120"/>
              <a:ext cx="1905120" cy="6858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0000"/>
                  </a:solidFill>
                  <a:latin typeface="Tahoma"/>
                </a:rPr>
                <a:t>morphologica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0000"/>
                  </a:solidFill>
                  <a:latin typeface="Tahoma"/>
                </a:rPr>
                <a:t>layer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4267080"/>
              <a:ext cx="1905120" cy="60984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0000"/>
                  </a:solidFill>
                  <a:latin typeface="Tahoma"/>
                </a:rPr>
                <a:t>syntactic lay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8080" y="2895480"/>
              <a:ext cx="1905120" cy="6858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0000"/>
                  </a:solidFill>
                  <a:latin typeface="Tahoma"/>
                </a:rPr>
                <a:t>semantic lay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3505320"/>
              <a:ext cx="160020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ahoma"/>
                </a:rPr>
                <a:t>linking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ahoma"/>
                </a:rPr>
                <a:t>condition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48" name=""/>
            <p:cNvCxnSpPr>
              <a:stCxn id="444" idx="0"/>
              <a:endCxn id="445" idx="2"/>
            </p:cNvCxnSpPr>
            <p:nvPr/>
          </p:nvCxnSpPr>
          <p:spPr>
            <a:xfrm flipV="1">
              <a:off x="1790280" y="4876560"/>
              <a:ext cx="1080" cy="4579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449" name=""/>
            <p:cNvCxnSpPr>
              <a:stCxn id="445" idx="0"/>
              <a:endCxn id="446" idx="2"/>
            </p:cNvCxnSpPr>
            <p:nvPr/>
          </p:nvCxnSpPr>
          <p:spPr>
            <a:xfrm flipV="1">
              <a:off x="1790280" y="3580560"/>
              <a:ext cx="1080" cy="6865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450" name=""/>
            <p:cNvCxnSpPr>
              <a:stCxn id="447" idx="0"/>
              <a:endCxn id="446" idx="3"/>
            </p:cNvCxnSpPr>
            <p:nvPr/>
          </p:nvCxnSpPr>
          <p:spPr>
            <a:xfrm flipV="1" rot="16200000">
              <a:off x="3047760" y="2932920"/>
              <a:ext cx="267120" cy="87696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47" idx="2"/>
              <a:endCxn id="445" idx="3"/>
            </p:cNvCxnSpPr>
            <p:nvPr/>
          </p:nvCxnSpPr>
          <p:spPr>
            <a:xfrm rot="5400000">
              <a:off x="3028320" y="3981240"/>
              <a:ext cx="305640" cy="87696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sp>
          <p:nvSpPr>
            <p:cNvPr id="452" name=""/>
            <p:cNvSpPr/>
            <p:nvPr/>
          </p:nvSpPr>
          <p:spPr>
            <a:xfrm>
              <a:off x="2825640" y="5867280"/>
              <a:ext cx="1540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Tahoma"/>
                </a:rPr>
                <a:t>mono-Mi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590920" y="1828800"/>
            <a:ext cx="5448240" cy="1828800"/>
            <a:chOff x="2590920" y="1828800"/>
            <a:chExt cx="5448240" cy="1828800"/>
          </a:xfrm>
        </p:grpSpPr>
        <p:sp>
          <p:nvSpPr>
            <p:cNvPr id="454" name=""/>
            <p:cNvSpPr/>
            <p:nvPr/>
          </p:nvSpPr>
          <p:spPr>
            <a:xfrm>
              <a:off x="4724280" y="1828800"/>
              <a:ext cx="2133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Tahoma"/>
                </a:rPr>
                <a:t>multi-MI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43" idx="0"/>
              <a:endCxn id="454" idx="1"/>
            </p:cNvCxnSpPr>
            <p:nvPr/>
          </p:nvCxnSpPr>
          <p:spPr>
            <a:xfrm flipH="1" flipV="1" rot="5400000">
              <a:off x="3409920" y="1352160"/>
              <a:ext cx="495720" cy="213408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456" name=""/>
            <p:cNvCxnSpPr>
              <a:stCxn id="454" idx="3"/>
              <a:endCxn id="457" idx="0"/>
            </p:cNvCxnSpPr>
            <p:nvPr/>
          </p:nvCxnSpPr>
          <p:spPr>
            <a:xfrm>
              <a:off x="6857640" y="2171520"/>
              <a:ext cx="1181880" cy="49572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458" name=""/>
            <p:cNvSpPr/>
            <p:nvPr/>
          </p:nvSpPr>
          <p:spPr>
            <a:xfrm>
              <a:off x="4724280" y="2514600"/>
              <a:ext cx="213372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ahoma"/>
                </a:rPr>
                <a:t>multilingua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ahoma"/>
                </a:rPr>
                <a:t>correspondenc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ahoma"/>
                </a:rPr>
                <a:t>condition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086600" y="2666880"/>
            <a:ext cx="1905120" cy="3733920"/>
            <a:chOff x="7086600" y="2666880"/>
            <a:chExt cx="1905120" cy="3733920"/>
          </a:xfrm>
        </p:grpSpPr>
        <p:sp>
          <p:nvSpPr>
            <p:cNvPr id="457" name=""/>
            <p:cNvSpPr/>
            <p:nvPr/>
          </p:nvSpPr>
          <p:spPr>
            <a:xfrm>
              <a:off x="7086600" y="2666880"/>
              <a:ext cx="1905120" cy="3733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92880" y="5842080"/>
              <a:ext cx="1540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Tahoma"/>
                </a:rPr>
                <a:t>mono-Mi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648320" y="4267080"/>
            <a:ext cx="22096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ahoma"/>
              </a:rPr>
              <a:t>multiple levels of modular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he Mono-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Each monolingual layer identifies a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basic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uni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of lexical descrip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5715000"/>
            <a:ext cx="2361960" cy="533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ececdb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morphological lay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5486400"/>
            <a:ext cx="1066680" cy="990720"/>
          </a:xfrm>
          <a:prstGeom prst="hexagon">
            <a:avLst>
              <a:gd name="adj" fmla="val 26917"/>
              <a:gd name="vf" fmla="val 115470"/>
            </a:avLst>
          </a:prstGeom>
          <a:gradFill rotWithShape="0">
            <a:gsLst>
              <a:gs pos="0">
                <a:srgbClr val="db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48520" y="5234040"/>
            <a:ext cx="273024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2791"/>
              <a:gd name="adj5" fmla="val 35736"/>
              <a:gd name="adj6" fmla="val -21208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basic unit to describe the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inflectional and derivational morphological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 properties of the wor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4" idx="3"/>
            <a:endCxn id="465" idx="1"/>
          </p:cNvCxnSpPr>
          <p:nvPr/>
        </p:nvCxnSpPr>
        <p:spPr>
          <a:xfrm>
            <a:off x="3581280" y="5981400"/>
            <a:ext cx="106776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1371600" y="4343400"/>
            <a:ext cx="2057400" cy="533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ececdb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yntactic lay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9" name=""/>
          <p:cNvCxnSpPr>
            <a:stCxn id="468" idx="2"/>
            <a:endCxn id="464" idx="0"/>
          </p:cNvCxnSpPr>
          <p:nvPr/>
        </p:nvCxnSpPr>
        <p:spPr>
          <a:xfrm>
            <a:off x="2400120" y="4876920"/>
            <a:ext cx="1080" cy="83880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4648320" y="4114800"/>
            <a:ext cx="1066680" cy="990720"/>
          </a:xfrm>
          <a:prstGeom prst="hexagon">
            <a:avLst>
              <a:gd name="adj" fmla="val 26917"/>
              <a:gd name="vf" fmla="val 115470"/>
            </a:avLst>
          </a:prstGeom>
          <a:gradFill rotWithShape="0">
            <a:gsLst>
              <a:gs pos="0">
                <a:srgbClr val="006e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yn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61120" y="3813120"/>
            <a:ext cx="2730600" cy="91692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-2791"/>
              <a:gd name="adj5" fmla="val 59652"/>
              <a:gd name="adj6" fmla="val -21208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basic unit to describe the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syntactic behavior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 of the MU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70" idx="1"/>
          </p:cNvCxnSpPr>
          <p:nvPr/>
        </p:nvCxnSpPr>
        <p:spPr>
          <a:xfrm>
            <a:off x="3428640" y="4609800"/>
            <a:ext cx="122004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1371600" y="3048120"/>
            <a:ext cx="2057400" cy="53316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ececdb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mantic lay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73" idx="2"/>
            <a:endCxn id="468" idx="0"/>
          </p:cNvCxnSpPr>
          <p:nvPr/>
        </p:nvCxnSpPr>
        <p:spPr>
          <a:xfrm>
            <a:off x="2400120" y="3580920"/>
            <a:ext cx="1080" cy="76284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4572000" y="2819520"/>
            <a:ext cx="1066680" cy="990360"/>
          </a:xfrm>
          <a:prstGeom prst="hexagon">
            <a:avLst>
              <a:gd name="adj" fmla="val 26927"/>
              <a:gd name="vf" fmla="val 115470"/>
            </a:avLst>
          </a:prstGeom>
          <a:gradFill rotWithShape="0">
            <a:gsLst>
              <a:gs pos="0">
                <a:srgbClr val="003366"/>
              </a:gs>
              <a:gs pos="100000">
                <a:srgbClr val="42688d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em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248520" y="2514600"/>
            <a:ext cx="2730240" cy="91692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-2791"/>
              <a:gd name="adj5" fmla="val 44893"/>
              <a:gd name="adj6" fmla="val -26324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basic unit to describe the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semantic properties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 of the MU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73" idx="3"/>
            <a:endCxn id="475" idx="1"/>
          </p:cNvCxnSpPr>
          <p:nvPr/>
        </p:nvCxnSpPr>
        <p:spPr>
          <a:xfrm>
            <a:off x="3428640" y="3314520"/>
            <a:ext cx="114372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alk 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3366"/>
                </a:solidFill>
                <a:uFillTx/>
                <a:latin typeface="Times New Roman"/>
              </a:rPr>
              <a:t>First Par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The MILE Lexical Model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– general approach and desig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3366"/>
                </a:solidFill>
                <a:uFillTx/>
                <a:latin typeface="Times New Roman"/>
              </a:rPr>
              <a:t>Second Par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DF Instantiation of th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ILE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Lexical Model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– A first experi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he Mono-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47920" y="2971800"/>
            <a:ext cx="838080" cy="762120"/>
          </a:xfrm>
          <a:prstGeom prst="hexagon">
            <a:avLst>
              <a:gd name="adj" fmla="val 27492"/>
              <a:gd name="vf" fmla="val 115470"/>
            </a:avLst>
          </a:prstGeom>
          <a:gradFill rotWithShape="0">
            <a:gsLst>
              <a:gs pos="0">
                <a:srgbClr val="db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285640" y="2514600"/>
            <a:ext cx="2514960" cy="1905120"/>
            <a:chOff x="2285640" y="2514600"/>
            <a:chExt cx="2514960" cy="1905120"/>
          </a:xfrm>
        </p:grpSpPr>
        <p:sp>
          <p:nvSpPr>
            <p:cNvPr id="481" name=""/>
            <p:cNvSpPr/>
            <p:nvPr/>
          </p:nvSpPr>
          <p:spPr>
            <a:xfrm>
              <a:off x="3200400" y="2514600"/>
              <a:ext cx="838080" cy="762120"/>
            </a:xfrm>
            <a:prstGeom prst="hexagon">
              <a:avLst>
                <a:gd name="adj" fmla="val 27492"/>
                <a:gd name="vf" fmla="val 115470"/>
              </a:avLst>
            </a:prstGeom>
            <a:gradFill rotWithShape="0">
              <a:gsLst>
                <a:gs pos="0">
                  <a:srgbClr val="006e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ynU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29000" y="2895480"/>
              <a:ext cx="838080" cy="762120"/>
            </a:xfrm>
            <a:prstGeom prst="hexagon">
              <a:avLst>
                <a:gd name="adj" fmla="val 27492"/>
                <a:gd name="vf" fmla="val 115470"/>
              </a:avLst>
            </a:prstGeom>
            <a:gradFill rotWithShape="0">
              <a:gsLst>
                <a:gs pos="0">
                  <a:srgbClr val="006e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ynU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33920" y="3276720"/>
              <a:ext cx="838080" cy="76176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6e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ynU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84" name=""/>
            <p:cNvCxnSpPr>
              <a:stCxn id="479" idx="3"/>
              <a:endCxn id="481" idx="1"/>
            </p:cNvCxnSpPr>
            <p:nvPr/>
          </p:nvCxnSpPr>
          <p:spPr>
            <a:xfrm flipV="1">
              <a:off x="2286000" y="2895120"/>
              <a:ext cx="915120" cy="4579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485" name=""/>
            <p:cNvCxnSpPr>
              <a:stCxn id="479" idx="3"/>
              <a:endCxn id="486" idx="1"/>
            </p:cNvCxnSpPr>
            <p:nvPr/>
          </p:nvCxnSpPr>
          <p:spPr>
            <a:xfrm>
              <a:off x="2285640" y="3352320"/>
              <a:ext cx="1677240" cy="6865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487" name=""/>
            <p:cNvCxnSpPr>
              <a:stCxn id="479" idx="3"/>
              <a:endCxn id="482" idx="1"/>
            </p:cNvCxnSpPr>
            <p:nvPr/>
          </p:nvCxnSpPr>
          <p:spPr>
            <a:xfrm flipV="1">
              <a:off x="2285640" y="3276000"/>
              <a:ext cx="1143720" cy="766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488" name=""/>
            <p:cNvCxnSpPr>
              <a:stCxn id="479" idx="3"/>
              <a:endCxn id="483" idx="1"/>
            </p:cNvCxnSpPr>
            <p:nvPr/>
          </p:nvCxnSpPr>
          <p:spPr>
            <a:xfrm>
              <a:off x="2286000" y="3352320"/>
              <a:ext cx="1448640" cy="30564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486" name=""/>
            <p:cNvSpPr/>
            <p:nvPr/>
          </p:nvSpPr>
          <p:spPr>
            <a:xfrm>
              <a:off x="3962520" y="3657600"/>
              <a:ext cx="838080" cy="762120"/>
            </a:xfrm>
            <a:prstGeom prst="hexagon">
              <a:avLst>
                <a:gd name="adj" fmla="val 27492"/>
                <a:gd name="vf" fmla="val 115470"/>
              </a:avLst>
            </a:prstGeom>
            <a:gradFill rotWithShape="0">
              <a:gsLst>
                <a:gs pos="0">
                  <a:srgbClr val="006e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ynU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38120" y="2209680"/>
            <a:ext cx="4725000" cy="2743200"/>
            <a:chOff x="4038120" y="2209680"/>
            <a:chExt cx="4725000" cy="2743200"/>
          </a:xfrm>
        </p:grpSpPr>
        <p:grpSp>
          <p:nvGrpSpPr>
            <p:cNvPr id="490" name=""/>
            <p:cNvGrpSpPr/>
            <p:nvPr/>
          </p:nvGrpSpPr>
          <p:grpSpPr>
            <a:xfrm>
              <a:off x="4038120" y="2209680"/>
              <a:ext cx="4725000" cy="2743200"/>
              <a:chOff x="4038120" y="2209680"/>
              <a:chExt cx="4725000" cy="2743200"/>
            </a:xfrm>
          </p:grpSpPr>
          <p:sp>
            <p:nvSpPr>
              <p:cNvPr id="491" name=""/>
              <p:cNvSpPr/>
              <p:nvPr/>
            </p:nvSpPr>
            <p:spPr>
              <a:xfrm>
                <a:off x="6172200" y="2209680"/>
                <a:ext cx="838080" cy="762120"/>
              </a:xfrm>
              <a:prstGeom prst="hexagon">
                <a:avLst>
                  <a:gd name="adj" fmla="val 27492"/>
                  <a:gd name="vf" fmla="val 115470"/>
                </a:avLst>
              </a:prstGeom>
              <a:gradFill rotWithShape="0">
                <a:gsLst>
                  <a:gs pos="0">
                    <a:srgbClr val="002b57"/>
                  </a:gs>
                  <a:gs pos="100000">
                    <a:srgbClr val="003366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em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477120" y="2514600"/>
                <a:ext cx="838080" cy="762120"/>
              </a:xfrm>
              <a:prstGeom prst="hexagon">
                <a:avLst>
                  <a:gd name="adj" fmla="val 27492"/>
                  <a:gd name="vf" fmla="val 115470"/>
                </a:avLst>
              </a:prstGeom>
              <a:gradFill rotWithShape="0">
                <a:gsLst>
                  <a:gs pos="0">
                    <a:srgbClr val="002b57"/>
                  </a:gs>
                  <a:gs pos="100000">
                    <a:srgbClr val="003366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em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05720" y="2819520"/>
                <a:ext cx="838080" cy="761760"/>
              </a:xfrm>
              <a:prstGeom prst="hexagon">
                <a:avLst>
                  <a:gd name="adj" fmla="val 27505"/>
                  <a:gd name="vf" fmla="val 115470"/>
                </a:avLst>
              </a:prstGeom>
              <a:gradFill rotWithShape="0">
                <a:gsLst>
                  <a:gs pos="0">
                    <a:srgbClr val="002b57"/>
                  </a:gs>
                  <a:gs pos="100000">
                    <a:srgbClr val="003366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em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10280" y="3200400"/>
                <a:ext cx="838440" cy="762120"/>
              </a:xfrm>
              <a:prstGeom prst="hexagon">
                <a:avLst>
                  <a:gd name="adj" fmla="val 27504"/>
                  <a:gd name="vf" fmla="val 115470"/>
                </a:avLst>
              </a:prstGeom>
              <a:gradFill rotWithShape="0">
                <a:gsLst>
                  <a:gs pos="0">
                    <a:srgbClr val="002b57"/>
                  </a:gs>
                  <a:gs pos="100000">
                    <a:srgbClr val="003366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em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15200" y="3505320"/>
                <a:ext cx="838080" cy="761760"/>
              </a:xfrm>
              <a:prstGeom prst="hexagon">
                <a:avLst>
                  <a:gd name="adj" fmla="val 27505"/>
                  <a:gd name="vf" fmla="val 115470"/>
                </a:avLst>
              </a:prstGeom>
              <a:gradFill rotWithShape="0">
                <a:gsLst>
                  <a:gs pos="0">
                    <a:srgbClr val="002b57"/>
                  </a:gs>
                  <a:gs pos="100000">
                    <a:srgbClr val="003366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em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620120" y="3809880"/>
                <a:ext cx="838080" cy="762120"/>
              </a:xfrm>
              <a:prstGeom prst="hexagon">
                <a:avLst>
                  <a:gd name="adj" fmla="val 27492"/>
                  <a:gd name="vf" fmla="val 115470"/>
                </a:avLst>
              </a:prstGeom>
              <a:gradFill rotWithShape="0">
                <a:gsLst>
                  <a:gs pos="0">
                    <a:srgbClr val="002b57"/>
                  </a:gs>
                  <a:gs pos="100000">
                    <a:srgbClr val="003366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em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24680" y="4191120"/>
                <a:ext cx="838440" cy="761760"/>
              </a:xfrm>
              <a:prstGeom prst="hexagon">
                <a:avLst>
                  <a:gd name="adj" fmla="val 27517"/>
                  <a:gd name="vf" fmla="val 115470"/>
                </a:avLst>
              </a:prstGeom>
              <a:gradFill rotWithShape="0">
                <a:gsLst>
                  <a:gs pos="0">
                    <a:srgbClr val="002b57"/>
                  </a:gs>
                  <a:gs pos="100000">
                    <a:srgbClr val="003366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em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cxnSp>
            <p:nvCxnSpPr>
              <p:cNvPr id="498" name=""/>
              <p:cNvCxnSpPr/>
              <p:nvPr/>
            </p:nvCxnSpPr>
            <p:spPr>
              <a:xfrm flipV="1">
                <a:off x="4038120" y="2590560"/>
                <a:ext cx="2134440" cy="3052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499" name=""/>
              <p:cNvCxnSpPr/>
              <p:nvPr/>
            </p:nvCxnSpPr>
            <p:spPr>
              <a:xfrm>
                <a:off x="4038120" y="2895120"/>
                <a:ext cx="2972520" cy="68652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500" name=""/>
              <p:cNvCxnSpPr/>
              <p:nvPr/>
            </p:nvCxnSpPr>
            <p:spPr>
              <a:xfrm flipV="1">
                <a:off x="4266720" y="2894760"/>
                <a:ext cx="2210760" cy="38196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501" name=""/>
              <p:cNvCxnSpPr/>
              <p:nvPr/>
            </p:nvCxnSpPr>
            <p:spPr>
              <a:xfrm flipV="1">
                <a:off x="4267080" y="3200400"/>
                <a:ext cx="2439000" cy="766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502" name=""/>
              <p:cNvCxnSpPr>
                <a:stCxn id="483" idx="3"/>
                <a:endCxn id="496" idx="1"/>
              </p:cNvCxnSpPr>
              <p:nvPr/>
            </p:nvCxnSpPr>
            <p:spPr>
              <a:xfrm>
                <a:off x="4571640" y="3657600"/>
                <a:ext cx="3048840" cy="53424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503" name=""/>
              <p:cNvCxnSpPr/>
              <p:nvPr/>
            </p:nvCxnSpPr>
            <p:spPr>
              <a:xfrm flipV="1">
                <a:off x="4571640" y="3200040"/>
                <a:ext cx="2134440" cy="45792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504" name=""/>
              <p:cNvCxnSpPr/>
              <p:nvPr/>
            </p:nvCxnSpPr>
            <p:spPr>
              <a:xfrm flipV="1">
                <a:off x="4571640" y="2590200"/>
                <a:ext cx="1600920" cy="106740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505" name=""/>
              <p:cNvCxnSpPr>
                <a:stCxn id="486" idx="3"/>
                <a:endCxn id="495" idx="1"/>
              </p:cNvCxnSpPr>
              <p:nvPr/>
            </p:nvCxnSpPr>
            <p:spPr>
              <a:xfrm flipV="1">
                <a:off x="4800240" y="3885480"/>
                <a:ext cx="2515320" cy="15300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  <p:cxnSp>
            <p:nvCxnSpPr>
              <p:cNvPr id="506" name=""/>
              <p:cNvCxnSpPr>
                <a:stCxn id="486" idx="3"/>
                <a:endCxn id="497" idx="1"/>
              </p:cNvCxnSpPr>
              <p:nvPr/>
            </p:nvCxnSpPr>
            <p:spPr>
              <a:xfrm>
                <a:off x="4800600" y="4038480"/>
                <a:ext cx="3124800" cy="53424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miter/>
              </a:ln>
            </p:spPr>
          </p:cxnSp>
        </p:grpSp>
        <p:cxnSp>
          <p:nvCxnSpPr>
            <p:cNvPr id="507" name=""/>
            <p:cNvCxnSpPr>
              <a:stCxn id="486" idx="3"/>
              <a:endCxn id="496" idx="1"/>
            </p:cNvCxnSpPr>
            <p:nvPr/>
          </p:nvCxnSpPr>
          <p:spPr>
            <a:xfrm>
              <a:off x="4800600" y="4038480"/>
              <a:ext cx="2820240" cy="1533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</p:grpSp>
      <p:cxnSp>
        <p:nvCxnSpPr>
          <p:cNvPr id="508" name=""/>
          <p:cNvCxnSpPr>
            <a:stCxn id="479" idx="2"/>
            <a:endCxn id="497" idx="2"/>
          </p:cNvCxnSpPr>
          <p:nvPr/>
        </p:nvCxnSpPr>
        <p:spPr>
          <a:xfrm flipH="1" rot="16200000">
            <a:off x="4496040" y="1104480"/>
            <a:ext cx="1219680" cy="6477840"/>
          </a:xfrm>
          <a:prstGeom prst="bentConnector3">
            <a:avLst>
              <a:gd name="adj1" fmla="val 118748"/>
            </a:avLst>
          </a:prstGeom>
          <a:ln w="28440">
            <a:solidFill>
              <a:srgbClr val="003366"/>
            </a:solidFill>
            <a:prstDash val="sysDot"/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yntax-Semantics Lin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2286000"/>
            <a:ext cx="22860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rrespSynUSem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505320" y="3657600"/>
            <a:ext cx="1676160" cy="1523880"/>
            <a:chOff x="3505320" y="3657600"/>
            <a:chExt cx="1676160" cy="1523880"/>
          </a:xfrm>
        </p:grpSpPr>
        <p:sp>
          <p:nvSpPr>
            <p:cNvPr id="512" name=""/>
            <p:cNvSpPr/>
            <p:nvPr/>
          </p:nvSpPr>
          <p:spPr>
            <a:xfrm>
              <a:off x="3505320" y="3657600"/>
              <a:ext cx="1676160" cy="1523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a8b9ca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linkin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19440" y="4392720"/>
              <a:ext cx="1447920" cy="78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Slot_0:Arg_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Slot_1:Arg_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477120" y="2362320"/>
            <a:ext cx="1523880" cy="2819160"/>
            <a:chOff x="6477120" y="2362320"/>
            <a:chExt cx="1523880" cy="2819160"/>
          </a:xfrm>
        </p:grpSpPr>
        <p:sp>
          <p:nvSpPr>
            <p:cNvPr id="515" name=""/>
            <p:cNvSpPr/>
            <p:nvPr/>
          </p:nvSpPr>
          <p:spPr>
            <a:xfrm>
              <a:off x="6553080" y="3505320"/>
              <a:ext cx="1371600" cy="1676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77120" y="2362320"/>
              <a:ext cx="1523880" cy="53316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</a:rPr>
                <a:t>SemU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67560" y="3733920"/>
              <a:ext cx="11430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</a:rPr>
                <a:t>Predicat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56920" y="4267080"/>
              <a:ext cx="764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Arg_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56920" y="4729320"/>
              <a:ext cx="764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Arg_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520" name=""/>
            <p:cNvCxnSpPr>
              <a:stCxn id="516" idx="2"/>
              <a:endCxn id="515" idx="0"/>
            </p:cNvCxnSpPr>
            <p:nvPr/>
          </p:nvCxnSpPr>
          <p:spPr>
            <a:xfrm>
              <a:off x="7238520" y="2895480"/>
              <a:ext cx="1080" cy="6105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</p:grpSp>
      <p:grpSp>
        <p:nvGrpSpPr>
          <p:cNvPr id="521" name=""/>
          <p:cNvGrpSpPr/>
          <p:nvPr/>
        </p:nvGrpSpPr>
        <p:grpSpPr>
          <a:xfrm>
            <a:off x="762120" y="2362320"/>
            <a:ext cx="1523880" cy="2819160"/>
            <a:chOff x="762120" y="2362320"/>
            <a:chExt cx="1523880" cy="2819160"/>
          </a:xfrm>
        </p:grpSpPr>
        <p:sp>
          <p:nvSpPr>
            <p:cNvPr id="522" name=""/>
            <p:cNvSpPr/>
            <p:nvPr/>
          </p:nvSpPr>
          <p:spPr>
            <a:xfrm>
              <a:off x="990720" y="3505320"/>
              <a:ext cx="1066680" cy="1676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2362320"/>
              <a:ext cx="1523880" cy="53316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</a:rPr>
                <a:t>SynU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19320" y="373392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</a:rPr>
                <a:t>Self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34720" y="4653000"/>
              <a:ext cx="77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Slot_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526" name=""/>
            <p:cNvCxnSpPr>
              <a:stCxn id="523" idx="2"/>
              <a:endCxn id="522" idx="0"/>
            </p:cNvCxnSpPr>
            <p:nvPr/>
          </p:nvCxnSpPr>
          <p:spPr>
            <a:xfrm>
              <a:off x="1523520" y="2895480"/>
              <a:ext cx="1080" cy="61056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527" name=""/>
            <p:cNvSpPr/>
            <p:nvPr/>
          </p:nvSpPr>
          <p:spPr>
            <a:xfrm>
              <a:off x="1134720" y="4191120"/>
              <a:ext cx="77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Slot_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cxnSp>
        <p:nvCxnSpPr>
          <p:cNvPr id="528" name=""/>
          <p:cNvCxnSpPr/>
          <p:nvPr/>
        </p:nvCxnSpPr>
        <p:spPr>
          <a:xfrm>
            <a:off x="1919160" y="4379400"/>
            <a:ext cx="1586880" cy="4068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529" name=""/>
          <p:cNvCxnSpPr/>
          <p:nvPr/>
        </p:nvCxnSpPr>
        <p:spPr>
          <a:xfrm flipV="1">
            <a:off x="1919160" y="4419000"/>
            <a:ext cx="1586880" cy="42300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530" name=""/>
          <p:cNvCxnSpPr>
            <a:stCxn id="518" idx="1"/>
            <a:endCxn id="512" idx="3"/>
          </p:cNvCxnSpPr>
          <p:nvPr/>
        </p:nvCxnSpPr>
        <p:spPr>
          <a:xfrm flipH="1" flipV="1">
            <a:off x="5180760" y="4419000"/>
            <a:ext cx="1669320" cy="3708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531" name=""/>
          <p:cNvCxnSpPr>
            <a:stCxn id="519" idx="1"/>
            <a:endCxn id="512" idx="3"/>
          </p:cNvCxnSpPr>
          <p:nvPr/>
        </p:nvCxnSpPr>
        <p:spPr>
          <a:xfrm flipH="1" flipV="1">
            <a:off x="5180760" y="4419360"/>
            <a:ext cx="1669320" cy="4989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532" name=""/>
          <p:cNvCxnSpPr>
            <a:stCxn id="523" idx="3"/>
            <a:endCxn id="510" idx="1"/>
          </p:cNvCxnSpPr>
          <p:nvPr/>
        </p:nvCxnSpPr>
        <p:spPr>
          <a:xfrm>
            <a:off x="2286000" y="2628720"/>
            <a:ext cx="915120" cy="108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533" name=""/>
          <p:cNvCxnSpPr>
            <a:stCxn id="510" idx="3"/>
            <a:endCxn id="516" idx="1"/>
          </p:cNvCxnSpPr>
          <p:nvPr/>
        </p:nvCxnSpPr>
        <p:spPr>
          <a:xfrm>
            <a:off x="5486400" y="2628720"/>
            <a:ext cx="991440" cy="108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534" name=""/>
          <p:cNvCxnSpPr>
            <a:stCxn id="510" idx="2"/>
            <a:endCxn id="512" idx="0"/>
          </p:cNvCxnSpPr>
          <p:nvPr/>
        </p:nvCxnSpPr>
        <p:spPr>
          <a:xfrm>
            <a:off x="4343040" y="2971440"/>
            <a:ext cx="1080" cy="68652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grpSp>
        <p:nvGrpSpPr>
          <p:cNvPr id="535" name=""/>
          <p:cNvGrpSpPr/>
          <p:nvPr/>
        </p:nvGrpSpPr>
        <p:grpSpPr>
          <a:xfrm>
            <a:off x="1523520" y="5181120"/>
            <a:ext cx="7544160" cy="1514160"/>
            <a:chOff x="1523520" y="5181120"/>
            <a:chExt cx="7544160" cy="1514160"/>
          </a:xfrm>
        </p:grpSpPr>
        <p:sp>
          <p:nvSpPr>
            <p:cNvPr id="536" name=""/>
            <p:cNvSpPr/>
            <p:nvPr/>
          </p:nvSpPr>
          <p:spPr>
            <a:xfrm>
              <a:off x="3505320" y="5181480"/>
              <a:ext cx="1676160" cy="1067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filte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&amp;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condi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6" idx="1"/>
              <a:endCxn id="522" idx="2"/>
            </p:cNvCxnSpPr>
            <p:nvPr/>
          </p:nvCxnSpPr>
          <p:spPr>
            <a:xfrm rot="10800000">
              <a:off x="1523160" y="5180760"/>
              <a:ext cx="1982160" cy="53424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38" name=""/>
            <p:cNvCxnSpPr>
              <a:stCxn id="536" idx="3"/>
              <a:endCxn id="515" idx="2"/>
            </p:cNvCxnSpPr>
            <p:nvPr/>
          </p:nvCxnSpPr>
          <p:spPr>
            <a:xfrm flipV="1">
              <a:off x="5181120" y="5181120"/>
              <a:ext cx="2057760" cy="53424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539" name=""/>
            <p:cNvSpPr/>
            <p:nvPr/>
          </p:nvSpPr>
          <p:spPr>
            <a:xfrm>
              <a:off x="6705720" y="5778360"/>
              <a:ext cx="2361960" cy="916920"/>
            </a:xfrm>
            <a:prstGeom prst="borderCallout2">
              <a:avLst>
                <a:gd name="adj1" fmla="val 18750"/>
                <a:gd name="adj2" fmla="val -8333"/>
                <a:gd name="adj3" fmla="val 12351"/>
                <a:gd name="adj4" fmla="val -31787"/>
                <a:gd name="adj5" fmla="val 6393"/>
                <a:gd name="adj6" fmla="val -61412"/>
              </a:avLst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Expressed by pointing to syntactic and semantic element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he Multi-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ulti-MILE specifies a formal environment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 expres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ultilingual corresponde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urce and target lexical entries can be linked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a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ansfer-based condition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onolingual descriptions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are used to state complex correspondences (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ests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ctions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onolingual lexicons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ct a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ivot lexical repositori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on top of which language-to-language multilingual modules can be defi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rlingua-based multlingual links can be expressed by defining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anguage-independent lexical object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e.g. semantic frames, synsets, etc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ultilingual Oper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9280" y="1828800"/>
            <a:ext cx="833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ource-to-target languag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transfer condition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can be expressed by combining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ultilingual op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hree types of multilingual operation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Multilingual correspond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Link a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ource 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lexical object (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MU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emU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ynU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emantic Argument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yntactic Slot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) and a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target 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lexical object (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MU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 SemU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ynU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emantic argument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syntactic slot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Add-oper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dd lexical information relevant for the cross-lingual link, which is lacking in the source or target mono-MI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Constrain-oper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onstrain the transfer link by forcing or inhibiting  some parts of the source and target mono-MILE when entering into the multi-MI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762120" y="1828800"/>
            <a:ext cx="2514600" cy="4574880"/>
            <a:chOff x="762120" y="1828800"/>
            <a:chExt cx="2514600" cy="4574880"/>
          </a:xfrm>
        </p:grpSpPr>
        <p:sp>
          <p:nvSpPr>
            <p:cNvPr id="545" name=""/>
            <p:cNvSpPr/>
            <p:nvPr/>
          </p:nvSpPr>
          <p:spPr>
            <a:xfrm>
              <a:off x="762120" y="1828800"/>
              <a:ext cx="2514600" cy="4495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23880" y="4572000"/>
              <a:ext cx="914400" cy="91440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db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U_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95560" y="3276720"/>
              <a:ext cx="990720" cy="838080"/>
            </a:xfrm>
            <a:prstGeom prst="hexagon">
              <a:avLst>
                <a:gd name="adj" fmla="val 29553"/>
                <a:gd name="vf" fmla="val 115470"/>
              </a:avLst>
            </a:prstGeom>
            <a:gradFill rotWithShape="0">
              <a:gsLst>
                <a:gs pos="0">
                  <a:srgbClr val="006e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ynU_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7400" y="2057400"/>
              <a:ext cx="1066680" cy="914400"/>
            </a:xfrm>
            <a:prstGeom prst="hexagon">
              <a:avLst>
                <a:gd name="adj" fmla="val 29163"/>
                <a:gd name="vf" fmla="val 115470"/>
              </a:avLst>
            </a:prstGeom>
            <a:gradFill rotWithShape="0">
              <a:gsLst>
                <a:gs pos="0">
                  <a:srgbClr val="002b57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emU_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52560" y="3276720"/>
              <a:ext cx="990720" cy="838080"/>
            </a:xfrm>
            <a:prstGeom prst="hexagon">
              <a:avLst>
                <a:gd name="adj" fmla="val 29553"/>
                <a:gd name="vf" fmla="val 115470"/>
              </a:avLst>
            </a:prstGeom>
            <a:gradFill rotWithShape="0">
              <a:gsLst>
                <a:gs pos="0">
                  <a:srgbClr val="006e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ynU_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14400" y="2057400"/>
              <a:ext cx="1066680" cy="914400"/>
            </a:xfrm>
            <a:prstGeom prst="hexagon">
              <a:avLst>
                <a:gd name="adj" fmla="val 29163"/>
                <a:gd name="vf" fmla="val 115470"/>
              </a:avLst>
            </a:prstGeom>
            <a:gradFill rotWithShape="0">
              <a:gsLst>
                <a:gs pos="0">
                  <a:srgbClr val="002b57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emU_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551" name=""/>
            <p:cNvCxnSpPr>
              <a:stCxn id="546" idx="0"/>
              <a:endCxn id="547" idx="2"/>
            </p:cNvCxnSpPr>
            <p:nvPr/>
          </p:nvCxnSpPr>
          <p:spPr>
            <a:xfrm flipV="1">
              <a:off x="1981080" y="4114440"/>
              <a:ext cx="610560" cy="4579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52" name=""/>
            <p:cNvCxnSpPr>
              <a:stCxn id="546" idx="0"/>
              <a:endCxn id="549" idx="2"/>
            </p:cNvCxnSpPr>
            <p:nvPr/>
          </p:nvCxnSpPr>
          <p:spPr>
            <a:xfrm flipH="1" flipV="1">
              <a:off x="1447200" y="4114440"/>
              <a:ext cx="533880" cy="4579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53" name=""/>
            <p:cNvCxnSpPr>
              <a:stCxn id="547" idx="0"/>
              <a:endCxn id="548" idx="2"/>
            </p:cNvCxnSpPr>
            <p:nvPr/>
          </p:nvCxnSpPr>
          <p:spPr>
            <a:xfrm flipV="1">
              <a:off x="2590560" y="2971080"/>
              <a:ext cx="1080" cy="30564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54" name=""/>
            <p:cNvCxnSpPr>
              <a:stCxn id="547" idx="0"/>
              <a:endCxn id="550" idx="2"/>
            </p:cNvCxnSpPr>
            <p:nvPr/>
          </p:nvCxnSpPr>
          <p:spPr>
            <a:xfrm flipH="1" flipV="1">
              <a:off x="1447200" y="2971080"/>
              <a:ext cx="1143720" cy="30564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55" name=""/>
            <p:cNvCxnSpPr>
              <a:stCxn id="549" idx="0"/>
              <a:endCxn id="550" idx="2"/>
            </p:cNvCxnSpPr>
            <p:nvPr/>
          </p:nvCxnSpPr>
          <p:spPr>
            <a:xfrm flipV="1">
              <a:off x="1447560" y="2971080"/>
              <a:ext cx="1080" cy="30564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556" name=""/>
            <p:cNvSpPr/>
            <p:nvPr/>
          </p:nvSpPr>
          <p:spPr>
            <a:xfrm>
              <a:off x="762120" y="5732640"/>
              <a:ext cx="16002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Italia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mono-MIL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733920" y="1828800"/>
            <a:ext cx="3429000" cy="4559400"/>
            <a:chOff x="3733920" y="1828800"/>
            <a:chExt cx="3429000" cy="4559400"/>
          </a:xfrm>
        </p:grpSpPr>
        <p:sp>
          <p:nvSpPr>
            <p:cNvPr id="558" name=""/>
            <p:cNvSpPr/>
            <p:nvPr/>
          </p:nvSpPr>
          <p:spPr>
            <a:xfrm>
              <a:off x="3733920" y="1828800"/>
              <a:ext cx="3429000" cy="4495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c5c5c5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38480" y="60199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800000"/>
                  </a:solidFill>
                  <a:latin typeface="Times New Roman"/>
                </a:rPr>
                <a:t>IT-to-EN multi-MIL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ultilingual Oper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86200" y="2057400"/>
            <a:ext cx="312408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IT_SemU_2 </a:t>
            </a:r>
            <a:r>
              <a:rPr b="1" lang="it-IT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 En_SemU_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IT_SynU_2 </a:t>
            </a:r>
            <a:r>
              <a:rPr b="1" lang="it-IT" sz="1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 En_SynU_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IT_Slot_0 </a:t>
            </a:r>
            <a:r>
              <a:rPr b="1" lang="it-IT" sz="1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EN_Slot_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IT_Slot_1 </a:t>
            </a:r>
            <a:r>
              <a:rPr b="1" lang="it-IT" sz="1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 EN_Slot_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467480" y="1828800"/>
            <a:ext cx="1600200" cy="4557240"/>
            <a:chOff x="7467480" y="1828800"/>
            <a:chExt cx="1600200" cy="4557240"/>
          </a:xfrm>
        </p:grpSpPr>
        <p:sp>
          <p:nvSpPr>
            <p:cNvPr id="563" name=""/>
            <p:cNvSpPr/>
            <p:nvPr/>
          </p:nvSpPr>
          <p:spPr>
            <a:xfrm>
              <a:off x="7467480" y="1828800"/>
              <a:ext cx="1447920" cy="4495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34240" y="4800600"/>
              <a:ext cx="990720" cy="838080"/>
            </a:xfrm>
            <a:prstGeom prst="hexagon">
              <a:avLst>
                <a:gd name="adj" fmla="val 29553"/>
                <a:gd name="vf" fmla="val 115470"/>
              </a:avLst>
            </a:prstGeom>
            <a:gradFill rotWithShape="0">
              <a:gsLst>
                <a:gs pos="0">
                  <a:srgbClr val="db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U_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34240" y="3429000"/>
              <a:ext cx="990720" cy="838080"/>
            </a:xfrm>
            <a:prstGeom prst="hexagon">
              <a:avLst>
                <a:gd name="adj" fmla="val 29553"/>
                <a:gd name="vf" fmla="val 115470"/>
              </a:avLst>
            </a:prstGeom>
            <a:gradFill rotWithShape="0">
              <a:gsLst>
                <a:gs pos="0">
                  <a:srgbClr val="006e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ynU_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96080" y="2057400"/>
              <a:ext cx="1067040" cy="914400"/>
            </a:xfrm>
            <a:prstGeom prst="hexagon">
              <a:avLst>
                <a:gd name="adj" fmla="val 29173"/>
                <a:gd name="vf" fmla="val 115470"/>
              </a:avLst>
            </a:prstGeom>
            <a:gradFill rotWithShape="0">
              <a:gsLst>
                <a:gs pos="0">
                  <a:srgbClr val="002b57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emU_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67480" y="5715000"/>
              <a:ext cx="16002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English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mono-MIL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568" name=""/>
            <p:cNvCxnSpPr>
              <a:stCxn id="564" idx="0"/>
              <a:endCxn id="565" idx="2"/>
            </p:cNvCxnSpPr>
            <p:nvPr/>
          </p:nvCxnSpPr>
          <p:spPr>
            <a:xfrm flipV="1">
              <a:off x="8229240" y="4266720"/>
              <a:ext cx="1080" cy="53424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569" name=""/>
            <p:cNvCxnSpPr>
              <a:stCxn id="565" idx="0"/>
              <a:endCxn id="566" idx="2"/>
            </p:cNvCxnSpPr>
            <p:nvPr/>
          </p:nvCxnSpPr>
          <p:spPr>
            <a:xfrm flipV="1">
              <a:off x="8229240" y="2971440"/>
              <a:ext cx="1080" cy="4579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</p:grpSp>
      <p:cxnSp>
        <p:nvCxnSpPr>
          <p:cNvPr id="570" name=""/>
          <p:cNvCxnSpPr>
            <a:stCxn id="547" idx="3"/>
            <a:endCxn id="561" idx="1"/>
          </p:cNvCxnSpPr>
          <p:nvPr/>
        </p:nvCxnSpPr>
        <p:spPr>
          <a:xfrm flipV="1">
            <a:off x="3086280" y="2865240"/>
            <a:ext cx="800640" cy="830880"/>
          </a:xfrm>
          <a:prstGeom prst="straightConnector1">
            <a:avLst/>
          </a:prstGeom>
          <a:ln w="28440">
            <a:solidFill>
              <a:srgbClr val="800000"/>
            </a:solidFill>
            <a:miter/>
          </a:ln>
        </p:spPr>
      </p:cxnSp>
      <p:cxnSp>
        <p:nvCxnSpPr>
          <p:cNvPr id="571" name=""/>
          <p:cNvCxnSpPr>
            <a:stCxn id="548" idx="3"/>
            <a:endCxn id="561" idx="1"/>
          </p:cNvCxnSpPr>
          <p:nvPr/>
        </p:nvCxnSpPr>
        <p:spPr>
          <a:xfrm>
            <a:off x="3123720" y="2514240"/>
            <a:ext cx="762840" cy="351360"/>
          </a:xfrm>
          <a:prstGeom prst="straightConnector1">
            <a:avLst/>
          </a:prstGeom>
          <a:ln w="28440">
            <a:solidFill>
              <a:srgbClr val="800000"/>
            </a:solidFill>
            <a:miter/>
          </a:ln>
        </p:spPr>
      </p:cxnSp>
      <p:cxnSp>
        <p:nvCxnSpPr>
          <p:cNvPr id="572" name=""/>
          <p:cNvCxnSpPr>
            <a:stCxn id="561" idx="3"/>
            <a:endCxn id="566" idx="1"/>
          </p:cNvCxnSpPr>
          <p:nvPr/>
        </p:nvCxnSpPr>
        <p:spPr>
          <a:xfrm flipV="1">
            <a:off x="7009920" y="2514240"/>
            <a:ext cx="686520" cy="351360"/>
          </a:xfrm>
          <a:prstGeom prst="straightConnector1">
            <a:avLst/>
          </a:prstGeom>
          <a:ln w="28440">
            <a:solidFill>
              <a:srgbClr val="800000"/>
            </a:solidFill>
            <a:miter/>
          </a:ln>
        </p:spPr>
      </p:cxnSp>
      <p:cxnSp>
        <p:nvCxnSpPr>
          <p:cNvPr id="573" name=""/>
          <p:cNvCxnSpPr>
            <a:stCxn id="561" idx="3"/>
            <a:endCxn id="565" idx="1"/>
          </p:cNvCxnSpPr>
          <p:nvPr/>
        </p:nvCxnSpPr>
        <p:spPr>
          <a:xfrm>
            <a:off x="7009920" y="2865240"/>
            <a:ext cx="724680" cy="983160"/>
          </a:xfrm>
          <a:prstGeom prst="straightConnector1">
            <a:avLst/>
          </a:prstGeom>
          <a:ln w="28440">
            <a:solidFill>
              <a:srgbClr val="800000"/>
            </a:solidFill>
            <a:miter/>
          </a:ln>
        </p:spPr>
      </p:cxnSp>
      <p:sp>
        <p:nvSpPr>
          <p:cNvPr id="574" name=""/>
          <p:cNvSpPr/>
          <p:nvPr/>
        </p:nvSpPr>
        <p:spPr>
          <a:xfrm>
            <a:off x="3886200" y="4191120"/>
            <a:ext cx="31240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AddFeature to source SemU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+HUM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4" idx="1"/>
            <a:endCxn id="548" idx="3"/>
          </p:cNvCxnSpPr>
          <p:nvPr/>
        </p:nvCxnSpPr>
        <p:spPr>
          <a:xfrm rot="10800000">
            <a:off x="3123360" y="2513880"/>
            <a:ext cx="762840" cy="2072520"/>
          </a:xfrm>
          <a:prstGeom prst="bentConnector3">
            <a:avLst>
              <a:gd name="adj1" fmla="val 50000"/>
            </a:avLst>
          </a:prstGeom>
          <a:ln w="284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3886200" y="5181480"/>
            <a:ext cx="31240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AddSlot to target SynU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MODIF [PP_with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6" idx="3"/>
            <a:endCxn id="565" idx="1"/>
          </p:cNvCxnSpPr>
          <p:nvPr/>
        </p:nvCxnSpPr>
        <p:spPr>
          <a:xfrm flipV="1">
            <a:off x="7009920" y="3847680"/>
            <a:ext cx="724680" cy="1729440"/>
          </a:xfrm>
          <a:prstGeom prst="bentConnector3">
            <a:avLst>
              <a:gd name="adj1" fmla="val 50000"/>
            </a:avLst>
          </a:prstGeom>
          <a:ln w="284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he Multi-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ulti-MILE may includ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ultilingual operation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to establish transfer links between source and target mono-M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ultilingual lexical o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nrich the source and target lexical descriptions, b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o not belong to the monolingual lexic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Language-independent lexical o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rimitive semantic frames, “interlingua synsets”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levant for interlingua represent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DF Instantiation of the M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L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able universal access to sophisticated linguistic inform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vide means for inferencing over lexical information to interpret in a specific contex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corporate lexical information into the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mantic We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General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3C standar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source Definition Framework (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DF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ntology Web Language (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W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ilt on the XML web infrastructure to enable the creation of a Semantic Web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b objects are classified according to their proper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emantics of relation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links) to other web objects precisely defi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LE Lexical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deal structure for rendering in RDF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ierarchy of lexical objects built up by combining atomic data categories via clearly defined 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of of concep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eate an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DF schem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for the MILE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Lexical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stantiat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ILE Lexical D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ta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tego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RDF Sch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fines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lasses of object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(MLC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d their relations to other o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ke a class definition in Java, et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asses and relations (properties) in the schema correspond to the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E-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ode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specify sub-classes and inherit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eagles_normal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61040" y="1938240"/>
            <a:ext cx="1459080" cy="1185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94" name=""/>
          <p:cNvSpPr/>
          <p:nvPr/>
        </p:nvSpPr>
        <p:spPr>
          <a:xfrm>
            <a:off x="3352680" y="19652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AGLES guidelines for syntactic and semantic lexic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762120" y="2666880"/>
            <a:ext cx="2361960" cy="9907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ececdb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GENELE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3809880"/>
            <a:ext cx="2361960" cy="2132280"/>
            <a:chOff x="762120" y="3809880"/>
            <a:chExt cx="2361960" cy="2132280"/>
          </a:xfrm>
        </p:grpSpPr>
        <p:sp>
          <p:nvSpPr>
            <p:cNvPr id="297" name=""/>
            <p:cNvSpPr/>
            <p:nvPr/>
          </p:nvSpPr>
          <p:spPr>
            <a:xfrm>
              <a:off x="762120" y="3809880"/>
              <a:ext cx="2361960" cy="9907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PAROLE-SIMP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Lexicon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4952880"/>
              <a:ext cx="2361960" cy="98928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Multilingua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Lexicon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(EuroWordNet, etc.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5638680" y="3733920"/>
            <a:ext cx="2514600" cy="114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5105520" y="5257800"/>
            <a:ext cx="365760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MILE Lexical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93" idx="2"/>
            <a:endCxn id="299" idx="0"/>
          </p:cNvCxnSpPr>
          <p:nvPr/>
        </p:nvCxnSpPr>
        <p:spPr>
          <a:xfrm>
            <a:off x="6891120" y="3124080"/>
            <a:ext cx="5400" cy="6105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he Roots of the MILE lexical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123720" y="3161880"/>
            <a:ext cx="2514960" cy="2286000"/>
            <a:chOff x="3123720" y="3161880"/>
            <a:chExt cx="2514960" cy="2286000"/>
          </a:xfrm>
        </p:grpSpPr>
        <p:cxnSp>
          <p:nvCxnSpPr>
            <p:cNvPr id="304" name=""/>
            <p:cNvCxnSpPr>
              <a:stCxn id="297" idx="3"/>
              <a:endCxn id="299" idx="1"/>
            </p:cNvCxnSpPr>
            <p:nvPr/>
          </p:nvCxnSpPr>
          <p:spPr>
            <a:xfrm>
              <a:off x="3123720" y="4304880"/>
              <a:ext cx="251532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05" name=""/>
            <p:cNvCxnSpPr>
              <a:stCxn id="295" idx="3"/>
              <a:endCxn id="299" idx="1"/>
            </p:cNvCxnSpPr>
            <p:nvPr/>
          </p:nvCxnSpPr>
          <p:spPr>
            <a:xfrm>
              <a:off x="3123720" y="3161880"/>
              <a:ext cx="2515320" cy="11437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06" name=""/>
            <p:cNvCxnSpPr>
              <a:stCxn id="298" idx="3"/>
              <a:endCxn id="299" idx="1"/>
            </p:cNvCxnSpPr>
            <p:nvPr/>
          </p:nvCxnSpPr>
          <p:spPr>
            <a:xfrm flipV="1">
              <a:off x="3123720" y="4304520"/>
              <a:ext cx="2515320" cy="114372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Lexical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a Category Registry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(MLDC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55640" y="1828440"/>
            <a:ext cx="854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stanti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of pre-defined lexical obje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y be included in an entry by direct refer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be used “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off the shelf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” or as a departure point for the definition of new or modified categori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ables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odular specific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of lexical entities using all or parts of the lexical information in the repositor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liminate redundanc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entify lexical entries or sub-entries with shared proper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of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DC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Regist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09640" y="1828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ree examples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numerated class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exical objects at the lowest level of granular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finition of sets of possible values for various lexical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phrase class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stantiate common phrase types, e.g., NP, VP, e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nstruction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stantiations of common syntactic constructions (e.g., verbs which are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 transitiv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DCR Enum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2057400"/>
            <a:ext cx="8077320" cy="3776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!--  Enumerated classes for ISLE lexical entries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v 0.1 2002/10/23 </a:t>
            </a:r>
            <a:r>
              <a:rPr b="0" lang="it-IT" sz="14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Author: Nancy Id--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:RDF xmlns:rdf="http://www.w3.org/1999/02/22-rdf-syntax-ns#"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xmlns:rdfs="http://www.w3.org/2000/01/rdf-schema#"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xmlns:owl ="http://www.w3.org/2002/07/owl#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xmlns:isle ="http://www.cs.vassar.edu/~ide/rdf/isle-schema-v.6#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rdfs:Class rdf:about="http://www.cs.vassar.edu/~ide/rdf/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isle-enumerated-classes#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ynFeature</a:t>
            </a:r>
            <a:r>
              <a:rPr b="1" lang="it-IT" sz="1600" spc="-1" strike="noStrike">
                <a:solidFill>
                  <a:srgbClr val="800000"/>
                </a:solidFill>
                <a:latin typeface="Courier New"/>
              </a:rPr>
              <a:t>Name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owl:oneOf&gt;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rdf:Seq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rdf:li&gt;</a:t>
            </a:r>
            <a:r>
              <a:rPr b="1" lang="it-IT" sz="1600" spc="-1" strike="noStrike">
                <a:solidFill>
                  <a:srgbClr val="800000"/>
                </a:solidFill>
                <a:latin typeface="Courier New"/>
              </a:rPr>
              <a:t>gender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rdf:li&gt;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rdf:li&gt;</a:t>
            </a:r>
            <a:r>
              <a:rPr b="1" lang="it-IT" sz="1600" spc="-1" strike="noStrike">
                <a:solidFill>
                  <a:srgbClr val="800000"/>
                </a:solidFill>
                <a:latin typeface="Courier New"/>
              </a:rPr>
              <a:t>aux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rdf:li&gt;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rdf:Seq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owl:oneOf&gt;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rdfs:Class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52880" y="4917960"/>
            <a:ext cx="1905120" cy="703800"/>
          </a:xfrm>
          <a:prstGeom prst="borderCallout1">
            <a:avLst>
              <a:gd name="adj1" fmla="val 18750"/>
              <a:gd name="adj2" fmla="val -8333"/>
              <a:gd name="adj3" fmla="val -10990"/>
              <a:gd name="adj4" fmla="val -45662"/>
            </a:avLst>
          </a:prstGeom>
          <a:solidFill>
            <a:srgbClr val="e3e2c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st of allowed valu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4917960"/>
            <a:ext cx="1492200" cy="703800"/>
          </a:xfrm>
          <a:prstGeom prst="borderCallout1">
            <a:avLst>
              <a:gd name="adj1" fmla="val 18750"/>
              <a:gd name="adj2" fmla="val -8333"/>
              <a:gd name="adj3" fmla="val -107513"/>
              <a:gd name="adj4" fmla="val -19245"/>
            </a:avLst>
          </a:prstGeom>
          <a:solidFill>
            <a:srgbClr val="e3e2c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fined catego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DCR Phrase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je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2133720"/>
            <a:ext cx="8001000" cy="3836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:RDF xmlns:rdf="http://www.w3.org/1999/02/22-rdf-syntax-ns#"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xmlns:rdfs="http://www.w3.org/2000/01/rdf-schema#"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xmlns:mlc="http://www.cs.vassar.edu/~ide/rdf/isle-schema-v.6#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Phrase rdf:ID="NP" rdfs:label="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NP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/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Phrase rdf:ID="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uxhave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hasSynFeature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SynFeature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hasSynFeatureName rdf:value="aux"/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hasSynFeatureValue rdf:value="have"/&gt;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SynFeature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hasSynFeature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Phrase&gt;             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/rdf:RDF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24760" y="3262320"/>
            <a:ext cx="1525680" cy="398880"/>
          </a:xfrm>
          <a:prstGeom prst="borderCallout1">
            <a:avLst>
              <a:gd name="adj1" fmla="val 18750"/>
              <a:gd name="adj2" fmla="val -8333"/>
              <a:gd name="adj3" fmla="val -19564"/>
              <a:gd name="adj4" fmla="val -105282"/>
            </a:avLst>
          </a:prstGeom>
          <a:solidFill>
            <a:srgbClr val="e3e2c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mple N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3886200"/>
            <a:ext cx="2210040" cy="1008720"/>
          </a:xfrm>
          <a:prstGeom prst="borderCallout1">
            <a:avLst>
              <a:gd name="adj1" fmla="val 18750"/>
              <a:gd name="adj2" fmla="val -8333"/>
              <a:gd name="adj3" fmla="val -15231"/>
              <a:gd name="adj4" fmla="val -107180"/>
            </a:avLst>
          </a:prstGeom>
          <a:solidFill>
            <a:srgbClr val="e3e2c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re complex phrase objec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imes New Roman"/>
              </a:rPr>
              <a:t>(V + Aux Featur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ILE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DCR Construc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1752480"/>
            <a:ext cx="7848720" cy="4744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Construction rdf:ID="Trans</a:t>
            </a:r>
            <a:r>
              <a:rPr b="1" lang="it-IT" sz="1600" spc="-1" strike="noStrike">
                <a:solidFill>
                  <a:srgbClr val="003366"/>
                </a:solidFill>
                <a:latin typeface="Courier New"/>
              </a:rPr>
              <a:t>itive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&gt;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slot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SlotRealization rdf:ID="NPsubj"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hasFunction rdf:value="Subj"/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filledB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rdf:resource="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http://www.cs.vassar.edu/~ide/rdf/isle-datcats/Phrases#NP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/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SlotRealizatio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slot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slot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SlotRealization rdf:ID="NPobj"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hasFunction rdf:value="Obj"/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filledBy rdf:resource="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http://www.cs.vassar.edu/~ide/rdf/isle-datcats/Phrases#NP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"/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SlotRealization&gt;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slot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1047600" indent="-104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&lt;/Constructio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72200" y="5575320"/>
            <a:ext cx="2133720" cy="916920"/>
          </a:xfrm>
          <a:prstGeom prst="borderCallout1">
            <a:avLst>
              <a:gd name="adj1" fmla="val 18750"/>
              <a:gd name="adj2" fmla="val -8333"/>
              <a:gd name="adj3" fmla="val -220208"/>
              <a:gd name="adj4" fmla="val -77004"/>
            </a:avLst>
          </a:prstGeom>
          <a:solidFill>
            <a:srgbClr val="e3e2c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References to previously defined categor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4724280" y="5562360"/>
            <a:ext cx="1371600" cy="2286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280" y="2286000"/>
            <a:ext cx="1067040" cy="642600"/>
          </a:xfrm>
          <a:prstGeom prst="rect">
            <a:avLst/>
          </a:prstGeom>
          <a:solidFill>
            <a:srgbClr val="e3e2c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Subject sl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4419720"/>
            <a:ext cx="1067040" cy="642600"/>
          </a:xfrm>
          <a:prstGeom prst="rect">
            <a:avLst/>
          </a:prstGeom>
          <a:solidFill>
            <a:srgbClr val="e3e2c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Object sl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955960" y="21276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" y="1720800"/>
            <a:ext cx="7543800" cy="478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Entry rdf:ID="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eat1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hasSynu rdf:parseType="Resource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SynU rdf:ID="eat1-SynU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example&gt;John ate the cake&lt;/example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hasSyntacticFrame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SyntacticFrame rdf:ID="eat1SynFrame"&gt;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hasSelf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Self rdf:ID="eat1Self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1" lang="it-IT" sz="14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headedBy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rdf:resource="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http://www.cs.vassar.edu/~ide/rdf/isle</a:t>
            </a:r>
            <a:r>
              <a:rPr b="1" lang="it-IT" sz="14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datcats/Phrases#Vauxhave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/Self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it-IT" sz="14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3366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/hasSelf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hasConstruction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rdf:resource="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http://www.cs.vassar.edu/~ide/rdf/isle-datcats/Constructions#Trans</a:t>
            </a:r>
            <a:r>
              <a:rPr b="1" lang="it-IT" sz="1400" spc="-1" strike="noStrike">
                <a:solidFill>
                  <a:srgbClr val="800000"/>
                </a:solidFill>
                <a:latin typeface="Courier New"/>
              </a:rPr>
              <a:t>itive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hasFrequency rdf:value="8788" mlc:corpus="PAROLE"/&gt;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/SyntacticFrame&gt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/hasSyntacticFrame&gt;      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/SynU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523880" indent="-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&lt;/hasSynu&gt;&lt;/Entry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Times New Roman"/>
              </a:rPr>
              <a:t>Lexical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try Using </a:t>
            </a:r>
            <a:r>
              <a:rPr b="0" lang="it-IT" sz="3600" spc="-1" strike="noStrike">
                <a:solidFill>
                  <a:srgbClr val="003366"/>
                </a:solidFill>
                <a:latin typeface="Times New Roman"/>
              </a:rPr>
              <a:t>the MILE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DC</a:t>
            </a:r>
            <a:r>
              <a:rPr b="0" lang="it-IT" sz="36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929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he MILE Lexical Model is oriented towards 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open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distributed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lexical resources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Lexical Information Server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for multiple access to lexical information reposito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Enhanc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user-adaptivity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resource shar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Develop integration and interchange too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Promote interchange with th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Semantic Web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Ontology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commun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Foster a better integration with corpus-driven dat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Conclusions and 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2895480" y="1828800"/>
            <a:ext cx="6096240" cy="4648320"/>
            <a:chOff x="2895480" y="1828800"/>
            <a:chExt cx="6096240" cy="4648320"/>
          </a:xfrm>
        </p:grpSpPr>
        <p:sp>
          <p:nvSpPr>
            <p:cNvPr id="612" name=""/>
            <p:cNvSpPr/>
            <p:nvPr/>
          </p:nvSpPr>
          <p:spPr>
            <a:xfrm>
              <a:off x="2895480" y="1828800"/>
              <a:ext cx="6096240" cy="46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613" name="" descr=""/>
            <p:cNvPicPr/>
            <p:nvPr/>
          </p:nvPicPr>
          <p:blipFill>
            <a:blip r:embed="rId1"/>
            <a:stretch/>
          </p:blipFill>
          <p:spPr>
            <a:xfrm>
              <a:off x="5181480" y="4094280"/>
              <a:ext cx="13716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6858000" y="2030400"/>
              <a:ext cx="1981080" cy="7855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Semantic Lexico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http://www.xxx…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615" name="globe200" descr=""/>
            <p:cNvPicPr/>
            <p:nvPr/>
          </p:nvPicPr>
          <p:blipFill>
            <a:blip r:embed="rId2"/>
            <a:stretch/>
          </p:blipFill>
          <p:spPr>
            <a:xfrm>
              <a:off x="4952880" y="2514600"/>
              <a:ext cx="1676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6858000" y="3048120"/>
              <a:ext cx="1981080" cy="7855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Syntactic Lexico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http://www.yyy…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48120" y="2030400"/>
              <a:ext cx="2057400" cy="78552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ececdb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http://www.zzz…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095520" y="2286000"/>
              <a:ext cx="685800" cy="457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019920" y="3505320"/>
              <a:ext cx="7617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6" idx="2"/>
              <a:endCxn id="613" idx="3"/>
            </p:cNvCxnSpPr>
            <p:nvPr/>
          </p:nvCxnSpPr>
          <p:spPr>
            <a:xfrm rot="5400000">
              <a:off x="6818400" y="3570480"/>
              <a:ext cx="764280" cy="1296360"/>
            </a:xfrm>
            <a:prstGeom prst="bentConnector2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</p:cxnSp>
        <p:cxnSp>
          <p:nvCxnSpPr>
            <p:cNvPr id="621" name=""/>
            <p:cNvCxnSpPr>
              <a:stCxn id="617" idx="2"/>
              <a:endCxn id="613" idx="1"/>
            </p:cNvCxnSpPr>
            <p:nvPr/>
          </p:nvCxnSpPr>
          <p:spPr>
            <a:xfrm flipH="1" rot="16200000">
              <a:off x="3737520" y="3157200"/>
              <a:ext cx="1781640" cy="1105560"/>
            </a:xfrm>
            <a:prstGeom prst="bentConnector2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622" name=""/>
            <p:cNvSpPr/>
            <p:nvPr/>
          </p:nvSpPr>
          <p:spPr>
            <a:xfrm>
              <a:off x="4038480" y="2819520"/>
              <a:ext cx="1067040" cy="533160"/>
            </a:xfrm>
            <a:custGeom>
              <a:avLst/>
              <a:gdLst/>
              <a:ahLst/>
              <a:rect l="l" t="t" r="r" b="b"/>
              <a:pathLst>
                <a:path w="774" h="456">
                  <a:moveTo>
                    <a:pt x="0" y="0"/>
                  </a:moveTo>
                  <a:lnTo>
                    <a:pt x="774" y="456"/>
                  </a:lnTo>
                </a:path>
              </a:pathLst>
            </a:custGeom>
            <a:noFill/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05520" y="5791320"/>
              <a:ext cx="1600200" cy="609480"/>
            </a:xfrm>
            <a:prstGeom prst="flowChartMultidocumen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c5c5c5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corpora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5600520" y="5219640"/>
              <a:ext cx="533520" cy="45720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e3e2c7"/>
                </a:gs>
                <a:gs pos="100000">
                  <a:srgbClr val="f4f4eb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Conclusions and 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85800" y="2209680"/>
            <a:ext cx="1676520" cy="3200400"/>
            <a:chOff x="685800" y="2209680"/>
            <a:chExt cx="1676520" cy="3200400"/>
          </a:xfrm>
        </p:grpSpPr>
        <p:sp>
          <p:nvSpPr>
            <p:cNvPr id="627" name=""/>
            <p:cNvSpPr txBox="1"/>
            <p:nvPr/>
          </p:nvSpPr>
          <p:spPr>
            <a:xfrm rot="5400000">
              <a:off x="380520" y="3885840"/>
              <a:ext cx="2209680" cy="83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3366"/>
                  </a:solidFill>
                  <a:latin typeface="Times New Roman"/>
                </a:rPr>
                <a:t>MILE</a:t>
              </a:r>
              <a:endPara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3366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628" name="isle_logo_home" descr=""/>
            <p:cNvPicPr/>
            <p:nvPr/>
          </p:nvPicPr>
          <p:blipFill>
            <a:blip r:embed="rId3"/>
            <a:stretch/>
          </p:blipFill>
          <p:spPr>
            <a:xfrm>
              <a:off x="685800" y="2209680"/>
              <a:ext cx="167652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"/>
          <p:cNvSpPr/>
          <p:nvPr/>
        </p:nvSpPr>
        <p:spPr>
          <a:xfrm>
            <a:off x="2057400" y="3733920"/>
            <a:ext cx="762120" cy="914400"/>
          </a:xfrm>
          <a:custGeom>
            <a:avLst/>
            <a:gdLst>
              <a:gd name="textAreaLeft" fmla="*/ 118800 w 762120"/>
              <a:gd name="textAreaRight" fmla="*/ 667080 w 7621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he MILE Lexical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438280" y="3124080"/>
            <a:ext cx="4496040" cy="11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2320">
                  <a:solidFill>
                    <a:srgbClr val="003366"/>
                  </a:solidFill>
                  <a:miter/>
                </a:ln>
                <a:solidFill>
                  <a:srgbClr val="cccc99"/>
                </a:solidFill>
                <a:latin typeface="Times New Roman"/>
              </a:rPr>
              <a:t>Thank You !</a:t>
            </a:r>
            <a:endParaRPr b="0" lang="en-US" sz="4000" spc="1" strike="noStrike">
              <a:ln w="22320">
                <a:solidFill>
                  <a:srgbClr val="003366"/>
                </a:solidFill>
                <a:miter/>
              </a:ln>
              <a:solidFill>
                <a:srgbClr val="cccc99"/>
              </a:solidFill>
              <a:latin typeface="Times New Roman"/>
              <a:ea typeface="Times New Roman"/>
            </a:endParaRPr>
          </a:p>
        </p:txBody>
      </p:sp>
      <p:pic>
        <p:nvPicPr>
          <p:cNvPr id="632" name="isle_logo_home" descr=""/>
          <p:cNvPicPr/>
          <p:nvPr/>
        </p:nvPicPr>
        <p:blipFill>
          <a:blip r:embed="rId1"/>
          <a:stretch/>
        </p:blipFill>
        <p:spPr>
          <a:xfrm>
            <a:off x="3090960" y="5105520"/>
            <a:ext cx="3190680" cy="102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he MILE Lexical Model: Main 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175212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Formalize the ‘MILE basic Notions’ into a general architecture for multilingual computational lexic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Key issu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Modular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User-adapta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Resource sha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Reusa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Open towards large-scale lexical DB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Both for hand-coded and corpus-driven lexical dat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5894280"/>
            <a:ext cx="8076960" cy="4230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ececdb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Open to the emerging standards in the </a:t>
            </a:r>
            <a:r>
              <a:rPr b="1" lang="it-IT" sz="2400" spc="-1" strike="noStrike">
                <a:solidFill>
                  <a:srgbClr val="8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odularity in 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1828800"/>
            <a:ext cx="833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Layered and and modular desig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wo types of modularity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horizontal modularity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ependent and yet linked modules target different dimensions of lexical entrie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e.g. semantic, syntactic, etc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vertical modularity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pen to both shallow and deep lexical analy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mpatible with different existing models and “styles” of lexical represen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mpatible with different approaches to multiling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he MILE Lexical Model (MLM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280" y="1828800"/>
            <a:ext cx="833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he MLM is an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entry schema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or multilingual lexical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defines a lexical 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eta-entry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as a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mmon representational layer for multilingual lexic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ptimal way to implement the principles of 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ser-adaptability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and 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source sharing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fferent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exicon architectur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n be designed as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nstanc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of the schema provided by the ML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stance lexicon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y differ for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ype of information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they inclu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epth of lexical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descrip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User-Adaptability and Resource Sharing in 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mpatible with different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models of lexical analysis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lational semantic models (e.g. WordNet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yntactic and semantic fram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ntology-based lexic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mpatible with different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degrees of specification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eep lexical representations (e.g. PAROLE-SIMPL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erminological lexic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mpatible with different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paradigms of multilingu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Lexicons for transfer-based M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lingua-based lexic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User-Adaptability and Resource Sharing in M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280" y="1828800"/>
            <a:ext cx="83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he MILE architecture is designed according to the </a:t>
            </a:r>
            <a:r>
              <a:rPr b="0" lang="it-IT" sz="3200" spc="-1" strike="noStrike">
                <a:solidFill>
                  <a:srgbClr val="800000"/>
                </a:solidFill>
                <a:latin typeface="Times New Roman"/>
              </a:rPr>
              <a:t>building-block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mode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Lexical entries are obtained by combining various types of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lexical objects 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atomic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complex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Users design their lexicon by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hoosing and specifying the relevant lexical obj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mbine the lexical objects into lexical entr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Lexical objects may be </a:t>
            </a:r>
            <a:r>
              <a:rPr b="0" lang="it-IT" sz="2800" spc="-1" strike="noStrike">
                <a:solidFill>
                  <a:srgbClr val="800000"/>
                </a:solidFill>
                <a:latin typeface="Times New Roman"/>
              </a:rPr>
              <a:t>shared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within the same lexicon (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intra-lexicon reusability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mong different lexicons (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inter-lexicon reusability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066680" y="3505320"/>
            <a:ext cx="7696440" cy="2971800"/>
            <a:chOff x="1066680" y="3505320"/>
            <a:chExt cx="7696440" cy="2971800"/>
          </a:xfrm>
        </p:grpSpPr>
        <p:sp>
          <p:nvSpPr>
            <p:cNvPr id="319" name=""/>
            <p:cNvSpPr/>
            <p:nvPr/>
          </p:nvSpPr>
          <p:spPr>
            <a:xfrm>
              <a:off x="1066680" y="3505320"/>
              <a:ext cx="7696440" cy="2971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4e4e4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33920" y="3886200"/>
              <a:ext cx="1371600" cy="9144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86200" y="4038480"/>
              <a:ext cx="1371600" cy="9144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38480" y="4191120"/>
              <a:ext cx="1371600" cy="914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fed88d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syntactic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fram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5334120"/>
              <a:ext cx="1143000" cy="609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5486400"/>
              <a:ext cx="1143000" cy="685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5400000"/>
            </a:gradFill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1480" y="5638680"/>
              <a:ext cx="1143000" cy="609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54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phras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00200" y="5181480"/>
              <a:ext cx="13716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99"/>
                </a:gs>
                <a:gs pos="100000">
                  <a:srgbClr val="d8d8b3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52480" y="5334120"/>
              <a:ext cx="13716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99"/>
                </a:gs>
                <a:gs pos="100000">
                  <a:srgbClr val="d8d8b3"/>
                </a:gs>
              </a:gsLst>
              <a:lin ang="54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5120" y="5486400"/>
              <a:ext cx="13716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99"/>
                </a:gs>
                <a:gs pos="100000">
                  <a:srgbClr val="d8d8b3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slo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91520" y="5105520"/>
              <a:ext cx="76176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b3fed8"/>
                </a:gs>
              </a:gsLst>
              <a:lin ang="5400000"/>
            </a:gra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3800" y="5257800"/>
              <a:ext cx="76212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b3fed8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96080" y="5486400"/>
              <a:ext cx="76212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b3fed8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Sy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featur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43000" y="36576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800000"/>
                  </a:solidFill>
                  <a:latin typeface="Times New Roman"/>
                </a:rPr>
                <a:t>Lexical Object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3800" y="3733920"/>
              <a:ext cx="76212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b3fed8"/>
                </a:gs>
              </a:gsLst>
              <a:lin ang="5400000"/>
            </a:gra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96080" y="3886200"/>
              <a:ext cx="76212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b3fed8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24680" y="4114800"/>
              <a:ext cx="76212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b3fed8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Sem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featur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The Building-Block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219320" y="2057400"/>
            <a:ext cx="6553080" cy="838080"/>
            <a:chOff x="1219320" y="2057400"/>
            <a:chExt cx="6553080" cy="838080"/>
          </a:xfrm>
        </p:grpSpPr>
        <p:sp>
          <p:nvSpPr>
            <p:cNvPr id="338" name=""/>
            <p:cNvSpPr/>
            <p:nvPr/>
          </p:nvSpPr>
          <p:spPr>
            <a:xfrm>
              <a:off x="1219320" y="2057400"/>
              <a:ext cx="1752480" cy="8380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b0000"/>
                </a:gs>
                <a:gs pos="100000">
                  <a:srgbClr val="ff0000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8f8f8"/>
                  </a:solidFill>
                  <a:latin typeface="Times New Roman"/>
                </a:rPr>
                <a:t>Lexical entry 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3920" y="2057400"/>
              <a:ext cx="1752480" cy="8380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b0000"/>
                </a:gs>
                <a:gs pos="100000">
                  <a:srgbClr val="ff0000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8f8f8"/>
                  </a:solidFill>
                  <a:latin typeface="Times New Roman"/>
                </a:rPr>
                <a:t>Lexical entry 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2057400"/>
              <a:ext cx="1752480" cy="8380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b0000"/>
                </a:gs>
                <a:gs pos="100000">
                  <a:srgbClr val="ff0000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8f8f8"/>
                  </a:solidFill>
                  <a:latin typeface="Times New Roman"/>
                </a:rPr>
                <a:t>Lexical entry 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437920" y="4723200"/>
            <a:ext cx="1586520" cy="709920"/>
            <a:chOff x="2437920" y="4723200"/>
            <a:chExt cx="1586520" cy="709920"/>
          </a:xfrm>
        </p:grpSpPr>
        <p:cxnSp>
          <p:nvCxnSpPr>
            <p:cNvPr id="342" name=""/>
            <p:cNvCxnSpPr/>
            <p:nvPr/>
          </p:nvCxnSpPr>
          <p:spPr>
            <a:xfrm flipV="1" rot="10800000">
              <a:off x="2590200" y="4723200"/>
              <a:ext cx="1434240" cy="710280"/>
            </a:xfrm>
            <a:prstGeom prst="bentConnector2">
              <a:avLst/>
            </a:prstGeom>
            <a:ln w="28440">
              <a:solidFill>
                <a:srgbClr val="003366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43" name=""/>
            <p:cNvCxnSpPr/>
            <p:nvPr/>
          </p:nvCxnSpPr>
          <p:spPr>
            <a:xfrm flipV="1" rot="10800000">
              <a:off x="2437560" y="4723920"/>
              <a:ext cx="1586880" cy="558000"/>
            </a:xfrm>
            <a:prstGeom prst="bentConnector2">
              <a:avLst/>
            </a:prstGeom>
            <a:ln w="28440">
              <a:solidFill>
                <a:srgbClr val="003366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344" name=""/>
          <p:cNvCxnSpPr>
            <a:stCxn id="324" idx="0"/>
            <a:endCxn id="328" idx="3"/>
          </p:cNvCxnSpPr>
          <p:nvPr/>
        </p:nvCxnSpPr>
        <p:spPr>
          <a:xfrm rot="10800000">
            <a:off x="3290040" y="5828760"/>
            <a:ext cx="1724760" cy="10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grpSp>
        <p:nvGrpSpPr>
          <p:cNvPr id="345" name=""/>
          <p:cNvGrpSpPr/>
          <p:nvPr/>
        </p:nvGrpSpPr>
        <p:grpSpPr>
          <a:xfrm>
            <a:off x="6262560" y="5562360"/>
            <a:ext cx="1424520" cy="381600"/>
            <a:chOff x="6262560" y="5562360"/>
            <a:chExt cx="1424520" cy="381600"/>
          </a:xfrm>
        </p:grpSpPr>
        <p:cxnSp>
          <p:nvCxnSpPr>
            <p:cNvPr id="346" name=""/>
            <p:cNvCxnSpPr>
              <a:stCxn id="325" idx="0"/>
              <a:endCxn id="331" idx="2"/>
            </p:cNvCxnSpPr>
            <p:nvPr/>
          </p:nvCxnSpPr>
          <p:spPr>
            <a:xfrm>
              <a:off x="6262560" y="5943240"/>
              <a:ext cx="1424880" cy="1080"/>
            </a:xfrm>
            <a:prstGeom prst="bentConnector2">
              <a:avLst/>
            </a:prstGeom>
            <a:ln w="28440">
              <a:solidFill>
                <a:srgbClr val="003366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47" name=""/>
            <p:cNvCxnSpPr>
              <a:stCxn id="325" idx="1"/>
              <a:endCxn id="329" idx="2"/>
            </p:cNvCxnSpPr>
            <p:nvPr/>
          </p:nvCxnSpPr>
          <p:spPr>
            <a:xfrm flipV="1">
              <a:off x="6338880" y="5562360"/>
              <a:ext cx="1038600" cy="381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348" name=""/>
          <p:cNvGrpSpPr/>
          <p:nvPr/>
        </p:nvGrpSpPr>
        <p:grpSpPr>
          <a:xfrm>
            <a:off x="4800240" y="2895480"/>
            <a:ext cx="3124440" cy="2362320"/>
            <a:chOff x="4800240" y="2895480"/>
            <a:chExt cx="3124440" cy="2362320"/>
          </a:xfrm>
        </p:grpSpPr>
        <p:sp>
          <p:nvSpPr>
            <p:cNvPr id="349" name=""/>
            <p:cNvSpPr/>
            <p:nvPr/>
          </p:nvSpPr>
          <p:spPr>
            <a:xfrm flipH="1">
              <a:off x="4800240" y="2895480"/>
              <a:ext cx="2057400" cy="144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58000" y="2895480"/>
              <a:ext cx="914400" cy="2362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58000" y="2895480"/>
              <a:ext cx="106668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572000" y="2895480"/>
            <a:ext cx="3505320" cy="1447920"/>
            <a:chOff x="4572000" y="2895480"/>
            <a:chExt cx="3505320" cy="1447920"/>
          </a:xfrm>
        </p:grpSpPr>
        <p:sp>
          <p:nvSpPr>
            <p:cNvPr id="353" name=""/>
            <p:cNvSpPr/>
            <p:nvPr/>
          </p:nvSpPr>
          <p:spPr>
            <a:xfrm>
              <a:off x="4572000" y="2895480"/>
              <a:ext cx="0" cy="14479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2895480"/>
              <a:ext cx="3505320" cy="1143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981080" y="2895480"/>
            <a:ext cx="6248520" cy="1371600"/>
            <a:chOff x="1981080" y="2895480"/>
            <a:chExt cx="6248520" cy="1371600"/>
          </a:xfrm>
        </p:grpSpPr>
        <p:sp>
          <p:nvSpPr>
            <p:cNvPr id="356" name=""/>
            <p:cNvSpPr/>
            <p:nvPr/>
          </p:nvSpPr>
          <p:spPr>
            <a:xfrm>
              <a:off x="1981080" y="2895480"/>
              <a:ext cx="2438640" cy="1219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2895480"/>
              <a:ext cx="6172200" cy="1371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LE Workshop - Pisa 2 Dec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Lenci</cp:lastModifiedBy>
  <dcterms:modified xsi:type="dcterms:W3CDTF">2002-12-01T11:29:45Z</dcterms:modified>
  <cp:revision>231</cp:revision>
  <dc:subject/>
  <dc:title>PowerPoint Presentation</dc:title>
</cp:coreProperties>
</file>