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5A9D-C131-4BF5-85BD-9A9242DD9B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the basic notions of the MILE means to understand which are the lexical dimensions that play a role, at any level of linguistic description, in a multilingual framework. The work of the previous EAGLES (focussed on Morphosyntax, Subcategorization and Lexical Semantics) provided an analysis of the linguistic information crucial for the description of a computational lexical entry in monolingual perspective. The ISLE intention is to exploit the EAGLES bulk of work and to extend the results in a multilingual perspective, trying to make a synthesis of all the information that is relevant to build a multilingual lexical entry (a M(I)LE) starting from a monolingual descrip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ultilingual lexical entry, the information about the syntactic and semantic behaviour of an entry is constrained (adding or deleting semantic and/or syntactic information) by means of a set of   lexical operations that allow to create correspondences between languag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words, all information concurring to define a syntactic structure or a word meaning from a monolingual point of view can be exploited for multilingual requirements and, together with the lexical operations, can be regarded as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notions.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A4B-73EE-42B9-B1EC-3A0DB07C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E0E-7E44-48DB-B42E-A0EC60D1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905-EF80-4B11-B8BA-F17EDB6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D78-925F-4E4C-8C8E-42DEAA5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63C-4CCB-48F1-9948-B9FDA2C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2B6F-CF3B-478F-95B3-82AAA5A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67D1-A522-40C0-A5B2-C60CEEF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7C97-F5F5-482A-9CF7-63C70DC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6D7-E604-42CF-8014-0037736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098F-B85C-4FB5-8987-3E979B8C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71D-8205-42BA-8797-C72C73C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7B0-CAF1-4494-96A9-81CC748A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AB5-84F7-4943-9B66-53DEF6B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D5C2-A35D-45C7-98C7-07A4EB72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8237-4589-4016-83F1-B253DEEA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644-E7AB-46CC-A09B-313330BE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216-68ED-4AE8-BE05-6215E31A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398-29D4-441F-B05D-0E48DC8E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828-416F-438E-916C-FF3471F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893-2C8D-4198-A26C-91B7104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3F2-A366-4B35-A8B5-88D32E8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1E9-CAD4-465D-A6E6-280728C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9F1-417C-4FCD-B977-3AAAA691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D4A-A092-466B-96D9-2EB7C37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d9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d9f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B18-03E5-465D-AA99-9CC41524392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d9f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dbf7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381-09C0-4898-84BE-2B561646F6A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ngue.ilc.pi.cnr.it/EAGLES96/EAGLESLE.PDF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808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From Lexical Entries t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MILE Basic No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Times New Roman"/>
              </a:rPr>
              <a:t>MILE as a Step towards Multilingual Shareable Resource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Times New Roman"/>
              </a:rPr>
              <a:t>Pisa, 2-3 Dec 2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920" y="3124080"/>
            <a:ext cx="84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Times New Roman"/>
              </a:rPr>
              <a:t>Francesca Bertagna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, Istituto di Linguistica Computazionale-CN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&amp; Università di Pisa,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francesca.bertagna@ilc.cnr.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2160" y="4191120"/>
            <a:ext cx="827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Times New Roman"/>
              </a:rPr>
              <a:t>Monica Monachini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, Istituto di Linguistica Computazionale-CNR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monica.monachini@ilc.cnr.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4479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i="1" lang="it-IT" sz="3200" spc="-1" strike="noStrike">
                <a:solidFill>
                  <a:srgbClr val="003366"/>
                </a:solidFill>
                <a:latin typeface="Times New Roman"/>
              </a:rPr>
              <a:t>colpo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Case Study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0574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imes New Roman"/>
              </a:rPr>
              <a:t>Strategy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: treat all the “colpo di +INSTRUMENT” as separate multiword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ynU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"colpo_di_frusta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cription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colpo+[prep="di"]+[N=lex] where [lex]="frusta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ynU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"colpo_di_tacco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lpo+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prep="di"]+[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=lex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] where [lex]="tacco"…….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Multi-MILEs: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lt_Usyn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&lt;colpo-di-frusta_lash&gt;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alian_Usyn: "colpo-di-frusta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glish_Usyn: "lash" 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ult_Usyn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&lt;colpo-di-tacco_heel-print&gt;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alian_Usyn: "colpo-di-tacco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glish_Usyn: "heel_print"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267080"/>
            <a:ext cx="4191120" cy="2133720"/>
          </a:xfrm>
          <a:prstGeom prst="wedgeEllipseCallout">
            <a:avLst>
              <a:gd name="adj1" fmla="val -66592"/>
              <a:gd name="adj2" fmla="val 47620"/>
            </a:avLst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Is the monolingual</a:t>
            </a:r>
            <a:r>
              <a:rPr b="0" lang="it-IT" sz="20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level the right place to store all the mw</a:t>
            </a: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 useful to the translation?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Writing ent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730960" y="806400"/>
            <a:ext cx="29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Writing entr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1981080"/>
            <a:ext cx="773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wo-steps strateg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reation of monolingual entries for En, It, F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ultilingual link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4419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Verbs: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hit (strike, beat), play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ouns: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day, blow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djectives: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round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09480" y="210672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Creation of a sense inventory for each lemma: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Corpus analysis =&gt; selection of the most frequent sens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Input from existing PAROLE-SIMPLE lexicons (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AROLE-SIMPLE provides the bootstrap to entry encoding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Taking for granted the morphological layer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Which information for each layer? Information provided by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PAROLE/SIMPL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50360" y="109692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ethodology for Entry Encod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943600" y="3124080"/>
            <a:ext cx="320040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609480"/>
            <a:ext cx="4038480" cy="624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52280" y="762120"/>
            <a:ext cx="2438640" cy="8380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ynU-colpo</a:t>
            </a: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0-fra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0"/>
            <a:ext cx="2666880" cy="990720"/>
          </a:xfrm>
          <a:prstGeom prst="wedgeEllipseCallout">
            <a:avLst>
              <a:gd name="adj1" fmla="val -55236"/>
              <a:gd name="adj2" fmla="val 53203"/>
            </a:avLst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1522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La sua morte fu un duro colpo per tutt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1752480"/>
            <a:ext cx="2438640" cy="8384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ynU-colpo</a:t>
            </a: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8a56"/>
                </a:solidFill>
                <a:latin typeface="Times New Roman"/>
              </a:rPr>
              <a:t>Pos0:subj;PP</a:t>
            </a:r>
            <a:r>
              <a:rPr b="0" i="1" lang="it-IT" sz="2000" spc="-1" strike="noStrike">
                <a:solidFill>
                  <a:srgbClr val="228a56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Times New Roman"/>
              </a:rPr>
              <a:t>Pos1:obj; PP</a:t>
            </a:r>
            <a:r>
              <a:rPr b="0" i="1" lang="it-IT" sz="2000" spc="-1" strike="noStrike">
                <a:solidFill>
                  <a:srgbClr val="cc00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1295280"/>
            <a:ext cx="3124440" cy="1067040"/>
          </a:xfrm>
          <a:prstGeom prst="wedgeEllipseCallout">
            <a:avLst>
              <a:gd name="adj1" fmla="val -67935"/>
              <a:gd name="adj2" fmla="val 16518"/>
            </a:avLst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il colpo di Leo al lad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2666880"/>
            <a:ext cx="2438640" cy="8384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ynU-colpo</a:t>
            </a: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Pos0:Ncomp;PP</a:t>
            </a:r>
            <a:r>
              <a:rPr b="0" i="1" lang="it-IT" sz="2000" spc="-1" strike="noStrike">
                <a:solidFill>
                  <a:srgbClr val="ff3300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2743200"/>
            <a:ext cx="2971800" cy="762120"/>
          </a:xfrm>
          <a:prstGeom prst="wedgeEllipseCallout">
            <a:avLst>
              <a:gd name="adj1" fmla="val -61805"/>
              <a:gd name="adj2" fmla="val -32291"/>
            </a:avLst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un colpo di sp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20440" y="9050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Colpo SynUs &amp; Sem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657600"/>
            <a:ext cx="3276720" cy="12193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emU-colpo</a:t>
            </a: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CauseExperienceEv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rg0:Theme;Ev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rg1:Experiencer;+Hum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5029200"/>
            <a:ext cx="3505320" cy="1752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emU-colpo</a:t>
            </a: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RelationalAc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28a56"/>
                </a:solidFill>
                <a:latin typeface="Times New Roman"/>
              </a:rPr>
              <a:t>Arg0:ProtoAgent;Hum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99"/>
                </a:solidFill>
                <a:latin typeface="Times New Roman"/>
              </a:rPr>
              <a:t>Arg1:ProtoPatient;ConcrEnt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Arg2:Instrument;ConcrEnt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1981080"/>
            <a:ext cx="1981080" cy="4191120"/>
          </a:xfrm>
          <a:custGeom>
            <a:avLst/>
            <a:gdLst>
              <a:gd name="textAreaLeft" fmla="*/ 265320 w 1981080"/>
              <a:gd name="textAreaRight" fmla="*/ 1715760 w 1981080"/>
              <a:gd name="textAreaTop" fmla="*/ 933840 h 4191120"/>
              <a:gd name="textAreaBottom" fmla="*/ 28267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7" stAng="-5400000" swAng="5400000"/>
                <a:lnTo>
                  <a:pt x="21600" y="9755"/>
                </a:lnTo>
                <a:arcTo wR="21600" hR="9627" stAng="0" swAng="4138164"/>
                <a:lnTo>
                  <a:pt x="3648" y="21462"/>
                </a:lnTo>
                <a:lnTo>
                  <a:pt x="0" y="19317"/>
                </a:lnTo>
                <a:lnTo>
                  <a:pt x="3648" y="16896"/>
                </a:lnTo>
                <a:lnTo>
                  <a:pt x="3648" y="19115"/>
                </a:lnTo>
                <a:arcTo wR="21600" hR="9627" stAng="4138164" swAng="-4127978"/>
                <a:lnTo>
                  <a:pt x="21600" y="9691"/>
                </a:lnTo>
                <a:arcTo wR="21600" hR="9627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27" stAng="-5400000" swAng="5400000"/>
                <a:lnTo>
                  <a:pt x="21600" y="9755"/>
                </a:lnTo>
                <a:arcTo wR="21600" hR="9627" stAng="0" swAng="-10186"/>
                <a:lnTo>
                  <a:pt x="21600" y="9691"/>
                </a:lnTo>
                <a:arcTo wR="21600" hR="9627" stAng="-10186" swAng="-5389814"/>
                <a:close/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2895480"/>
            <a:ext cx="2590920" cy="3962520"/>
          </a:xfrm>
          <a:custGeom>
            <a:avLst/>
            <a:gdLst>
              <a:gd name="textAreaLeft" fmla="*/ 347040 w 2590920"/>
              <a:gd name="textAreaRight" fmla="*/ 2243880 w 2590920"/>
              <a:gd name="textAreaTop" fmla="*/ 903240 h 3962520"/>
              <a:gd name="textAreaBottom" fmla="*/ 273384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49" stAng="-5400000" swAng="5400000"/>
                <a:lnTo>
                  <a:pt x="21600" y="9977"/>
                </a:lnTo>
                <a:arcTo wR="21600" hR="9849" stAng="0" swAng="3132635"/>
                <a:lnTo>
                  <a:pt x="7200" y="21037"/>
                </a:lnTo>
                <a:lnTo>
                  <a:pt x="0" y="19762"/>
                </a:lnTo>
                <a:lnTo>
                  <a:pt x="7200" y="17361"/>
                </a:lnTo>
                <a:lnTo>
                  <a:pt x="7200" y="19135"/>
                </a:lnTo>
                <a:arcTo wR="21600" hR="9849" stAng="3132635" swAng="-3122449"/>
                <a:lnTo>
                  <a:pt x="21600" y="9913"/>
                </a:lnTo>
                <a:arcTo wR="21600" hR="9849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849" stAng="-5400000" swAng="5400000"/>
                <a:lnTo>
                  <a:pt x="21600" y="9977"/>
                </a:lnTo>
                <a:arcTo wR="21600" hR="9849" stAng="0" swAng="-10186"/>
                <a:lnTo>
                  <a:pt x="21600" y="9913"/>
                </a:lnTo>
                <a:arcTo wR="21600" hR="9849" stAng="-10186" swAng="-5389814"/>
                <a:close/>
              </a:path>
            </a:pathLst>
          </a:custGeom>
          <a:solidFill>
            <a:srgbClr val="228a5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505320"/>
            <a:ext cx="3048120" cy="121896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emU-blow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rg0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rg1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505320" y="4266720"/>
            <a:ext cx="2819160" cy="175284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5257800"/>
            <a:ext cx="3124080" cy="11430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emU_impres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4191120"/>
            <a:ext cx="2895480" cy="15238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50680" y="3048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81080" y="955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Basic Notion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191680" y="781200"/>
            <a:ext cx="40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Syntactic Basic No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232740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2240" y="2098800"/>
            <a:ext cx="786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tactic Fram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Frame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l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tegorial and Mo-Sy Inf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Grammatical Fun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ption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Restricting Fea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Linear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Frame Probabi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033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rom EAGLES 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Recommendations on Subcategorization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GENELEX Synt. Lay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838080" y="3505320"/>
            <a:ext cx="7772040" cy="3124080"/>
            <a:chOff x="838080" y="3505320"/>
            <a:chExt cx="7772040" cy="3124080"/>
          </a:xfrm>
        </p:grpSpPr>
        <p:grpSp>
          <p:nvGrpSpPr>
            <p:cNvPr id="377" name=""/>
            <p:cNvGrpSpPr/>
            <p:nvPr/>
          </p:nvGrpSpPr>
          <p:grpSpPr>
            <a:xfrm>
              <a:off x="838080" y="3505320"/>
              <a:ext cx="7772040" cy="3124080"/>
              <a:chOff x="838080" y="3505320"/>
              <a:chExt cx="7772040" cy="3124080"/>
            </a:xfrm>
          </p:grpSpPr>
          <p:sp>
            <p:nvSpPr>
              <p:cNvPr id="378" name=""/>
              <p:cNvSpPr/>
              <p:nvPr/>
            </p:nvSpPr>
            <p:spPr>
              <a:xfrm>
                <a:off x="838080" y="3505320"/>
                <a:ext cx="3454200" cy="312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marea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356120" y="4226040"/>
                <a:ext cx="2763360" cy="721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Frame 1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0-Fram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356120" y="5187240"/>
                <a:ext cx="2763360" cy="96120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Frame 2</a:t>
                </a:r>
                <a:r>
                  <a:rPr b="0" lang="it-IT" sz="2000" spc="-1" strike="noStrike" baseline="-25000">
                    <a:solidFill>
                      <a:srgbClr val="003366"/>
                    </a:solidFill>
                    <a:latin typeface="Times New Roman"/>
                  </a:rPr>
                  <a:t>pp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[di</a:t>
                </a:r>
                <a:r>
                  <a:rPr b="0" lang="it-IT" sz="2000" spc="-1" strike="noStrike" baseline="-25000">
                    <a:solidFill>
                      <a:srgbClr val="003366"/>
                    </a:solidFill>
                    <a:latin typeface="Times New Roman"/>
                  </a:rPr>
                  <a:t>p 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+ np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83120" y="3505320"/>
                <a:ext cx="3627000" cy="120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tid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83120" y="5427720"/>
                <a:ext cx="3627000" cy="120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stream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846760" y="3873600"/>
              <a:ext cx="2245320" cy="720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3366"/>
                  </a:solidFill>
                  <a:latin typeface="Times New Roman"/>
                </a:rPr>
                <a:t>Frame 1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   0-Fram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6760" y="5796360"/>
              <a:ext cx="2590560" cy="72072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3366"/>
                  </a:solidFill>
                  <a:latin typeface="Times New Roman"/>
                </a:rPr>
                <a:t>Frame 1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   </a:t>
              </a:r>
              <a:r>
                <a:rPr b="0" lang="it-IT" sz="2000" spc="-1" strike="noStrike" baseline="-25000">
                  <a:solidFill>
                    <a:srgbClr val="003366"/>
                  </a:solidFill>
                  <a:latin typeface="Times New Roman"/>
                </a:rPr>
                <a:t>pp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[of</a:t>
              </a:r>
              <a:r>
                <a:rPr b="0" lang="it-IT" sz="2000" spc="-1" strike="noStrike" baseline="-25000">
                  <a:solidFill>
                    <a:srgbClr val="003366"/>
                  </a:solidFill>
                  <a:latin typeface="Times New Roman"/>
                </a:rPr>
                <a:t>p 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+ np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523880" y="609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yntactic BN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levance in Multilingual Perspective (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3320" y="20988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esence / absence of syntactic fra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0800" y="255276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Bassa marea: 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low tid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289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Marea di gente: 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stream of peop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09880" y="4191120"/>
            <a:ext cx="152424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5562720"/>
            <a:ext cx="144756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523880" y="609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yntactic BN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levance in Multilingual Perspective (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2666880"/>
            <a:ext cx="3195360" cy="2419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aper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3962520"/>
            <a:ext cx="2819160" cy="806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me 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06480" y="4192560"/>
            <a:ext cx="814320" cy="460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lot0=N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11520" y="4192560"/>
            <a:ext cx="1022400" cy="460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lot1=Inf_V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2971800"/>
            <a:ext cx="2627280" cy="806400"/>
            <a:chOff x="990720" y="2971800"/>
            <a:chExt cx="2627280" cy="806400"/>
          </a:xfrm>
        </p:grpSpPr>
        <p:sp>
          <p:nvSpPr>
            <p:cNvPr id="398" name=""/>
            <p:cNvSpPr/>
            <p:nvPr/>
          </p:nvSpPr>
          <p:spPr>
            <a:xfrm>
              <a:off x="990720" y="2971800"/>
              <a:ext cx="2627280" cy="8064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Frame 1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6120" y="3202200"/>
              <a:ext cx="815400" cy="460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lot0=NP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12240" y="3202200"/>
              <a:ext cx="815040" cy="460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lot1=NP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419720" y="3886200"/>
            <a:ext cx="285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114800"/>
            <a:ext cx="2627280" cy="8064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ame 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4343400"/>
            <a:ext cx="814680" cy="460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lot0=NP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4344840"/>
            <a:ext cx="1013040" cy="460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lot1=Inf_V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419720" y="2666880"/>
            <a:ext cx="2857320" cy="1143000"/>
            <a:chOff x="4419720" y="2666880"/>
            <a:chExt cx="2857320" cy="1143000"/>
          </a:xfrm>
        </p:grpSpPr>
        <p:sp>
          <p:nvSpPr>
            <p:cNvPr id="406" name=""/>
            <p:cNvSpPr/>
            <p:nvPr/>
          </p:nvSpPr>
          <p:spPr>
            <a:xfrm>
              <a:off x="4419720" y="2666880"/>
              <a:ext cx="28573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know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586760" y="2895120"/>
              <a:ext cx="2627640" cy="806400"/>
              <a:chOff x="4586760" y="2895120"/>
              <a:chExt cx="2627640" cy="806400"/>
            </a:xfrm>
          </p:grpSpPr>
          <p:sp>
            <p:nvSpPr>
              <p:cNvPr id="408" name=""/>
              <p:cNvSpPr/>
              <p:nvPr/>
            </p:nvSpPr>
            <p:spPr>
              <a:xfrm>
                <a:off x="4586760" y="2895120"/>
                <a:ext cx="2627640" cy="80640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Frame 1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02160" y="3125520"/>
                <a:ext cx="81540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Slot0=NP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08280" y="3125520"/>
                <a:ext cx="81540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Slot1=NP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 flipV="1">
            <a:off x="3657600" y="3200400"/>
            <a:ext cx="91440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4419720"/>
            <a:ext cx="8002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2520" y="209880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fferent Slot Realization in the Syntactic Fra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46040" y="5500800"/>
            <a:ext cx="439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Maria sa la verita’/Mary know the thrut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Maria sa nuotare/Mary can swi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066680" y="6858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yntactic BN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levance in Multilingual Perspective (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097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4952880" cy="2210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61680" y="217476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Use of Restricting Mo-Sy Features to select transl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144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531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2057400"/>
            <a:ext cx="9144000" cy="2590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17680" y="118440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9080" y="164160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9907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What are the ISLE  Basic Notion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251460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Lexical dimensions and information types relevant to establish multilingual correspond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formation encoded in major lexicons/models/dictionar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llocational and distributional informat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5334120"/>
            <a:ext cx="914400" cy="15238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3200 h 1523880"/>
              <a:gd name="textAreaBottom" fmla="*/ 1195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334" stAng="-5400000" swAng="-5400000"/>
                <a:lnTo>
                  <a:pt x="0" y="13782"/>
                </a:lnTo>
                <a:arcTo wR="21600" hR="6334" stAng="10800000" swAng="-2380226"/>
                <a:lnTo>
                  <a:pt x="14400" y="21238"/>
                </a:lnTo>
                <a:lnTo>
                  <a:pt x="21600" y="16391"/>
                </a:lnTo>
                <a:lnTo>
                  <a:pt x="14400" y="10820"/>
                </a:lnTo>
                <a:lnTo>
                  <a:pt x="14400" y="12305"/>
                </a:lnTo>
                <a:arcTo wR="21600" hR="6334" stAng="8419774" swAng="1658289"/>
                <a:lnTo>
                  <a:pt x="4128" y="10058"/>
                </a:lnTo>
                <a:arcTo wR="21600" hR="6334" stAng="-10078063" swAng="4678063"/>
                <a:close/>
              </a:path>
              <a:path fill="darkenLess" w="21600" h="21600">
                <a:moveTo>
                  <a:pt x="21600" y="0"/>
                </a:moveTo>
                <a:arcTo wR="21600" hR="6334" stAng="-5400000" swAng="-5400000"/>
                <a:lnTo>
                  <a:pt x="0" y="6334"/>
                </a:lnTo>
                <a:arcTo wR="21600" hR="6334" stAng="10800000" swAng="-721937"/>
                <a:lnTo>
                  <a:pt x="4128" y="10058"/>
                </a:lnTo>
                <a:arcTo wR="21600" hR="6334" stAng="-10078063" swAng="4678063"/>
                <a:close/>
              </a:path>
            </a:pathLst>
          </a:custGeom>
          <a:solidFill>
            <a:srgbClr val="95ffe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603576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Extending EAGLES recommendations in a multilingual perspect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4572000"/>
            <a:ext cx="65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ynthesis of all the information that is relevant to build a multilingual lexical entry starting from a monolingual descript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EDITED UN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4267080"/>
            <a:ext cx="685800" cy="990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471320" y="739800"/>
            <a:ext cx="48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Basic Notions for Semantic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62360" y="2057400"/>
            <a:ext cx="398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mantic Fra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rgu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hematic Ro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lectional Restric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Fea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mantic Typ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stinctive Fea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mantic Rel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lloc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8320" y="6431040"/>
            <a:ext cx="761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From EAGLES Recommendations on LexSemantics and SIMPL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4572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mantic BN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levance in Multilingual Perspective (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209680"/>
            <a:ext cx="5334120" cy="106704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52680"/>
            <a:ext cx="5334120" cy="106704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495680"/>
            <a:ext cx="5334120" cy="175284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9080" y="2098800"/>
            <a:ext cx="474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colpire1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it-IT" sz="1600" spc="-1" strike="noStrike">
                <a:solidFill>
                  <a:srgbClr val="003366"/>
                </a:solidFill>
                <a:latin typeface="Times New Roman"/>
              </a:rPr>
              <a:t>his death impressed Maria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2666880"/>
            <a:ext cx="2362320" cy="4572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0=ProtoAgent=Ev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2666880"/>
            <a:ext cx="2514600" cy="4572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1=ProtoPatient=Hum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3276720"/>
            <a:ext cx="452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colpire2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it-IT" sz="1600" spc="-1" strike="noStrike">
                <a:solidFill>
                  <a:srgbClr val="003366"/>
                </a:solidFill>
                <a:latin typeface="Times New Roman"/>
              </a:rPr>
              <a:t>the storm damaged the North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809880"/>
            <a:ext cx="2590920" cy="3812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0=ProtoAgent=Phenom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6880" y="3809880"/>
            <a:ext cx="2590920" cy="3812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1=ProtoPatient=Loca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5080" y="4495680"/>
            <a:ext cx="48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lpire3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the killer hit him with the knife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952880"/>
            <a:ext cx="2590920" cy="4572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0=ProtoAgent=Hum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4952880"/>
            <a:ext cx="2514600" cy="4572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1=ProtoPAtient=Hum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5562720"/>
            <a:ext cx="350532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2=Instrumental=Concr.Ent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095880" y="2209680"/>
            <a:ext cx="2514600" cy="914400"/>
            <a:chOff x="6095880" y="2209680"/>
            <a:chExt cx="2514600" cy="914400"/>
          </a:xfrm>
        </p:grpSpPr>
        <p:sp>
          <p:nvSpPr>
            <p:cNvPr id="442" name=""/>
            <p:cNvSpPr/>
            <p:nvPr/>
          </p:nvSpPr>
          <p:spPr>
            <a:xfrm>
              <a:off x="6095880" y="2209680"/>
              <a:ext cx="2514600" cy="9144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72200" y="228600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3366"/>
                  </a:solidFill>
                  <a:latin typeface="Times New Roman"/>
                </a:rPr>
                <a:t>To impr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95160" y="3276720"/>
            <a:ext cx="2515320" cy="914400"/>
            <a:chOff x="6095160" y="3276720"/>
            <a:chExt cx="2515320" cy="914400"/>
          </a:xfrm>
        </p:grpSpPr>
        <p:sp>
          <p:nvSpPr>
            <p:cNvPr id="445" name=""/>
            <p:cNvSpPr/>
            <p:nvPr/>
          </p:nvSpPr>
          <p:spPr>
            <a:xfrm>
              <a:off x="6095880" y="3276720"/>
              <a:ext cx="2514600" cy="9144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8520" y="3352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5160" y="340200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3366"/>
                  </a:solidFill>
                  <a:latin typeface="Times New Roman"/>
                </a:rPr>
                <a:t>To damag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095880" y="4419720"/>
            <a:ext cx="2514600" cy="914400"/>
            <a:chOff x="6095880" y="4419720"/>
            <a:chExt cx="2514600" cy="914400"/>
          </a:xfrm>
        </p:grpSpPr>
        <p:sp>
          <p:nvSpPr>
            <p:cNvPr id="449" name=""/>
            <p:cNvSpPr/>
            <p:nvPr/>
          </p:nvSpPr>
          <p:spPr>
            <a:xfrm>
              <a:off x="6095880" y="4419720"/>
              <a:ext cx="2514600" cy="9144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72560" y="4495680"/>
              <a:ext cx="83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3366"/>
                  </a:solidFill>
                  <a:latin typeface="Times New Roman"/>
                </a:rPr>
                <a:t>To hi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5105520" y="2742840"/>
            <a:ext cx="1295280" cy="1522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57800" y="3809880"/>
            <a:ext cx="1371600" cy="1526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181480" y="5181480"/>
            <a:ext cx="1067040" cy="5335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1840" y="6400800"/>
            <a:ext cx="85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Different Selectional Restrictions on the arguments = different translation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46700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133720"/>
            <a:ext cx="4343400" cy="15238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80" y="22096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Dondol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2819520"/>
            <a:ext cx="1981080" cy="60948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0=Agent=Hum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2819520"/>
            <a:ext cx="2209680" cy="60948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Arg1=Patient=Concr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24280" y="1981080"/>
            <a:ext cx="3962520" cy="9907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048120"/>
            <a:ext cx="3962520" cy="99036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4114800"/>
            <a:ext cx="3962520" cy="9907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5720" y="2057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sw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92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dang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8000" y="4191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90720" y="3657600"/>
            <a:ext cx="1600200" cy="76212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Lex=piede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foot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38280" y="4267080"/>
            <a:ext cx="1752840" cy="91440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Lex=culla (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cradle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038480" y="2514240"/>
            <a:ext cx="1371600" cy="2286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590920" y="3504960"/>
            <a:ext cx="2438280" cy="68580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114800" y="4495680"/>
            <a:ext cx="1066680" cy="6098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362320" y="3581280"/>
            <a:ext cx="838080" cy="381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428640" y="3505320"/>
            <a:ext cx="228600" cy="137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48520" y="2438280"/>
            <a:ext cx="1981080" cy="38124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48520" y="3429000"/>
            <a:ext cx="1981080" cy="38088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24480" y="4572000"/>
            <a:ext cx="1981440" cy="38088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5720" y="62625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exicalization of the arguments to select the transl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4572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emantic BN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Relevance in Multilingual Perspective (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8280" y="5257800"/>
            <a:ext cx="47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ondolare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un braccio (</a:t>
            </a: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wing one’s arms)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ondolare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un piede (</a:t>
            </a: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o dangle one’s feet)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ondolare </a:t>
            </a:r>
            <a:r>
              <a:rPr b="0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 culla</a:t>
            </a:r>
            <a:r>
              <a:rPr b="0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to rock the cradle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1371240" y="0"/>
            <a:ext cx="7772760" cy="1130040"/>
            <a:chOff x="1371240" y="0"/>
            <a:chExt cx="7772760" cy="1130040"/>
          </a:xfrm>
        </p:grpSpPr>
        <p:pic>
          <p:nvPicPr>
            <p:cNvPr id="481" name="" descr=""/>
            <p:cNvPicPr/>
            <p:nvPr/>
          </p:nvPicPr>
          <p:blipFill>
            <a:blip r:embed="rId1"/>
            <a:stretch/>
          </p:blipFill>
          <p:spPr>
            <a:xfrm>
              <a:off x="6934320" y="0"/>
              <a:ext cx="22096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371240" y="609480"/>
              <a:ext cx="45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3366"/>
                  </a:solidFill>
                  <a:latin typeface="Times New Roman"/>
                </a:rPr>
                <a:t>Linking Syntax and Semantic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0" y="2819520"/>
            <a:ext cx="9144000" cy="2057400"/>
            <a:chOff x="0" y="2819520"/>
            <a:chExt cx="9144000" cy="2057400"/>
          </a:xfrm>
        </p:grpSpPr>
        <p:sp>
          <p:nvSpPr>
            <p:cNvPr id="484" name=""/>
            <p:cNvSpPr/>
            <p:nvPr/>
          </p:nvSpPr>
          <p:spPr>
            <a:xfrm>
              <a:off x="0" y="2819520"/>
              <a:ext cx="9144000" cy="2057400"/>
            </a:xfrm>
            <a:prstGeom prst="rect">
              <a:avLst/>
            </a:prstGeom>
            <a:solidFill>
              <a:srgbClr val="f9fcb4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2971800"/>
              <a:ext cx="3048120" cy="14479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0" y="28954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Pred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dare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3657600"/>
              <a:ext cx="83808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rg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66680" y="3657600"/>
              <a:ext cx="83844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rg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3657600"/>
              <a:ext cx="83808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rg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00400" y="3048120"/>
              <a:ext cx="1828800" cy="11430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8680" y="2971800"/>
              <a:ext cx="3048120" cy="1676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16800" y="3048120"/>
              <a:ext cx="14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SynU da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77440" y="304812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SemUda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13920" y="4191120"/>
              <a:ext cx="30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3366"/>
                  </a:solidFill>
                  <a:latin typeface="Times New Roman"/>
                </a:rPr>
                <a:t>Leo dà il libro a Mari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43800" y="3657600"/>
              <a:ext cx="83808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29400" y="3657600"/>
              <a:ext cx="83808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15000" y="3657600"/>
              <a:ext cx="838080" cy="60948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920" y="4800600"/>
              <a:ext cx="5867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04920" y="4267080"/>
              <a:ext cx="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172200" y="4190760"/>
              <a:ext cx="0" cy="609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5280" y="4724280"/>
              <a:ext cx="57150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295280" y="4190760"/>
              <a:ext cx="0" cy="533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010280" y="4190760"/>
              <a:ext cx="0" cy="533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2320" y="4648320"/>
              <a:ext cx="5562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362320" y="4191120"/>
              <a:ext cx="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848720" y="4191120"/>
              <a:ext cx="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76920" y="3505320"/>
              <a:ext cx="8380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819160" y="3581280"/>
              <a:ext cx="5331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22640" y="4267080"/>
              <a:ext cx="21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228a56"/>
                  </a:solidFill>
                  <a:latin typeface="Times New Roman"/>
                </a:rPr>
                <a:t>Isomorphic lin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334120" y="2819520"/>
            <a:ext cx="0" cy="2057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747800" y="1066680"/>
            <a:ext cx="53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BNs for the Multilingual Level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22096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ain Reference: GENELEX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Mult. Lay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asically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ransfer-based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i.e follows a model where a transformation of the source language representation into a suitable target-language  representation is performed (cf. OLIF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9680" y="4114800"/>
            <a:ext cx="79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ecessity to be open to </a:t>
            </a:r>
            <a:r>
              <a:rPr b="1" lang="it-IT" sz="2400" spc="-1" strike="noStrike" u="sng">
                <a:solidFill>
                  <a:srgbClr val="003366"/>
                </a:solidFill>
                <a:uFillTx/>
                <a:latin typeface="Times New Roman"/>
              </a:rPr>
              <a:t>other approaches to multilinguality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Interlingual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irect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746720" y="1066680"/>
            <a:ext cx="58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BNs for the Multilingual Level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6280" y="2133720"/>
            <a:ext cx="786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 at monolingual level BNs mostly concern “static” lexical objects (such as syntactic slots, semantic arguments, restricting features etc.), from a multilingual perspective BNs involve the set of operations that uses these very lexical objects as argument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6920" y="3699000"/>
            <a:ext cx="76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wo families of BNs can be identifie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ultilingual correspond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Operations that can be used in a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test and act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443240" y="8380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ultilingual Corresponden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2157480"/>
            <a:ext cx="762012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inking processes of monolingual SL-TL lexical object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orphological unit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yntactic uni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lo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Semantic uni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Predica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ixed pairs of semantic and syntactic units</a:t>
            </a:r>
            <a:r>
              <a:rPr b="0" lang="it-IT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Times New Roman"/>
              </a:rPr>
              <a:t>Synse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60560" y="609480"/>
            <a:ext cx="57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Multilingual Correspondence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3505320" y="1981080"/>
            <a:ext cx="5638680" cy="4496040"/>
            <a:chOff x="3505320" y="1981080"/>
            <a:chExt cx="5638680" cy="4496040"/>
          </a:xfrm>
        </p:grpSpPr>
        <p:sp>
          <p:nvSpPr>
            <p:cNvPr id="525" name=""/>
            <p:cNvSpPr/>
            <p:nvPr/>
          </p:nvSpPr>
          <p:spPr>
            <a:xfrm>
              <a:off x="3809880" y="3886200"/>
              <a:ext cx="2133720" cy="9907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05320" y="2362320"/>
              <a:ext cx="2514600" cy="2666880"/>
            </a:xfrm>
            <a:prstGeom prst="rect">
              <a:avLst/>
            </a:prstGeom>
            <a:solidFill>
              <a:srgbClr val="f9fcb4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72200" y="2362320"/>
              <a:ext cx="2743200" cy="2666880"/>
            </a:xfrm>
            <a:prstGeom prst="rect">
              <a:avLst/>
            </a:prstGeom>
            <a:solidFill>
              <a:srgbClr val="f9fcb4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19720" y="4952880"/>
              <a:ext cx="3581280" cy="1524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Multi-SemU: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3366"/>
                  </a:solidFill>
                  <a:latin typeface="Times New Roman"/>
                </a:rPr>
                <a:t>to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miss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mancar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14800" y="3962520"/>
              <a:ext cx="83808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rg0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3962520"/>
              <a:ext cx="83808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rg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24480" y="3962520"/>
              <a:ext cx="83844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rg0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38880" y="3962520"/>
              <a:ext cx="83844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rg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37040" y="449568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SemU: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mancar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05360" y="4495680"/>
              <a:ext cx="134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SemU: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mi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7080" y="5791320"/>
              <a:ext cx="198144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MultArg0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IT</a:t>
              </a: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Arg1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E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4480" y="5791320"/>
              <a:ext cx="1752840" cy="53316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MultArg1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IT</a:t>
              </a: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Arg0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Times New Roman"/>
                </a:rPr>
                <a:t>E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400" y="4419720"/>
              <a:ext cx="685800" cy="1523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0080" y="4419720"/>
              <a:ext cx="1371600" cy="1523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81480" y="2133720"/>
              <a:ext cx="22100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3366"/>
                  </a:solidFill>
                  <a:latin typeface="Times New Roman"/>
                </a:rPr>
                <a:t>Maria mi manca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003366"/>
                  </a:solidFill>
                  <a:latin typeface="Times New Roman"/>
                </a:rPr>
                <a:t>I miss Maria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1120" y="3200400"/>
              <a:ext cx="838080" cy="533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os0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81480" y="3200400"/>
              <a:ext cx="838440" cy="533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os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29400" y="3200400"/>
              <a:ext cx="838080" cy="533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os0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3200400"/>
              <a:ext cx="838080" cy="533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pos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4419360" y="3657600"/>
              <a:ext cx="7596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20120" y="2438280"/>
              <a:ext cx="1218960" cy="53352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SynU: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mi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086240" y="2895480"/>
              <a:ext cx="685800" cy="38124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58200" y="2895480"/>
              <a:ext cx="76320" cy="38124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943600" y="4419720"/>
              <a:ext cx="1752480" cy="144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86600" y="4495680"/>
              <a:ext cx="0" cy="1447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72200" y="3886200"/>
              <a:ext cx="2743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638680" y="3733920"/>
              <a:ext cx="30492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933960" y="3733920"/>
              <a:ext cx="7596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8001000" y="3657600"/>
              <a:ext cx="38088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610480" y="19810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80880" y="1447920"/>
            <a:ext cx="3810240" cy="2743200"/>
            <a:chOff x="380880" y="1447920"/>
            <a:chExt cx="3810240" cy="2743200"/>
          </a:xfrm>
        </p:grpSpPr>
        <p:grpSp>
          <p:nvGrpSpPr>
            <p:cNvPr id="557" name=""/>
            <p:cNvGrpSpPr/>
            <p:nvPr/>
          </p:nvGrpSpPr>
          <p:grpSpPr>
            <a:xfrm>
              <a:off x="380880" y="1752120"/>
              <a:ext cx="3810240" cy="1600560"/>
              <a:chOff x="380880" y="1752120"/>
              <a:chExt cx="3810240" cy="1600560"/>
            </a:xfrm>
          </p:grpSpPr>
          <p:sp>
            <p:nvSpPr>
              <p:cNvPr id="558" name=""/>
              <p:cNvSpPr/>
              <p:nvPr/>
            </p:nvSpPr>
            <p:spPr>
              <a:xfrm>
                <a:off x="2362320" y="1752480"/>
                <a:ext cx="1828800" cy="1600200"/>
              </a:xfrm>
              <a:prstGeom prst="rect">
                <a:avLst/>
              </a:prstGeom>
              <a:solidFill>
                <a:srgbClr val="f9fcb4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0880" y="1752480"/>
                <a:ext cx="1828800" cy="1600200"/>
              </a:xfrm>
              <a:prstGeom prst="rect">
                <a:avLst/>
              </a:prstGeom>
              <a:solidFill>
                <a:srgbClr val="f9fcb4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3520" y="2743200"/>
                <a:ext cx="1066680" cy="533520"/>
              </a:xfrm>
              <a:prstGeom prst="rect">
                <a:avLst/>
              </a:prstGeom>
              <a:solidFill>
                <a:srgbClr val="d9f5f1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MU:</a:t>
                </a:r>
                <a:r>
                  <a:rPr b="0" i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048120" y="2743200"/>
                <a:ext cx="1066680" cy="533520"/>
              </a:xfrm>
              <a:prstGeom prst="rect">
                <a:avLst/>
              </a:prstGeom>
              <a:solidFill>
                <a:srgbClr val="d9f5f1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Times New Roman"/>
                  </a:rPr>
                  <a:t>MU:</a:t>
                </a:r>
                <a:r>
                  <a:rPr b="0" i="1" lang="en-US" sz="2000" spc="-1" strike="noStrike">
                    <a:solidFill>
                      <a:srgbClr val="003366"/>
                    </a:solidFill>
                    <a:latin typeface="Times New Roman"/>
                  </a:rPr>
                  <a:t>gatto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0880" y="2590920"/>
                <a:ext cx="18288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3520" y="1981080"/>
                <a:ext cx="1066680" cy="533520"/>
              </a:xfrm>
              <a:prstGeom prst="rect">
                <a:avLst/>
              </a:prstGeom>
              <a:solidFill>
                <a:srgbClr val="d9f5f1"/>
              </a:solidFill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SynU:</a:t>
                </a:r>
                <a:r>
                  <a:rPr b="0" i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ca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95480" y="1981080"/>
                <a:ext cx="1219320" cy="533520"/>
              </a:xfrm>
              <a:prstGeom prst="rect">
                <a:avLst/>
              </a:prstGeom>
              <a:solidFill>
                <a:srgbClr val="d9f5f1"/>
              </a:solidFill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</a:rPr>
                  <a:t>SynU:</a:t>
                </a:r>
                <a:r>
                  <a:rPr b="0" i="1" lang="it-IT" sz="2000" spc="-1" strike="noStrike">
                    <a:solidFill>
                      <a:srgbClr val="003366"/>
                    </a:solidFill>
                    <a:latin typeface="Times New Roman"/>
                  </a:rPr>
                  <a:t>gatto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761760" y="2437920"/>
                <a:ext cx="152280" cy="38124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3657600" y="2437920"/>
                <a:ext cx="228600" cy="3049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456840" y="1752120"/>
                <a:ext cx="304920" cy="38124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581280" y="1828440"/>
                <a:ext cx="304920" cy="30492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1447920" y="3200400"/>
              <a:ext cx="1828800" cy="9907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Multi-MU: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cat</a:t>
              </a:r>
              <a:r>
                <a:rPr b="0" lang="it-IT" sz="20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r>
                <a:rPr b="0" i="1" lang="it-IT" sz="2000" spc="-1" strike="noStrike">
                  <a:solidFill>
                    <a:srgbClr val="003366"/>
                  </a:solidFill>
                  <a:latin typeface="Times New Roman"/>
                </a:rPr>
                <a:t>gatto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62320" y="2590920"/>
              <a:ext cx="1828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0880" y="1905120"/>
              <a:ext cx="1828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62320" y="1905120"/>
              <a:ext cx="1828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400" y="1447920"/>
              <a:ext cx="53352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047760" y="3276720"/>
              <a:ext cx="533160" cy="3808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3000" y="3276720"/>
              <a:ext cx="380880" cy="457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828000" y="1066680"/>
            <a:ext cx="79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Operation families (</a:t>
            </a:r>
            <a:r>
              <a:rPr b="0" i="1" lang="it-IT" sz="3200" spc="-1" strike="noStrike">
                <a:solidFill>
                  <a:srgbClr val="003366"/>
                </a:solidFill>
                <a:latin typeface="Times New Roman"/>
              </a:rPr>
              <a:t>test and action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mechanis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362320" y="3352680"/>
            <a:ext cx="4812840" cy="3235320"/>
            <a:chOff x="2362320" y="3352680"/>
            <a:chExt cx="4812840" cy="3235320"/>
          </a:xfrm>
        </p:grpSpPr>
        <p:grpSp>
          <p:nvGrpSpPr>
            <p:cNvPr id="579" name=""/>
            <p:cNvGrpSpPr/>
            <p:nvPr/>
          </p:nvGrpSpPr>
          <p:grpSpPr>
            <a:xfrm>
              <a:off x="2369880" y="3355920"/>
              <a:ext cx="4795920" cy="3228480"/>
              <a:chOff x="2369880" y="3355920"/>
              <a:chExt cx="4795920" cy="322848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369880" y="3355920"/>
                <a:ext cx="1725480" cy="461160"/>
                <a:chOff x="2369880" y="3355920"/>
                <a:chExt cx="1725480" cy="461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369880" y="3355920"/>
                  <a:ext cx="1725480" cy="461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2369880" y="3355920"/>
                  <a:ext cx="1725120" cy="461160"/>
                  <a:chOff x="2369880" y="3355920"/>
                  <a:chExt cx="1725120" cy="4611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442600" y="3355920"/>
                    <a:ext cx="1579320" cy="46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onstrain</a:t>
                    </a:r>
                    <a:endParaRPr b="0" lang="en-US" sz="18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69880" y="3355920"/>
                    <a:ext cx="1725120" cy="46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5" name=""/>
              <p:cNvGrpSpPr/>
              <p:nvPr/>
            </p:nvGrpSpPr>
            <p:grpSpPr>
              <a:xfrm>
                <a:off x="4095720" y="3355920"/>
                <a:ext cx="3070080" cy="461160"/>
                <a:chOff x="4095720" y="3355920"/>
                <a:chExt cx="3070080" cy="461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95720" y="3355920"/>
                  <a:ext cx="3070080" cy="4611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7" name=""/>
                <p:cNvGrpSpPr/>
                <p:nvPr/>
              </p:nvGrpSpPr>
              <p:grpSpPr>
                <a:xfrm>
                  <a:off x="4095720" y="3355920"/>
                  <a:ext cx="3069720" cy="461160"/>
                  <a:chOff x="4095720" y="3355920"/>
                  <a:chExt cx="3069720" cy="46116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4169160" y="3355920"/>
                    <a:ext cx="2923200" cy="46116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Add</a:t>
                    </a:r>
                    <a:endParaRPr b="0" lang="en-US" sz="18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4095720" y="3355920"/>
                    <a:ext cx="3069720" cy="46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0" name=""/>
              <p:cNvGrpSpPr/>
              <p:nvPr/>
            </p:nvGrpSpPr>
            <p:grpSpPr>
              <a:xfrm>
                <a:off x="2369880" y="3817080"/>
                <a:ext cx="1725480" cy="461160"/>
                <a:chOff x="2369880" y="3817080"/>
                <a:chExt cx="1725480" cy="461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442600" y="381708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Self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369880" y="381708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095720" y="3817080"/>
                <a:ext cx="3070080" cy="461160"/>
                <a:chOff x="4095720" y="3817080"/>
                <a:chExt cx="3070080" cy="461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169160" y="381708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Slot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95720" y="381708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369880" y="4278240"/>
                <a:ext cx="1725480" cy="461160"/>
                <a:chOff x="2369880" y="4278240"/>
                <a:chExt cx="1725480" cy="461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442600" y="427824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Slot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369880" y="427824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095720" y="4278240"/>
                <a:ext cx="3070080" cy="461160"/>
                <a:chOff x="4095720" y="4278240"/>
                <a:chExt cx="3070080" cy="461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169160" y="427824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Phrase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095720" y="427824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2369880" y="4739400"/>
                <a:ext cx="1725480" cy="461160"/>
                <a:chOff x="2369880" y="4739400"/>
                <a:chExt cx="1725480" cy="461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2442600" y="473940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Phrase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369880" y="473940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095720" y="4739400"/>
                <a:ext cx="3070080" cy="461160"/>
                <a:chOff x="4095720" y="4739400"/>
                <a:chExt cx="3070080" cy="461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169160" y="473940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Syntactic Feature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095720" y="473940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369880" y="5200560"/>
                <a:ext cx="1725480" cy="461160"/>
                <a:chOff x="2369880" y="5200560"/>
                <a:chExt cx="1725480" cy="461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442600" y="520056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Argument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69880" y="520056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095720" y="5200560"/>
                <a:ext cx="3070080" cy="461160"/>
                <a:chOff x="4095720" y="5200560"/>
                <a:chExt cx="3070080" cy="461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169160" y="520056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Semantic Feature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095720" y="520056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2369880" y="5662080"/>
                <a:ext cx="1725480" cy="461160"/>
                <a:chOff x="2369880" y="5662080"/>
                <a:chExt cx="1725480" cy="461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2442600" y="566208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369880" y="566208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095720" y="5662080"/>
                <a:ext cx="3070080" cy="461160"/>
                <a:chOff x="4095720" y="5662080"/>
                <a:chExt cx="3070080" cy="461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169160" y="566208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Argument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095720" y="566208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2369880" y="6123240"/>
                <a:ext cx="1725480" cy="461160"/>
                <a:chOff x="2369880" y="6123240"/>
                <a:chExt cx="1725480" cy="461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42600" y="6123240"/>
                  <a:ext cx="1579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369880" y="6123240"/>
                  <a:ext cx="17254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095720" y="6123240"/>
                <a:ext cx="3070080" cy="461160"/>
                <a:chOff x="4095720" y="6123240"/>
                <a:chExt cx="3070080" cy="461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169160" y="6123240"/>
                  <a:ext cx="292356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c3300"/>
                      </a:solidFill>
                      <a:latin typeface="Times New Roman"/>
                      <a:ea typeface="Times New Roman"/>
                    </a:rPr>
                    <a:t>Relation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095720" y="6123240"/>
                  <a:ext cx="3070080" cy="46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2362320" y="3352680"/>
              <a:ext cx="4812840" cy="323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strai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perform a restriction on the value of syntactic and semantic elements, forcing for example a slot of the syntactic frame to be realized by a certain phras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2819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d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add some information to arrive to the correct equivalen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438280" y="5867280"/>
            <a:ext cx="3962520" cy="8384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66"/>
                </a:solidFill>
                <a:latin typeface="Times New Roman"/>
              </a:rPr>
              <a:t>Colpo di Spada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i="1" lang="it-IT" sz="2400" spc="-1" strike="noStrike">
                <a:solidFill>
                  <a:srgbClr val="003366"/>
                </a:solidFill>
                <a:latin typeface="Times New Roman"/>
              </a:rPr>
              <a:t>Sword Strok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2514600"/>
            <a:ext cx="8610480" cy="3276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0" y="1143000"/>
            <a:ext cx="44956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685800"/>
            <a:ext cx="4114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3581280"/>
            <a:ext cx="2667240" cy="6858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828800" y="838080"/>
            <a:ext cx="1905120" cy="7621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U: colp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6520" y="37339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dd Position [P0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4495680"/>
            <a:ext cx="4191120" cy="7621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nstrainPosition[P0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COMP=PPintrod:”di”+”spada”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371600"/>
            <a:ext cx="2133720" cy="7621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U:strok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676160" y="1447920"/>
            <a:ext cx="1143000" cy="228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66680" y="419112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9988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ono-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14840" y="11430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ono-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3505320"/>
            <a:ext cx="2895840" cy="6858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ddPosition [P0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67280" y="1981080"/>
            <a:ext cx="45720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0600" y="4495680"/>
            <a:ext cx="4114800" cy="7621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nstrainPosition[P0=NCOMP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NP:”sword”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5720" y="4038480"/>
            <a:ext cx="60948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2760" y="259092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ulti-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320" y="-9360"/>
            <a:ext cx="59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From Mono- to Multi-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5486400"/>
            <a:ext cx="15238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2514600"/>
            <a:ext cx="2590920" cy="9907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Mult-Syn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colpo+strok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1600200"/>
            <a:ext cx="457200" cy="99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5520" y="2057400"/>
            <a:ext cx="30456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050280" y="838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Times New Roman"/>
              </a:rPr>
              <a:t>Main Inpu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0672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From EAGLES: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it-IT" sz="2200" spc="-1" strike="noStrike">
                <a:solidFill>
                  <a:srgbClr val="003366"/>
                </a:solidFill>
                <a:latin typeface="Times New Roman"/>
              </a:rPr>
              <a:t>Preliminary Recommendations on Subcategorizati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66ff"/>
                </a:solidFill>
                <a:latin typeface="Times New Roman"/>
              </a:rPr>
              <a:t>(http://www.ilc.pi.cnr.it/EAGLES96/synlex/synlex.html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it-IT" sz="2200" spc="-1" strike="noStrike">
                <a:solidFill>
                  <a:srgbClr val="003366"/>
                </a:solidFill>
                <a:latin typeface="Times New Roman"/>
              </a:rPr>
              <a:t>Preliminary Recommendations on Lexical Semantics Encoding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it-IT" sz="2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lingue.ilc.pi.cnr.it/EAGLES96/EAGLESLE.PDF</a:t>
            </a:r>
            <a:r>
              <a:rPr b="0" lang="it-IT" sz="22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GENELEX Mode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PAROLE-SIMPLE Specification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ISLE: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3366"/>
                </a:solidFill>
                <a:latin typeface="Times New Roman"/>
              </a:rPr>
              <a:t>Survey of Major Approaches towards bilingual/multilingual lexicons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66ff"/>
                </a:solidFill>
                <a:latin typeface="Times New Roman"/>
              </a:rPr>
              <a:t>(http://lingue.ilc.pi.cnr.it/EAGLES96/isle/clwg_doc/isle_D2.1_3.1.zip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Work on Sense Indicator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Entries creati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3366"/>
                </a:solidFill>
                <a:latin typeface="Times New Roman"/>
              </a:rPr>
              <a:t>OLIF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Towards an Interlingual Approach…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519760" y="1870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838080"/>
            <a:ext cx="3048120" cy="14479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0" y="7621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re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15238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66680" y="1523880"/>
            <a:ext cx="83844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33720" y="15238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914400"/>
            <a:ext cx="1828800" cy="11430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38680" y="838080"/>
            <a:ext cx="3048120" cy="16765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16800" y="9144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U d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77440" y="9144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mUd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09600" y="210672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Leo dà il libro a Ma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43800" y="15238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15238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5000" y="15238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666880"/>
            <a:ext cx="586728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04920" y="2133360"/>
            <a:ext cx="0" cy="53316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172200" y="2057040"/>
            <a:ext cx="0" cy="60948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2590920"/>
            <a:ext cx="5715000" cy="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295280" y="205740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010280" y="205740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362320" y="20574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848720" y="20574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9fcb4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00800" y="4343400"/>
            <a:ext cx="2743200" cy="12193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8200" y="5638680"/>
            <a:ext cx="2755800" cy="121932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00800" y="62485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305920" y="62485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62485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05920" y="48769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315200" y="48769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00800" y="4876920"/>
            <a:ext cx="838080" cy="60948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2800" y="563868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Leo gives Mary a boo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68760" y="434340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66"/>
                </a:solidFill>
                <a:latin typeface="Times New Roman"/>
              </a:rPr>
              <a:t>Leo gives a book to Mar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60" y="4419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735920" y="2403360"/>
            <a:ext cx="6188760" cy="1787760"/>
            <a:chOff x="1735920" y="2403360"/>
            <a:chExt cx="6188760" cy="1787760"/>
          </a:xfrm>
        </p:grpSpPr>
        <p:sp>
          <p:nvSpPr>
            <p:cNvPr id="692" name=""/>
            <p:cNvSpPr/>
            <p:nvPr/>
          </p:nvSpPr>
          <p:spPr>
            <a:xfrm>
              <a:off x="2362320" y="2514600"/>
              <a:ext cx="5562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52480" y="2438280"/>
              <a:ext cx="6019920" cy="1752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35920" y="2403360"/>
              <a:ext cx="265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InterLing</a:t>
              </a:r>
              <a:r>
                <a:rPr b="0" i="1" lang="it-IT" sz="2400" spc="-1" strike="noStrike">
                  <a:solidFill>
                    <a:srgbClr val="003366"/>
                  </a:solidFill>
                  <a:latin typeface="Times New Roman"/>
                </a:rPr>
                <a:t>Pred</a:t>
              </a: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GIV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05120" y="3124080"/>
              <a:ext cx="1600200" cy="6858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Arg0:Agen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81280" y="3124080"/>
              <a:ext cx="1752840" cy="6858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Arg1:Patien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10080" y="3124080"/>
              <a:ext cx="2210040" cy="685800"/>
            </a:xfrm>
            <a:prstGeom prst="rect">
              <a:avLst/>
            </a:prstGeom>
            <a:solidFill>
              <a:srgbClr val="d9f5f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66"/>
                  </a:solidFill>
                  <a:latin typeface="Times New Roman"/>
                </a:rPr>
                <a:t>Arg2:Beneficia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8673840" y="2286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52680" y="5029200"/>
            <a:ext cx="1828800" cy="114300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4876920"/>
            <a:ext cx="3048120" cy="144756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56386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90720" y="56386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5638680"/>
            <a:ext cx="838080" cy="609840"/>
          </a:xfrm>
          <a:prstGeom prst="rect">
            <a:avLst/>
          </a:prstGeom>
          <a:solidFill>
            <a:srgbClr val="d9f5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rg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0" y="4952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red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e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2057400"/>
            <a:ext cx="1447560" cy="1143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0200" y="2057400"/>
            <a:ext cx="2133720" cy="1295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2057400"/>
            <a:ext cx="2971800" cy="11430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33520" y="3733560"/>
            <a:ext cx="1676160" cy="19810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600200" y="3733560"/>
            <a:ext cx="2286000" cy="2057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362320" y="3657240"/>
            <a:ext cx="3352680" cy="20574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29720" y="51814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emUgi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6172200"/>
            <a:ext cx="5867280" cy="5335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6172200"/>
            <a:ext cx="6781680" cy="152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6172200"/>
            <a:ext cx="4800600" cy="5335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136960" y="91440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Methodological Step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3115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Survey of existing mono/multilingual re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Lexicographic analysis of complex words: </a:t>
            </a:r>
            <a:r>
              <a:rPr b="0" i="1" lang="it-IT" sz="2800" spc="-1" strike="noStrike">
                <a:solidFill>
                  <a:srgbClr val="003366"/>
                </a:solidFill>
                <a:latin typeface="Times New Roman"/>
              </a:rPr>
              <a:t>colpo</a:t>
            </a: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 case-stu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Times New Roman"/>
              </a:rPr>
              <a:t>Entry cre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Survey…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7480" y="990720"/>
            <a:ext cx="58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Times New Roman"/>
              </a:rPr>
              <a:t>Lexical Resources Surveyed ..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7080" y="2260440"/>
            <a:ext cx="8386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Times New Roman"/>
              </a:rPr>
              <a:t>MRDs</a:t>
            </a:r>
            <a:r>
              <a:rPr b="0" lang="it-IT" sz="2600" spc="-1" strike="noStrike">
                <a:solidFill>
                  <a:srgbClr val="003366"/>
                </a:solidFill>
                <a:latin typeface="Times New Roman"/>
              </a:rPr>
              <a:t>: Hachette-Oxford, Collins…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Times New Roman"/>
              </a:rPr>
              <a:t>CLs</a:t>
            </a:r>
            <a:r>
              <a:rPr b="0" lang="it-IT" sz="2600" spc="-1" strike="noStrike">
                <a:solidFill>
                  <a:srgbClr val="003366"/>
                </a:solidFill>
                <a:latin typeface="Times New Roman"/>
              </a:rPr>
              <a:t>: Collins-Robert (En-Fr), FrameNet, EuroWordNet,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Times New Roman"/>
              </a:rPr>
              <a:t>PAROLE-SIMPLE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Times New Roman"/>
              </a:rPr>
              <a:t>MT</a:t>
            </a:r>
            <a:r>
              <a:rPr b="0" lang="it-IT" sz="2600" spc="-1" strike="noStrike">
                <a:solidFill>
                  <a:srgbClr val="003366"/>
                </a:solidFill>
                <a:latin typeface="Times New Roman"/>
              </a:rPr>
              <a:t>: EUROTRA, Metal&amp;Logos, EDR, SYSTRAN, LCS Lexicons, Microsoft Resources, VerbMobil, GENELEX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-9360" y="2057400"/>
            <a:ext cx="93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Entry Components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 headword, phonetic transcription, inflected form 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Morphosyntactic Info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 POS marker, Gender, Number, Derivation 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Syntactic Info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 Subcategorization Frame, Obligatory of Complements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uxiliary, Alternations 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Semantic Info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 Semantic Type, Argument Structure, Semantic Relation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Domain, 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Translation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: (near-)equivalent, gloss, multiwords, usage notes, freq., 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85920" y="99072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Information Surveyed in Lexical Resour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3160" y="64008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Times New Roman"/>
              </a:rPr>
              <a:t>First input for the identification of B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6172200"/>
            <a:ext cx="609840" cy="685800"/>
          </a:xfrm>
          <a:custGeom>
            <a:avLst/>
            <a:gdLst>
              <a:gd name="textAreaLeft" fmla="*/ 81720 w 609840"/>
              <a:gd name="textAreaRight" fmla="*/ 528120 w 6098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3366"/>
                </a:solidFill>
                <a:latin typeface="Times New Roman"/>
              </a:rPr>
              <a:t>Colpo</a:t>
            </a: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case-study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7720" y="23623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olpo (n.):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blow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3366"/>
                </a:solidFill>
                <a:latin typeface="Times New Roman"/>
              </a:rPr>
              <a:t>stroke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…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89520" y="3352680"/>
            <a:ext cx="65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nalysis of the monolingual behaviour (comm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syntactic contexts, sense inventory)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Analysis of the English equivalent…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219320" y="533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the </a:t>
            </a:r>
            <a:r>
              <a:rPr b="0" i="1" lang="it-IT" sz="3200" spc="-1" strike="noStrike">
                <a:solidFill>
                  <a:srgbClr val="003366"/>
                </a:solidFill>
                <a:latin typeface="Times New Roman"/>
              </a:rPr>
              <a:t>colpo</a:t>
            </a:r>
            <a:r>
              <a:rPr b="0" lang="it-IT" sz="3200" spc="-1" strike="noStrike">
                <a:solidFill>
                  <a:srgbClr val="003366"/>
                </a:solidFill>
                <a:latin typeface="Times New Roman"/>
              </a:rPr>
              <a:t> Case Study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925640"/>
            <a:ext cx="899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Translated almost always on the basis of </a:t>
            </a:r>
            <a:r>
              <a:rPr b="0" lang="it-IT" sz="2400" spc="-1" strike="noStrike" u="sng">
                <a:solidFill>
                  <a:srgbClr val="003366"/>
                </a:solidFill>
                <a:uFillTx/>
                <a:latin typeface="Times New Roman"/>
              </a:rPr>
              <a:t>collocational and contextual informa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Very frequent: 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un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colpo di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 + [INSTRUMENT] (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colpo di martello, colpo di spada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…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Possible transl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[ARTICLE] + </a:t>
            </a: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blow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 +[PREP-WITH] + [ARTICLE OR POSSESSIVE] + [INSTRUMENT]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ut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[INSTRUMENT]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{frusta (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hip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} then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p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s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[INSTRUMENT]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{falce (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ckl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} then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p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we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[INSTRUMENT]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{ testa (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ad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} then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p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a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f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[INSTRUMENT]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{ tacco (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el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} then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p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el pr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tc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4:18:28Z</dcterms:created>
  <dc:creator>Francesca Bertagna</dc:creator>
  <dc:description/>
  <dc:language>en-US</dc:language>
  <cp:lastModifiedBy>Francesca Bertagna</cp:lastModifiedBy>
  <dcterms:modified xsi:type="dcterms:W3CDTF">2002-12-01T09:03:38Z</dcterms:modified>
  <cp:revision>25</cp:revision>
  <dc:subject/>
  <dc:title>Presentazione di PowerPoint</dc:title>
</cp:coreProperties>
</file>