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0213-0590-49DE-8239-31A5B45ED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49F-F37C-433C-A830-4EED3564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1723-6150-43B2-9290-042BFE16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191-EB5D-4398-9FFC-2C5E857D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01B-A888-40AD-AFC5-AE96B3278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AEFC-5C46-42C2-AE4F-1E850CCA4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16A9-25C8-4FC6-BD53-5723C60C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BBE9-601F-42D4-9B33-C9E658CD3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40BE-0160-4385-A6D4-B77AB427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28F-930D-4ED8-A696-FF354E7BA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3450-F205-4FE1-90BC-B4A147C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07EC-0AD7-4AA4-ACC5-4BAB44F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A0CC-0433-4860-BE3D-AA75CF8A7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retching NLE Research</a:t>
            </a: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ase for E-Learning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617220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listair Willis and Anne de Roe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aculty of Maths and Computing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The Open University, Walton Hall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Milton Keynes, MK7 6AA, U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Open Universi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ed distance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rse materials written central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l tutor cont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rgest UK univers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200,000 students worldwide, 180,000 on-l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rd largest university worldwi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60640" indent="-2606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ving towards e-learning experi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onic submission of course wor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-delivery of course mate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64480" indent="-21708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Open Universities Globall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Open Universities world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Holland, Singapore, Hong Kong, India, NZ, Arab OU, Africa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nd other distance learning schoo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creasingly electronically ba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enetration of technology limiting fa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is will cha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anguage engineering techniques to support student experience/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 e-Learning Research Them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557000"/>
            <a:ext cx="777240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urrent research o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dentification of conceptual gaps in lear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ing diagrams and text in assess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utomatic assessment in structured specialist domai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alising feed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national agend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ilor made e-lear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arning in minority langu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60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 has (potentially) many resources avail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xtual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cle (course material, model answ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udent submiss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utor feedba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itudinal infor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ain specific terminology and ontolo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Challenge...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amework for collecting and annotating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rge and text ba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egration of resour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tolog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sess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LE Solutions that are portable across language type (eg Arabic?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380360" y="6095880"/>
            <a:ext cx="17636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7T08:13:59Z</dcterms:created>
  <dc:creator>Fraser Woodburn</dc:creator>
  <dc:description/>
  <dc:language>en-US</dc:language>
  <cp:lastModifiedBy>Paola Baroni</cp:lastModifiedBy>
  <dcterms:modified xsi:type="dcterms:W3CDTF">2004-07-09T13:14:55Z</dcterms:modified>
  <cp:revision>8</cp:revision>
  <dc:subject/>
  <dc:title>Stretching NLE Research The Case for E-Learning</dc:title>
</cp:coreProperties>
</file>