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E00-742C-46FA-9D95-B90262FC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C18-574F-4609-9DDA-A32834DB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357-FA44-42DF-807E-84383A16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30F-57BE-45B9-97E4-A7ADA5B0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E156-096A-4ED8-96B1-F2564C82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A2EF-9759-481B-A5F6-4D936E90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2BF8-8628-4E8D-B716-4FAEF5B1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7A0A-57B2-449C-AD8F-0DD213F4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6209-7C2A-49D0-A361-C36BA171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F434-9C25-47FB-AF64-9E976979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DC2A-8F56-4309-857A-241ECD23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2CB-7A68-4C97-9859-FE4D3188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E6A5-35D0-4986-996C-37674D0D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809D-8331-4FC1-BDD4-82A82AB6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7596-344C-48C1-BE2B-190900F3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BA1A-91FD-4886-81B2-3880674A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0135-7DF9-4C58-A428-FF6BE8F9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0AF-71F0-45E1-A0F2-E503D445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786-F2B4-4F29-8B85-D8677D6F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E0C-1E67-4C01-AC7A-F7816CF6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E60-4230-4DEC-9A85-D2753970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CEF-8B39-4D4E-A2EA-689641A8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243-39DA-4277-BC7A-686B741D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B4C1-5971-400B-AD88-A910B8C1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0458c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0458c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346C-159E-49BE-8530-9272C92EAB49}" type="slidenum">
              <a:rPr b="0" lang="en-US" sz="1400" spc="-1" strike="noStrike">
                <a:solidFill>
                  <a:srgbClr val="40458c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0458c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0458c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1912-7C98-4AB0-9499-18B03D894818}" type="slidenum">
              <a:rPr b="0" lang="en-US" sz="1400" spc="-1" strike="noStrike">
                <a:solidFill>
                  <a:srgbClr val="40458c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Multilingual Lexicon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okunaga Takenobu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okyo Institute of Technology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Goal &amp; Milestone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A multilingual lexicon of 200,000 entries for the 20 languages (hopefully including Asian languages) that is usable for MT systems by 2015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Defining specifications of entries (3 yrs)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Basic 5,000 entries (2 yrs)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caling up to 200,000 entries (5 yrs)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EAGLES applied on Asian Languages (ISLE WS)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hinese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(Formosan)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Hindi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Japanese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Korean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hai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Distribute the EAGLES documents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est applicability on each language (noun, verb) by comparing existing linguistic resources (lexicon, tagged corpora etc.)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omparison and summarization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General Comment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ear contract between inflectional languages and others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Information marked by inflection in the EAGLES framework is often expressed by auxiliaries, particles and affixes in Asian languages.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Information and its representation should be distinguished clearly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160020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Chu-Ren Huang (Chinese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Elizabeth Zeiton (Formosan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Paul J.K. Li (Formosan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Dipti Misra Sharma (Hindi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Tokunaga Takenobu (Japanes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Hae-Yun Lee (Korean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sanee Kawtrakul (Thai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Thatsanee Charoenporn (Thai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Virach Sornlertlamvanich (Thai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ontributor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8:21:00Z</dcterms:created>
  <dc:creator>Department of Computer Science</dc:creator>
  <dc:description/>
  <dc:language>en-US</dc:language>
  <cp:lastModifiedBy>Paola Baroni</cp:lastModifiedBy>
  <cp:lastPrinted>1904-01-01T00:00:00Z</cp:lastPrinted>
  <dcterms:modified xsi:type="dcterms:W3CDTF">2004-07-09T13:14:50Z</dcterms:modified>
  <cp:revision>8</cp:revision>
  <dc:subject/>
  <dc:title>Multilingual Lexicon</dc:title>
</cp:coreProperties>
</file>