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D24-67AB-41B3-9305-A01F2B64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D44-A09C-4134-8945-327C77A9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FF9-425B-4898-AEE8-F08C9C77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BF1-AFB4-4A29-8FCF-990F4B95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6FF-098C-41B7-A43A-E7063085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EBB-79E8-489E-B7CE-2E0E5008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64E-B8D7-494D-9E59-C30A02B3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33C-6C66-4340-9380-8F2C029B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015-593C-43CA-B6F3-D2D1AA36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9BD-BB9B-43CD-ABA0-FD07F9D2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FD6-79DE-4353-8027-8F2E498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D37-5971-47D0-8213-BD3A219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262F-7404-4084-AEAC-E16920638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ically challenged language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us Ro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COCOSDA &amp; ICCWLRE 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EC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inciple: All languages are `technologically challenged`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guages are more `technologically challenged` than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r of scale and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determining whether a language can be regarded as `technologically challenged`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urrent phase of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languages have a longer `technological history`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resources &amp;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 of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languages may still be regarded as technologically challenged if they do not have full-fledged Speech-to-Speech translation capabilities – others if they do not have electronic dictionaries 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being `developed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 (acade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really expect all languages to be `technologically developed`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available expertise (linguistic and technological) in a particular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map implies availability of expertise – not necessarily th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: Human capacity building as a goal in the roadmap strategy?  (Integrated training programm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off point for development of “technologically challenged languages”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Case of SA Englis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Situat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her tongue division (n=40,5 mil spea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04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2120" y="1752480"/>
          <a:ext cx="73911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391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iorities should be set in developing languages at technological le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fact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via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-political fact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. Language specific speech based systems  empowering pre-literate communities?  (Given the growth of mobile communications in Afric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03:32:16Z</dcterms:created>
  <dc:creator>CSIR</dc:creator>
  <dc:description/>
  <dc:language>en-US</dc:language>
  <cp:lastModifiedBy>Paola Baroni</cp:lastModifiedBy>
  <dcterms:modified xsi:type="dcterms:W3CDTF">2004-07-09T13:14:47Z</dcterms:modified>
  <cp:revision>10</cp:revision>
  <dc:subject/>
  <dc:title>“Technologically challenged languages”</dc:title>
</cp:coreProperties>
</file>