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7DF5-833A-4D4C-AC73-0732E728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4EF-0155-489D-B7E4-DE96DD0A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CD3-8816-4BC4-B15A-14DEC5DF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581-6BF5-4BE9-817F-679821B1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B984-42DF-4020-B6BB-BD2ABFD6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24E3-7058-40D7-AED0-0A73D207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43CC-5CB1-4FC7-9599-8537042C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BC22-BBE9-498C-9023-559DB6D6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22CA-B00D-4E31-B0AC-EB18045F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44E6-0D5F-4E71-AFB4-DE328459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2D7B-1B8D-4690-BF66-6642963F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6B2-BE7D-4ABB-9501-6BE9723D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71B8-7608-4FF4-94F5-934132E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ED7D-6723-41D2-9388-0F1E34A1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5A5C-B12D-41C0-8D9D-F5733618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7950-F256-4C76-8B32-9C72E552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7F45-8485-41EB-B245-238C3E91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516-6D2F-48F8-A21D-AA3D9B98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EBC-EC13-4FB1-BB21-9A95A949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5C4-1376-44BF-89F3-0BEADE28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75B-4071-4E75-87D6-D27FB4D3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210-E8EB-40D9-B11D-B06736D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4FB-B65B-4EAB-9546-5BCE4E6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D5E-7944-4B1C-B006-E00A2172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3E4B-1610-47BA-A0F8-8026B54C0B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1C97-64DC-4B8B-AF33-32BEA26998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Towards a roadmap for standardization in language technology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rent Romary &amp; Nancy 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ia-INRIA — Vassar Colle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SO/TC 37/SC 4 overall rationa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4876920"/>
            <a:ext cx="3581280" cy="91440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Basic descriptors and mechanis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for language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3886200"/>
            <a:ext cx="2514600" cy="91440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Representation sche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3886200"/>
            <a:ext cx="2514600" cy="91440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ultilingual text repres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048120"/>
            <a:ext cx="2362320" cy="91440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Lexical datab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5400000">
            <a:off x="5829480" y="3924360"/>
            <a:ext cx="3504960" cy="838080"/>
          </a:xfrm>
          <a:prstGeom prst="cube">
            <a:avLst>
              <a:gd name="adj" fmla="val 25000"/>
            </a:avLst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Workflow of language Resource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12320" y="2514600"/>
            <a:ext cx="8650800" cy="3581280"/>
            <a:chOff x="112320" y="2514600"/>
            <a:chExt cx="8650800" cy="3581280"/>
          </a:xfrm>
        </p:grpSpPr>
        <p:sp>
          <p:nvSpPr>
            <p:cNvPr id="409" name=""/>
            <p:cNvSpPr/>
            <p:nvPr/>
          </p:nvSpPr>
          <p:spPr>
            <a:xfrm>
              <a:off x="1523880" y="2514600"/>
              <a:ext cx="7239240" cy="358128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2320" y="4019400"/>
              <a:ext cx="167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Optima ExtraBlack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Optima ExtraBlack"/>
                </a:rPr>
                <a:t>categor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-going activities within ISO/TC 37/SC 4 (1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 structur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t activity with the TEI; CD document almost acheived; planned project on FS decl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guistic Annotation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principles of annotation scheme specification and representation, pointing mechanisms for stand-off mark-up; draft document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osyntactic annotation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le working draft under diissemination for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xical Markup Framework (LM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eneral specification platform for lexical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proposals: core model + lexical ext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-going activities within ISO/TC 37/SC 4 (2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entral role of the Data Category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: market place of descriptors for all types of language resources and annotation sc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: /grammatical gender/, /paucal number/, /ablative case/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line tool available: http://syntax.loria.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ad hoc groups cr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data for language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. TEI, IMDI, OL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phosyntactic descriptors (SC4 plenary last Tuesd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f. Morphosyntactic Annotation 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antic content descri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atory: discourse relations, dialogue acts, referential link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orities for the future (1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bilizing and dissemin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dissemination of existing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riorities in ISO/TC 37/SC 4: morphosyntax and lexical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ion of on-going documents by our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back on documents, reference implemen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hering up samples and/or test suites (manpower need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ing the work on the Data Category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additional topis should be address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involve a wide variety of exper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publication and information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orities for the future (2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ing in the ga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actic structures: cf. Treebanks, (Chunk, deep) Par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specific lex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formats should be ‘frozen’ within the LMF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content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f. ACL/SIGSEM working group on Multimodal semantic content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orities for the future (3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lingual information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relate on-going activities on translation memories, localization, iTV, multimedia information (e.g. sub-titl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NLP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principles: linguistic coverage, me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specific evaluation methods: machine translation, information extr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flow of languag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ife cycle of language resources: creation, enrichment, validation, disse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 languag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 of dissemination of existing standards (in academia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as the identification of stable concepts in 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in academic curric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 of wide involvement of experts (academia and indust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ng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ion to technical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ing main milestones in the roadmap with the underlying standardization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Evaluation related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background on standard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l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going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 ahead of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ndard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methods or models to facili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 between softwa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bility of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technological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bilizing existing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ing ahead for potential roadb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n organizational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consensus, long term availability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ical vs. horizontal standar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ndards: a complex pictu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ial standardization bod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: AFNOR, ANSI, DIN, BSI, M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: ISO, IEC, CEN, W3C, O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fo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! e.g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I (Text Encoding Initia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A (Localization Industry Standards Assoc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s with a pre-normative purpo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in EU: EAGLES, Multext, MATE, IS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ing standards (1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(World Wide Web consortium); horizontal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building block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, XML Schemas (Note: growing importance of alternative RelaxNG schemas), X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services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SDL, SO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web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F, RDFS, OW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(vertical) activities with little critical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iceML, EMMA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ing standards (2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vant standards in ISO (partial vie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infrastructural (horizontal)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acter encoding (cf. IPA): ISO 10646/Uni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uage codes: ISO 639 (e.g. ‘fr’) and ISO 639-2 (e.g. ‘fra’/’fr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under ISO/TC 37/SC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EG7 for multimedia information — hardly implementable :-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 standards: ISO 12200 (Martif), ISO 12620 (Data categories), ISO 16642 (Terminological markup framewor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under ISO/TC 37/SC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ing standards (3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ing at other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-IEC/JTC 1/SC 36: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ion on language asp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-IEC/JTC 1/SC 32: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basis provided by ISO 1117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-IEC/JTC 1/SC ??: evaluation of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/IEC 9126-1 [2 &amp; 3 in progres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/IEC 14598-1 to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isting standards (4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I proposals relevant for our fie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I header: seminal work to evolve in collaboration with IMDI and OL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representation of texts: prose, poetry, drama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cription of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dictionaries: under revision in collaboration with ISO/TC 37/SC 4 (cf. LM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ologies: under revision to make it compatible with ISO 166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SO committee on language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O TC37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olog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 other languag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3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puter applications in termi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 12200 - Mart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est version of TEI Terminology chap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 12620 - Data categories (under revi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 16642 - TMF (Terminological Markup Framewor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C4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Language Resource Manag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y 20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ec.: K.-S. Choi, Chair.: L. Ro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tc37sc4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8T10:45:27Z</dcterms:created>
  <dc:creator>Laurent Romary</dc:creator>
  <dc:description/>
  <dc:language>en-US</dc:language>
  <cp:lastModifiedBy>Paola Baroni</cp:lastModifiedBy>
  <dcterms:modified xsi:type="dcterms:W3CDTF">2004-07-09T13:14:45Z</dcterms:modified>
  <cp:revision>172</cp:revision>
  <dc:subject/>
  <dc:title>Towards a roadmap for standardization for language technology</dc:title>
</cp:coreProperties>
</file>