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70CA-B331-4DC5-B205-056F18BC5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CB0B-0FD1-4808-A553-11BC98E26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606F-CBD1-49A3-8251-5170A89E1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0FED-BAAF-458D-90B0-581BE52E4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3B28-82DC-4B5C-BF4C-F0424A64A9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91D7-99AE-4779-A11E-CA51ED0383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4C5E-87F2-4ABE-9861-5D75521DE7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F85C-D937-41CE-BF3F-3B73A72D3E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5541-5E14-433A-A415-5361F56DB2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D97B-EC98-480E-A91B-EE65DB0856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EF56-4975-4FD9-B7A9-082268652A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CDA7-A9C1-4819-BAA3-774AB6AAF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091A-9DCB-42FA-AA73-65CC005C5F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31F7-50C7-49E0-B4F2-FDA8C03E65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C758-3BC7-4F93-A1AC-D6651A97B6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C910-8034-4D05-A44E-DB6AD413E8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4F658-5964-474E-B924-5248CF0DB6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FA69-02B9-4E9B-A254-099490DB1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1801-6C27-47E9-A012-FA7B62231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9393-67EC-45F7-A08D-BE646BC81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F001-67F9-4E07-B37C-4AD26AE9E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B1DE-CBDA-4A6B-8672-4B2F75B65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8D6C-B1FD-4A9C-A9B7-AB575E16D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C2A0-B049-4497-92D7-77D744946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, except for quotes, which use gray backgrou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light blue R204 | G204 | B255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1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-647640"/>
            <a:ext cx="560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7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" name="" descr=""/>
          <p:cNvPicPr/>
          <p:nvPr/>
        </p:nvPicPr>
        <p:blipFill>
          <a:blip r:embed="rId3"/>
          <a:srcRect l="0" t="27010" r="0" b="52403"/>
          <a:stretch/>
        </p:blipFill>
        <p:spPr>
          <a:xfrm>
            <a:off x="1440" y="1440"/>
            <a:ext cx="9144000" cy="376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441080" y="52560"/>
            <a:ext cx="26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usiness Unit or Product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esentation Tit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|  Presentation Subtitle  |  Confi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7A8F-741F-4CD1-85DF-2E271BE4121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4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611352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Num" idx="2"/>
          </p:nvPr>
        </p:nvSpPr>
        <p:spPr>
          <a:xfrm>
            <a:off x="425520" y="650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335320" y="4203720"/>
            <a:ext cx="21592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Presentation subtitle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0pt Arial Regular,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352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590400" y="4343400"/>
            <a:ext cx="519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647640"/>
            <a:ext cx="554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usiness Unit or Product Nam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5154480"/>
            <a:ext cx="914400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9175320" y="4341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ff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d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d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dfff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S for Metadat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ff66"/>
                </a:solidFill>
                <a:latin typeface="Arial"/>
              </a:rPr>
              <a:t>Roberto Pieraccini</a:t>
            </a: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ff66"/>
                </a:solidFill>
                <a:latin typeface="Arial"/>
              </a:rPr>
              <a:t>IBM T.J.Watson Research Center</a:t>
            </a: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ff66"/>
                </a:solidFill>
                <a:latin typeface="Arial"/>
              </a:rPr>
              <a:t>Yorktown Heights, NY - USA</a:t>
            </a: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MMA—Extensible MultiModal Annotation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of  W3C (World Wide Web Consortium) MultiModal Interaction working 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w3.org/2002/mmi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ation of input interpretation and metadat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Working Draft - Dec 200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w3.org/TR/emma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data annotation based on RDF (Resource Description Framework) – Semantic Web Activit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w3.org/RDF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MMA Annotation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3608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rivation/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 to proces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ck of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nterpretable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man language of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 to sig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ce sc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2800" y="1776240"/>
            <a:ext cx="36082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up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 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stam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ative Pos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ium and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osite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xample: interpretations, timestamp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8520" y="1531800"/>
            <a:ext cx="874548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mma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:emma emma:version="1.0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mlns:emma="http://www.w3.org/2003/04/emma#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mlns:rdf="http://www.w3.org/1999/02/22-rdf-syntax-ns#"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emma:interpretation rdf:ID="int1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origin&gt;New York&lt;/origi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destination&gt;Seattle&lt;/destinatio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/emma:interpretatio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df:RDF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rdf:Description rdf:about="#int1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mma:start="2003-03-26T0:00:00.15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mma:end="2003-03-36T0:00:00.2" /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rdf:Description rdf:about="#int1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mma:confidence="0.75" /&gt;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xample: Derivation chain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33600" y="1523880"/>
            <a:ext cx="1179720" cy="1067040"/>
          </a:xfrm>
          <a:prstGeom prst="rect">
            <a:avLst/>
          </a:prstGeom>
          <a:solidFill>
            <a:srgbClr val="d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oc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1523880"/>
            <a:ext cx="1143000" cy="1067040"/>
          </a:xfrm>
          <a:prstGeom prst="rect">
            <a:avLst/>
          </a:prstGeom>
          <a:solidFill>
            <a:srgbClr val="d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oc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7" idx="3"/>
            <a:endCxn id="138" idx="1"/>
          </p:cNvCxnSpPr>
          <p:nvPr/>
        </p:nvCxnSpPr>
        <p:spPr>
          <a:xfrm>
            <a:off x="4513320" y="2057040"/>
            <a:ext cx="16596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8" idx="3"/>
          </p:cNvCxnSpPr>
          <p:nvPr/>
        </p:nvCxnSpPr>
        <p:spPr>
          <a:xfrm>
            <a:off x="7314840" y="2057040"/>
            <a:ext cx="4834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7" idx="1"/>
            <a:endCxn id="142" idx="3"/>
          </p:cNvCxnSpPr>
          <p:nvPr/>
        </p:nvCxnSpPr>
        <p:spPr>
          <a:xfrm flipH="1">
            <a:off x="1675800" y="2057040"/>
            <a:ext cx="16578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33520" y="1447920"/>
            <a:ext cx="1143000" cy="1218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umnst777 BT"/>
              </a:rPr>
              <a:t>INP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47680" y="2133720"/>
            <a:ext cx="851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72680" y="2133720"/>
            <a:ext cx="792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15880" y="2133720"/>
            <a:ext cx="792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5480" y="3124080"/>
            <a:ext cx="8410320" cy="28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about="#INT_2"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emm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riva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resource="#INT_1"/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&gt;</a:t>
            </a:r>
            <a:r>
              <a:rPr b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about="#INT_3"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emm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riva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resource="#INT_2"/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Humnst777 B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xample: multiple derivation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33600" y="1523880"/>
            <a:ext cx="1179720" cy="1067040"/>
          </a:xfrm>
          <a:prstGeom prst="rect">
            <a:avLst/>
          </a:prstGeom>
          <a:solidFill>
            <a:srgbClr val="d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Proc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1523880"/>
            <a:ext cx="1143000" cy="1067040"/>
          </a:xfrm>
          <a:prstGeom prst="rect">
            <a:avLst/>
          </a:prstGeom>
          <a:solidFill>
            <a:srgbClr val="d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Proc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3"/>
            <a:endCxn id="149" idx="1"/>
          </p:cNvCxnSpPr>
          <p:nvPr/>
        </p:nvCxnSpPr>
        <p:spPr>
          <a:xfrm>
            <a:off x="4513320" y="2057040"/>
            <a:ext cx="16596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3"/>
          </p:cNvCxnSpPr>
          <p:nvPr/>
        </p:nvCxnSpPr>
        <p:spPr>
          <a:xfrm>
            <a:off x="7314840" y="2057040"/>
            <a:ext cx="4834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8" idx="1"/>
            <a:endCxn id="153" idx="3"/>
          </p:cNvCxnSpPr>
          <p:nvPr/>
        </p:nvCxnSpPr>
        <p:spPr>
          <a:xfrm flipH="1">
            <a:off x="1675800" y="2057040"/>
            <a:ext cx="16578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533520" y="1447920"/>
            <a:ext cx="1143000" cy="1218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Humnst777 BT"/>
              </a:rPr>
              <a:t>INPUT DE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7680" y="2133720"/>
            <a:ext cx="851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72680" y="2133720"/>
            <a:ext cx="792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15880" y="2133720"/>
            <a:ext cx="792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440" y="4495680"/>
            <a:ext cx="87760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about="#INT_3"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emm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riva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resource="#INT_2"/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emm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riva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resource="#INT_2.1"/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Humnst777 B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2971800"/>
            <a:ext cx="1179360" cy="1066680"/>
          </a:xfrm>
          <a:prstGeom prst="rect">
            <a:avLst/>
          </a:prstGeom>
          <a:solidFill>
            <a:srgbClr val="d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Proc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3"/>
            <a:endCxn id="149" idx="2"/>
          </p:cNvCxnSpPr>
          <p:nvPr/>
        </p:nvCxnSpPr>
        <p:spPr>
          <a:xfrm flipV="1">
            <a:off x="3541320" y="2590560"/>
            <a:ext cx="3202920" cy="9151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638680" y="3048120"/>
            <a:ext cx="98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2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ola Baroni</cp:lastModifiedBy>
  <dcterms:modified xsi:type="dcterms:W3CDTF">2004-07-09T13:14:42Z</dcterms:modified>
  <cp:revision>18</cp:revision>
  <dc:subject/>
  <dc:title>PowerPoint Presentation</dc:title>
</cp:coreProperties>
</file>