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4E38C-1F83-4C2B-84CF-97A340AE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5D3D6-BFA8-44CC-AC2D-D5AFF673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2C182-4496-42E3-9671-D2F13116D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217DB-2F8F-47E9-8890-B993DF17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911B-B986-4E9F-9722-2F0E36341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BD3C-FB9C-4B8C-AD13-ED969280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3F4A-D10B-4F0F-9353-4F4BC3B0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B6C5-876A-457A-B2C4-9DBFACA5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14B6-109C-4DD4-A4E2-ECCEE048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82D5-D7E6-45BF-872A-9736494C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6509-2CC8-49FF-ABC3-DD075A77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5EC5E-07E9-4A7B-AA62-CBD93215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419A-B9E0-4528-B4F2-C14A7A8D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9785-7C6A-48F8-BE45-FB93B50F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5B01-88D9-4193-9AED-9A70EC86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6663-DFF2-4650-BD22-DA7525173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1B33-4E87-44AC-9F16-17865F3C1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DEB0F-5CEE-4880-B139-0B2351B7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D7692-8113-4608-8DE1-38CAC5CF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E412F-0CD2-4C1D-AA2D-B0D359BD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1FEC4-B0F1-4B1C-9428-6FD0EBC1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EFCD0-3596-4D0E-8111-3A03DA65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F7669-6B34-4198-8EB6-3E1CFD10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145AD-524C-4B01-AB0A-D8E34F0A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Times New Roman"/>
              </a:rPr>
              <a:t>Joint COCOSDA &amp; ICCWLRE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6344-4D52-4E45-B8BD-E1A3F7E665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C0AF-9719-4A56-8E25-B05073A47A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68000" y="2204640"/>
            <a:ext cx="6875640" cy="18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000" spc="-1" strike="noStrike">
                <a:solidFill>
                  <a:srgbClr val="ffffff"/>
                </a:solidFill>
                <a:latin typeface="Arial"/>
              </a:rPr>
              <a:t>Cross-Language Information Retrieval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003640" y="4292640"/>
            <a:ext cx="338472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arol P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STI-CNR, P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Cross-Language Information Retrieval (CLI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tate-of-the-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The basic cross-language text retrieval system technology now exists for bilingual and multilingual retri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System performance is ca. 90% of monoling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Bu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 gap between R&amp;D results and application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arge Web search engines do not offer CL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Few commercial information services offer CL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Current systems don’t meet needs of generic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R: Ultimate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lly multilingual, multimodal information retrieval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processing a query in any medium and an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relevant information from a multilingual multimedia collection containing documents in any language and for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presenting it in the style most likely to be useful to the us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CLIR: Sub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ully multilingual test retriev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ross-language multimodal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ultilingual question answe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ross-language interactive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lingual Text Retrieval (MLTR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TD: 2007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Goal: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Truly multilingual systems - L1 -&gt; 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Work need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Most appropriate system archite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Translation + IR for each language or unified frame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Overcoming the translation bottlene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mprove LRs/optimise pivot language approaches/conceptual interlingua/language independent meth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MLTR systems capable of including any new language within 1 mon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oss-Language Multimodal System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TD: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2007 for 1st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6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Goal: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successful retrieval across languages in collections of multimedia (video/image/speech/text) – combination of language dependent and language independent metho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120" indent="-612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2 Stag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27396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C-L retrieval as particular form of text retrie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.g. image captions, noisy speech transcri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27396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C-L retrieval as combination of media-specific meth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.g. text-based and content-based meth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Testing on target collections of multimedia data in fiv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lingual Question Answer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TD: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2007 for 1st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Goal: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CLIR systems capable of precise 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2 stages: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velopment of monolingua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on-English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velopment of C-L QA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combination of NLP and IR too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Testing on target collections in five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Interactive Cross-Language Systems</a:t>
            </a: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TD: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Goal: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ystems that help user in query formulation and results selection and interpre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On-line multilingual text retrieval system searching on collections in at least five language with functionality for user-assisted query formulation, refinement, document selection and interpre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ternationally funded research programme that prepares a roadmap and promotes its completion through the orgnisation of evaluation campaigns with appropriate tasks designed to stimulate system development in the directions ident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15:39:02Z</dcterms:created>
  <dc:creator>Carol Peters</dc:creator>
  <dc:description/>
  <dc:language>en-US</dc:language>
  <cp:lastModifiedBy>Paola Baroni</cp:lastModifiedBy>
  <dcterms:modified xsi:type="dcterms:W3CDTF">2004-07-09T13:14:40Z</dcterms:modified>
  <cp:revision>35</cp:revision>
  <dc:subject/>
  <dc:title>DELOS NoE Evaluation Cluster</dc:title>
</cp:coreProperties>
</file>