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080-9098-4C7A-8CE6-6EF5909A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047-3457-461C-B6F2-E1F69ABD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69F-A4A9-4E06-8D7E-1F3D2A4C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4D6-2D4A-4743-A19E-06FF015B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A6E-9A14-404C-ACEF-13736CB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BA7-73B7-48D5-860E-4C57948D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B8B-544D-447C-BD30-AA6F0EA6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B99-56C5-4885-92A9-74B8A3F4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8A2-1657-417A-B3A5-E0B43C6E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263-6A19-4C8E-95C3-A4008A6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69D-D492-4266-9964-71C79E8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E5C-FBA8-4A4D-819F-D7A7CEA7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FF35-9E47-456B-BBC9-15357698D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-Answer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R&amp;E roadmap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ünter Neu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FKI, Saarbrü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QA: gener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A is AI-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per decomposition of the whole QA problem i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A seen as embedded basic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portant to identify the core QA functionality, which is stable and independent from specific QA application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per identify relationship to other research areas, e.g., IE, IR, KRR, SW, MT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ottom-up system development („divide-and-interac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ta-oriented user, domain, task adaptiv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chine Learning &amp; Explanation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perating specialised QA-components/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QA research sub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lingual, open-domain QA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-scale domain-specific QA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 Q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ross-lingual, open-domain Q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lready in progress: e.g., CL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dditonal needs, e.g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l cross-language answer sources (not just Engl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L-generation of answers into quer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aluation standards for complex queries (e.g., definition, template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-sca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-specific Q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s queries about a certain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-grained domain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lexica and sub-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of the domain-related knowledge are automatically acquired by the QA-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has restricted capabilities of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relevant information for controlling its internal decis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pendence of the type of question and the answer sources (raw text, marked-up web pages, numeric dat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recognizes and plans appropriate answer selection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the answer generation mode: depending on current QA-context, e.g., short answer string, (multi-media) summary, pointers into ontology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daptive Q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A system is able t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apt towards user, domain, data sou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A-system ha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stricted dia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pab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builds up and treats a structured episodic memory, which it uses as source for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lf-evalu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chine learning of novel QA-strategies, and setting up context awaren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A system (in interaction with a domain expert) is used for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uilding up domain knowled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improve/adapt its performance, system is able to create its own questions  in order to perform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lf-initiate QA-cyc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A-system can communicate with other self-adaptive QA-systems in order to built up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ociety of specialized QA-ag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ola Baroni</cp:lastModifiedBy>
  <dcterms:modified xsi:type="dcterms:W3CDTF">2004-07-09T13:14:37Z</dcterms:modified>
  <cp:revision>68</cp:revision>
  <dc:subject/>
  <dc:title>PowerPoint Presentation</dc:title>
</cp:coreProperties>
</file>