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3AC-C841-4C46-B6D2-F255CF48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4DB-ED59-433A-8A2C-CF47BFF8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FDC-CC83-4F11-ADC0-4535DF89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B06-6773-4ECE-AFB8-96931182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AC2-DBBE-4500-B4FC-2A914130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A0D-98B4-48D9-BBC3-280C37E3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936-92BE-4C53-8AF5-7E4FBB9F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C2A-5F91-4B46-8515-D9F9BAEB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076-00F0-47D3-9A85-74485611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2E5-E742-487A-8F03-9A0D3E3B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CBD-CE40-40DC-A9F0-94C6258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00A-C991-4861-A710-2FD80297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DB73-0FBB-454F-AD8F-D0443F073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stablishing the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ünter Neu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FKI, Saarbrüc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iewed under a graphical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onents, data sources are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nks ako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level of granula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QA one no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NER one single no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 lexicon one compon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efully consider aspect of mod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Continu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plication vs. Application neutral link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e stable control f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ynamic control flow depending on appl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ruci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omatic (interactive) domain adaptation even in case of 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eds an architectural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.g.,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t what level of granularity? calling stems? pos?, parsing?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ola Baroni</cp:lastModifiedBy>
  <dcterms:modified xsi:type="dcterms:W3CDTF">2004-07-09T13:14:35Z</dcterms:modified>
  <cp:revision>21</cp:revision>
  <dc:subject/>
  <dc:title>PowerPoint Presentation</dc:title>
</cp:coreProperties>
</file>