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2722-608A-4C61-87C5-E3ECEE78E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1B3D-642D-49B1-8CAA-2D64BBE7F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BFC1-608C-4350-977A-77787B7DA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174D-5766-465A-97CA-2BD95750F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07AD-684C-40BB-8B0D-8062FFC90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1C0C-62E6-4B79-8433-EB6803433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16F1-303A-464A-910E-782E41A0E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8B89-1AED-4138-A426-26A8A6CFC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B269-751C-491B-966A-AA6EE9F3F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1B45-AB12-4AFB-90B2-02BE88395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7507-D8A5-41F4-8860-214CB9F68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D98A-33FC-4357-B54C-C654EED03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E23AA-C41E-4E20-A9F5-66E7BD90D9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00"/>
                </a:solidFill>
                <a:latin typeface="Times New Roman"/>
              </a:rPr>
              <a:t>LT Evalu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Joseph MARIAN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Director, ICT Depart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Ministry of Research (Franc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cosda-ICCWLRE mee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AC71-F8A5-4385-AECC-4B71E829FD2F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30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96080" cy="48006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631200" y="6019920"/>
            <a:ext cx="110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Courtesy NIS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cosda-ICCWLRE meetin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99FF-A908-4193-8D2A-E7A9DF9E3B7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30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1905120"/>
            <a:ext cx="1752480" cy="380988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arc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733920" y="1905120"/>
            <a:ext cx="1828800" cy="3809880"/>
          </a:xfrm>
          <a:prstGeom prst="rect">
            <a:avLst/>
          </a:prstGeom>
          <a:solidFill>
            <a:srgbClr val="00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ic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arc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934320" y="1905120"/>
            <a:ext cx="1752480" cy="380988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velop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362320" y="2895480"/>
            <a:ext cx="1295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638320" y="2819520"/>
            <a:ext cx="1295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362320" y="5029200"/>
            <a:ext cx="1295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5029200"/>
            <a:ext cx="1295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423880" y="2225520"/>
            <a:ext cx="1148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ottleneck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dentific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78800" y="5137200"/>
            <a:ext cx="1349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esearch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n quantitativ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579640" y="1936800"/>
            <a:ext cx="1302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Technologi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necessitat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for application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596560" y="5137200"/>
            <a:ext cx="138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Technologi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hich have be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validat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for application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4920" y="5807160"/>
            <a:ext cx="228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Long term / high risk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Large return of inves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10760" y="5943600"/>
            <a:ext cx="118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olutiona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229520" y="5807160"/>
            <a:ext cx="119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Usabilit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Acceptabilit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235160"/>
            <a:ext cx="2133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eeting points with technology develop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019760" y="1235160"/>
            <a:ext cx="114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Quantitativ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236720" y="1158840"/>
            <a:ext cx="1017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Usag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22860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00"/>
                </a:solidFill>
                <a:latin typeface="Times New Roman"/>
              </a:rPr>
              <a:t>Model to support R&amp;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cosda-ICCWLRE meetin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4417-1AEA-4A74-9A9F-7C1D862483D1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30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00"/>
                </a:solidFill>
                <a:latin typeface="Times New Roman"/>
              </a:rPr>
              <a:t>Priority Fund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Preferred to any research topic, as not possible to assess state-of-the-art / progress on that top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While technology developers agree to participate in evaluation campaign at no cost for its intrinsic interes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cosda-ICCWLRE mee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51FE-5069-4697-98C6-71EE2B6F36F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30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erspectives for Evalu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ed for more coordin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parison of results from one language to another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R in Portuguese compared to US english 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f EC SQALE proje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 of same data for various tasks at various levels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S tagging, syntactic parsing, Named Entity extraction, text retrieval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cosda-ICCWLRE mee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A2AE-5280-41FE-BF48-FBC5007DCA3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30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30T00:20:48Z</dcterms:created>
  <dc:creator>MDRNT - Descartes</dc:creator>
  <dc:description/>
  <dc:language>en-US</dc:language>
  <cp:lastModifiedBy>Paola Baroni</cp:lastModifiedBy>
  <dcterms:modified xsi:type="dcterms:W3CDTF">2004-07-09T13:14:32Z</dcterms:modified>
  <cp:revision>14</cp:revision>
  <dc:subject/>
  <dc:title>Présentation PowerPoint</dc:title>
</cp:coreProperties>
</file>