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CD4-494F-403D-B69F-8DB99714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F31-E845-496D-844C-1DF6E7AF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A50-DC40-4910-AB26-0F3AF768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C71-3070-4F99-88BC-FAEE6DBE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56E-96AB-49EF-BE2D-56C22975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E9F-2FEC-4C7E-AD60-C4D37062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9C5-9921-4E89-94A7-85ECDD1B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568-A4C5-4A21-A806-AA789811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086-A8A1-4E89-BB25-CEFEE3D3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F90-2235-4124-BA34-AF1244B3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A2D-6981-4D6C-924E-C751B1EF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129-2A2C-4DCF-800F-66A5006B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33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33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33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2590920" y="655272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777777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9864-BFB4-49B0-8B2E-C0399705AE4D}" type="slidenum">
              <a:rPr b="0" lang="it-IT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" name=""/>
          <p:cNvGrpSpPr/>
          <p:nvPr/>
        </p:nvGrpSpPr>
        <p:grpSpPr>
          <a:xfrm>
            <a:off x="0" y="533520"/>
            <a:ext cx="1219320" cy="1066680"/>
            <a:chOff x="0" y="533520"/>
            <a:chExt cx="1219320" cy="1066680"/>
          </a:xfrm>
        </p:grpSpPr>
        <p:sp>
          <p:nvSpPr>
            <p:cNvPr id="23" name="Puzzle3"/>
            <p:cNvSpPr/>
            <p:nvPr/>
          </p:nvSpPr>
          <p:spPr>
            <a:xfrm>
              <a:off x="593640" y="533520"/>
              <a:ext cx="479160" cy="5670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Puzzle2"/>
            <p:cNvSpPr/>
            <p:nvPr/>
          </p:nvSpPr>
          <p:spPr>
            <a:xfrm>
              <a:off x="454320" y="946440"/>
              <a:ext cx="765000" cy="5162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Puzzle4"/>
            <p:cNvSpPr/>
            <p:nvPr/>
          </p:nvSpPr>
          <p:spPr>
            <a:xfrm>
              <a:off x="158040" y="939960"/>
              <a:ext cx="461160" cy="6602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Puzzle1"/>
            <p:cNvSpPr/>
            <p:nvPr/>
          </p:nvSpPr>
          <p:spPr>
            <a:xfrm>
              <a:off x="0" y="704880"/>
              <a:ext cx="774360" cy="3934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" name=""/>
          <p:cNvSpPr/>
          <p:nvPr/>
        </p:nvSpPr>
        <p:spPr>
          <a:xfrm>
            <a:off x="137880" y="7221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685800" y="685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289080" y="1066680"/>
            <a:ext cx="2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685800" y="1066680"/>
            <a:ext cx="2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981080"/>
            <a:ext cx="9144000" cy="1752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17762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4114800"/>
            <a:ext cx="1113120" cy="2743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71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74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33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33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33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4"/>
          </p:nvPr>
        </p:nvSpPr>
        <p:spPr>
          <a:xfrm>
            <a:off x="2590920" y="6546960"/>
            <a:ext cx="3962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777777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2280" y="2438280"/>
            <a:ext cx="1219320" cy="1067040"/>
            <a:chOff x="152280" y="2438280"/>
            <a:chExt cx="1219320" cy="1067040"/>
          </a:xfrm>
        </p:grpSpPr>
        <p:sp>
          <p:nvSpPr>
            <p:cNvPr id="86" name="Puzzle3"/>
            <p:cNvSpPr/>
            <p:nvPr/>
          </p:nvSpPr>
          <p:spPr>
            <a:xfrm>
              <a:off x="745920" y="2438280"/>
              <a:ext cx="479160" cy="5670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Puzzle2"/>
            <p:cNvSpPr/>
            <p:nvPr/>
          </p:nvSpPr>
          <p:spPr>
            <a:xfrm>
              <a:off x="606600" y="2851200"/>
              <a:ext cx="765000" cy="5162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Puzzle4"/>
            <p:cNvSpPr/>
            <p:nvPr/>
          </p:nvSpPr>
          <p:spPr>
            <a:xfrm>
              <a:off x="310320" y="2845080"/>
              <a:ext cx="461160" cy="6602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Puzzle1"/>
            <p:cNvSpPr/>
            <p:nvPr/>
          </p:nvSpPr>
          <p:spPr>
            <a:xfrm>
              <a:off x="152280" y="2609640"/>
              <a:ext cx="774360" cy="3934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International Coordination Committee for Written LRs &amp; Evaluation (ICCWLR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icoletta Calzol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stituto di Linguistica Computazionale del CNR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iversità degli Studi di Pisa - Dipartimento di Linguistica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lottolo@ilc.cnr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LREC 2004, Lisb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097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Political &amp; Strategi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oordinate national initiatives (E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ope with a changing scene in funding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HLT action line </a:t>
            </a:r>
            <a:r>
              <a:rPr b="1" lang="en-GB" sz="2400" spc="-1" strike="noStrike">
                <a:solidFill>
                  <a:srgbClr val="3366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6600"/>
                </a:solidFill>
                <a:latin typeface="Arial"/>
              </a:rPr>
              <a:t>difficulty in designing common global long-term strategies (more opportunis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4800600"/>
            <a:ext cx="609480" cy="762120"/>
          </a:xfrm>
          <a:custGeom>
            <a:avLst/>
            <a:gdLst>
              <a:gd name="textAreaLeft" fmla="*/ 81360 w 609480"/>
              <a:gd name="textAreaRight" fmla="*/ 528120 w 609480"/>
              <a:gd name="textAreaTop" fmla="*/ 117720 h 762120"/>
              <a:gd name="textAreaBottom" fmla="*/ 568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4100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ERA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ICCWL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5334120"/>
            <a:ext cx="754380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Need of bodies where to discuss a broad research agenda &amp; strategic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2EC-28F4-48D6-B51F-09FB202519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097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Committe &amp; Roadma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Maintain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aluate Roadmap wrt state-of-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olog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of Roadmap: e.g. extraction of ´hot topics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Here we are…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5257800"/>
            <a:ext cx="990720" cy="53352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81AC-A0C7-4CA0-9AFC-09E37F688C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International Coordination Committee for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Written LRs &amp; Evaluation (ICCWLR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other initiative of Antonio Zampoll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International foru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support international coordination &amp; cooperation in the field of written LRs and technology assessment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formulate a common agenda of medium- and long-term research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iscuss innovative research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olvement of various ‘continents’, topics, distribution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the model of &amp; in cooperation with </a:t>
            </a: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COCOSD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00"/>
                </a:solidFill>
                <a:latin typeface="Arial"/>
              </a:rPr>
              <a:t>Common meetings (Spoken &amp; Written) at LR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791320"/>
            <a:ext cx="609480" cy="761760"/>
          </a:xfrm>
          <a:custGeom>
            <a:avLst/>
            <a:gdLst>
              <a:gd name="textAreaLeft" fmla="*/ 81360 w 609480"/>
              <a:gd name="textAreaRight" fmla="*/ 528120 w 609480"/>
              <a:gd name="textAreaTop" fmla="*/ 117360 h 761760"/>
              <a:gd name="textAreaBottom" fmla="*/ 568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NABLERlogo" descr=""/>
          <p:cNvPicPr/>
          <p:nvPr/>
        </p:nvPicPr>
        <p:blipFill>
          <a:blip r:embed="rId8"/>
          <a:stretch/>
        </p:blipFill>
        <p:spPr>
          <a:xfrm>
            <a:off x="0" y="289548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3CC4-3E9A-4205-BD39-BD20FB75FB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8640" y="2209320"/>
            <a:ext cx="52578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Committee…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Possible Role &amp; Tas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523520" y="3809880"/>
            <a:ext cx="7239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semination of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ittee &amp; Road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yright &amp; I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otion &amp; Coordination for L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abl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tical &amp; Strate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ENABLERlogo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0"/>
            <a:ext cx="8686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 Black"/>
              </a:rPr>
              <a:t>WRITE </a:t>
            </a:r>
            <a:r>
              <a:rPr b="1" lang="en-GB" sz="2400" spc="-1" strike="noStrike">
                <a:solidFill>
                  <a:srgbClr val="ff3300"/>
                </a:solidFill>
                <a:latin typeface="Arial Black"/>
              </a:rPr>
              <a:t>Committ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Arial Black"/>
              </a:rPr>
              <a:t>Written Resources Infrastructure, Technology, &amp;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WR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Written Resources &amp; Evaluation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049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New name??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LREC 2004, Lisb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097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Information Dissemin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semination of Committee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00"/>
                </a:solidFill>
                <a:latin typeface="Arial"/>
              </a:rPr>
              <a:t>Maintenance of Website for LR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 about influence, usability.. of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ch &amp; keep contact with other relevant communities &amp; coordinate comm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ertise out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907-B61D-43E7-8F63-84151BF4BD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097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Dissemination of info on standards &amp; dissemination of standard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ing on practical experience of standar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models/guidelines for adapting standards to different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good practic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maintain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evaluate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sory group of experts to help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199-1F10-4953-BFB8-1CAE53AA79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097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Promotion &amp; Coordin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ote development of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free, shared LRs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mpatible with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 repositories of LRs &amp; direct access via cat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Architecture/Open Source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mework allowing an incrementa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rify links betw. LRs &amp;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034-B31E-4733-AC7A-936631C099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174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How to go for a framework allowing incremental creation/merging/…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240" y="2057040"/>
            <a:ext cx="75438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"organise" creation/acquisition of multilingual LRs: evaluate differ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ope with/affect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organise technology transfer amo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support BLARK/EL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launch an international initiative linking Semantic Web &amp; L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tstrapping this by "opening" a few L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3300"/>
                </a:solidFill>
                <a:latin typeface="Arial"/>
              </a:rPr>
              <a:t>Declaration on open access to L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791320"/>
            <a:ext cx="990360" cy="5331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ABF-AC67-4A4C-ABFC-EA87DE43A7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80720" y="456840"/>
            <a:ext cx="6945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Copyright issu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fy IP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ys of contr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494-53E1-4120-A044-FFEF4662AD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174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5ebc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Enabling activiti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to highlight emerging needs from the community, discuss, share, see which have consensus.., &amp; proposals of how to tackl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to arrive at consensual recommendations, to be conveyed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at landscape initiatives &amp; how exploit, coordinate them (&amp; what is mi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REC 2004, Lisb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5AF-029E-4CAB-B465-7AE6BB6875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coletta Calzolari</dc:creator>
  <dc:description/>
  <dc:language>en-US</dc:language>
  <cp:lastModifiedBy>Paola Baroni</cp:lastModifiedBy>
  <dcterms:modified xsi:type="dcterms:W3CDTF">2004-07-09T13:14:04Z</dcterms:modified>
  <cp:revision>148</cp:revision>
  <dc:subject/>
  <dc:title>PowerPoint Presentation</dc:title>
</cp:coreProperties>
</file>