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686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746880"/>
            <a:ext cx="8686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3680" y="76176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3680" y="374688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9520" y="76176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76176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74688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9520" y="374688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374688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3680" y="76176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76720" y="0"/>
            <a:ext cx="5790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3680" y="76176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3680" y="76176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3680" y="374688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3680" y="76176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8686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838188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>
              <a:lnSpc>
                <a:spcPct val="102000"/>
              </a:lnSpc>
              <a:spcBef>
                <a:spcPts val="1012"/>
              </a:spcBef>
              <a:buClr>
                <a:srgbClr val="00808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COSDA/ICWLR Joint Meeting, LREC 2004, Lisbon, May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977600" y="6583320"/>
            <a:ext cx="98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14480">
              <a:lnSpc>
                <a:spcPct val="102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16A1-0940-48F7-A255-E4E5B2BD3C7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3200400" cy="44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1360" y="66103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5335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sic Language Resourc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 Ci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e Max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hanie Strass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w Density Languages Pro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k words monolingual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k words bilingual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k words text annotated for named 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k word bilingual lex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phological parser/ ste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 conve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gali, Panjabi, Tamil, Tigrinya, Uzbek, Taga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LEX Pro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on English and Foreign Language EXploit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al stage onl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 languages per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0k monolingual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0k bilingual tex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5k English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rget langu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 conve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ence segm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segmenter (where requir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k Bilingual Lex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tagset and tag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for some languages, 5k word annotated te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phological analyz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for some languages, 5k word annotated te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d entity tag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k text annotated for named 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79096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nguage Surve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s with &gt; 1M speak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inguistic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 m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linguistic typ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xic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8T11:39:40Z</dcterms:created>
  <dc:creator>Mike Maxwell</dc:creator>
  <dc:description/>
  <dc:language>en-US</dc:language>
  <cp:lastModifiedBy>Paola Baroni</cp:lastModifiedBy>
  <dcterms:modified xsi:type="dcterms:W3CDTF">2004-07-09T13:14:17Z</dcterms:modified>
  <cp:revision>26</cp:revision>
  <dc:subject/>
  <dc:title>Basic Language Resources at the LDC</dc:title>
</cp:coreProperties>
</file>