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0B14-4D4B-4B0A-BC43-EA7F75A3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BDF7-F385-4993-A289-6C3D6EA9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FFEB-C855-40A9-9E42-8DFF45579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6795-2C7E-4534-A664-1E182A3C9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02CB-374D-4191-BEC9-15AAEFE1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BFDD-8DB4-4293-8520-1000AFE2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5474-5B90-4F6C-8EC1-5F098AF2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AF68-167F-4223-B5E1-B8537B79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4389-6E57-40EE-B7DD-EAAE782D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1AD6-91DC-48CC-A7DB-C83ADDF2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ECC2-5C54-4283-9AB6-74B00BAB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1BEC-0737-4ABC-A271-59F7A456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D6D3-AD43-499C-91A8-85A5FDF44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arpa.mil/ipto/programs/ears/" TargetMode="External"/><Relationship Id="rId2" Type="http://schemas.openxmlformats.org/officeDocument/2006/relationships/hyperlink" Target="ftp://ftp.cordis.lu/pub/ist/docs/istag040319-draftnotesofthemeeting.pdf" TargetMode="External"/><Relationship Id="rId3" Type="http://schemas.openxmlformats.org/officeDocument/2006/relationships/hyperlink" Target="http://www.nesc.ac.uk/esi/events/Grand_Challenges/panelc/c24.pdf" TargetMode="External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tp://ftp.cordis.lu/pub/ist/docs/istag040319-draftnotesofthemeeting.pdf" TargetMode="External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 10 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Kenneth W.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T&amp;T Labs-Research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lorham Park, New Jersey, 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kwc@research.at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3920" y="2743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 10 (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r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280"/>
            <a:ext cx="403848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ghes, Wittenburg, Sim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ary, Pieraccini, 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iani, 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ically challenged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x, Gib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eri, Choukri, Max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lingual lexicons &amp; impact on apps (M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kunaga, Buitelaar, Magnusdot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ual analysis, terminology,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ujii, Bud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A, CLIR, 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abagin, Peters, Ciraveg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le, Rei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otion in 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b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 10 Topic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based on a recent conferen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Extraction (I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Answering (Q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Retrieval (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ation /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 Modeling (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al Machine Translation (M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 10 (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r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, lexicons, ontologies, tools, standards,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qu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ch, parsing, summa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A, CLIR, IE, 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7960" y="152280"/>
            <a:ext cx="43434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ip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Establ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guistics, CS, AI, Stats, 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Forward-Loo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ine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otics (Martin K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al everything, but especially statistical M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worthy recent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d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ies for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fordable Pedabytes: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ing and making searchable a very large personal multi-medi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ty: PDAs, Cell ph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0"/>
            <a:ext cx="4343400" cy="459720"/>
          </a:xfrm>
          <a:prstGeom prst="wedgeRectCallout">
            <a:avLst>
              <a:gd name="adj1" fmla="val 55185"/>
              <a:gd name="adj2" fmla="val 5391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more of the lit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2522520" y="2741760"/>
            <a:ext cx="3200400" cy="459720"/>
          </a:xfrm>
          <a:prstGeom prst="wedgeRectCallout">
            <a:avLst>
              <a:gd name="adj1" fmla="val -43064"/>
              <a:gd name="adj2" fmla="val -2301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ight Exc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6816600" y="2823480"/>
            <a:ext cx="4195080" cy="459360"/>
          </a:xfrm>
          <a:prstGeom prst="wedgeRectCallout">
            <a:avLst>
              <a:gd name="adj1" fmla="val 22421"/>
              <a:gd name="adj2" fmla="val 4788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ebrate accomplishment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ucture of the Solution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not the union of what we are all do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Replace keyboard with microph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iting (memorable) sound b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ad grand challenge that we can work toward but never sol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R: word error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 to perform 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meas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uld be no question if it has been accomplis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reduce WER on task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 by tim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mplishments v.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mplishments are g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ity is not a substitute for accomplish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lestones look forward whereas accomplishments look backw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endipity is goo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is beauti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ity is not a good 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slide 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uccessful, you can maybe 3 more sl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contai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al: 1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rics: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lestones: a doz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ly for next year: Q1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us some for years 2, 5, 10 &amp;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mplishments: a doz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 applicability &amp; illust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’t cover every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light stuff th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es to multiple 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ward-Looking / Exc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ketch of a 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: corpora, lexicons, ontologies, tools, standards,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become the preferred source for European language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ric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, Citations, Sales / Down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est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ownloads by tim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s: speech, parsing,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ive, Affordable, Reusable Speech-to-Text (EAR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rics: error rate,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lestones: EARS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arpa.mil/ipto/programs/ears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1640" y="151920"/>
            <a:ext cx="426708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s: QA, CLIR, IE, MT, distance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e NLP apps that change the way people communicate with one an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r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sion and recall on particular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est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-looki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ultilingual Compan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tourists, cultural heritage, business mee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ies for life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ife Lo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fordable Pedabytes 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ing and making searchable a very large personal multi-media col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r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est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tp://ftp.cordis.lu/pub/ist/docs/istag040319-draftnotesofthemeeting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nesc.ac.uk/esi/events/Grand_Challenges/panelc/c24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762120"/>
            <a:ext cx="1904760" cy="459720"/>
          </a:xfrm>
          <a:prstGeom prst="wedgeRectCallout">
            <a:avLst>
              <a:gd name="adj1" fmla="val 25319"/>
              <a:gd name="adj2" fmla="val 9256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: L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019920"/>
            <a:ext cx="2133720" cy="459720"/>
          </a:xfrm>
          <a:prstGeom prst="wedgeRectCallout">
            <a:avLst>
              <a:gd name="adj1" fmla="val 30495"/>
              <a:gd name="adj2" fmla="val -6783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: 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6391440"/>
            <a:ext cx="3657600" cy="459720"/>
          </a:xfrm>
          <a:prstGeom prst="wedgeRectCallout">
            <a:avLst>
              <a:gd name="adj1" fmla="val 39407"/>
              <a:gd name="adj2" fmla="val -10476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: Grand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10280" y="2514600"/>
            <a:ext cx="2133720" cy="459720"/>
          </a:xfrm>
          <a:prstGeom prst="wedgeRectCallout">
            <a:avLst>
              <a:gd name="adj1" fmla="val -28578"/>
              <a:gd name="adj2" fmla="val -985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: TR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2972" t="6603" r="8911" b="30860"/>
          <a:stretch/>
        </p:blipFill>
        <p:spPr>
          <a:xfrm>
            <a:off x="152280" y="1752480"/>
            <a:ext cx="8839440" cy="47055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nd Challenges</a:t>
            </a:r>
            <a:br>
              <a:rPr sz="4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tp://ftp.cordis.lu/pub/ist/docs/istag040319-draftnotesofthemeeting.pd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6172200"/>
            <a:ext cx="2590560" cy="228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752480"/>
            <a:ext cx="3352680" cy="228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4419720"/>
            <a:ext cx="2743200" cy="228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5181480"/>
            <a:ext cx="2590560" cy="228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3276720"/>
            <a:ext cx="2361960" cy="228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5638680"/>
            <a:ext cx="2438280" cy="228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86200" y="2514600"/>
            <a:ext cx="762120" cy="228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286" t="13428" r="40857" b="22573"/>
          <a:stretch/>
        </p:blipFill>
        <p:spPr>
          <a:xfrm>
            <a:off x="380880" y="22320"/>
            <a:ext cx="838224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13817" r="44572" b="42096"/>
          <a:stretch/>
        </p:blipFill>
        <p:spPr>
          <a:xfrm>
            <a:off x="0" y="457200"/>
            <a:ext cx="91440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9T11:33:31Z</dcterms:created>
  <dc:creator>Kenneth Church</dc:creator>
  <dc:description/>
  <dc:language>en-US</dc:language>
  <cp:lastModifiedBy>Paola Baroni</cp:lastModifiedBy>
  <dcterms:modified xsi:type="dcterms:W3CDTF">2004-07-09T13:14:14Z</dcterms:modified>
  <cp:revision>38</cp:revision>
  <dc:subject/>
  <dc:title>Slide 1</dc:title>
</cp:coreProperties>
</file>