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8FA7-6376-4D18-A5D3-941CB690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00D7-3A63-4B0B-BE14-F2D14775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758E7-04F4-4B23-94AE-E56FD70C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7D15-E4E1-4F0B-88C9-17C53C07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53B9-BDFF-4B99-A34F-A3C5479D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9E90-8C84-4B4E-9F31-2CA0C7AE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9B5F-7F12-4C20-86BE-C5CBFB20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B6C6-600D-47FD-884C-A8B1ABF3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B693-3D49-46E3-887A-7F62ADE7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00D9-6B15-4CE6-8BFD-9563025D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BC6E-4F24-43C7-82B4-8BF50D14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21D3-05DB-4FC4-9DBA-5CF00BE2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1138-68EA-4596-9D76-63042621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4864-CAD8-41DE-ADE4-7D278E4B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0780-8914-40BB-A4F2-34DF1441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B432-7B23-491A-85B4-16200166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96E8-CEE4-4F2A-BCE7-C31BC15D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8162-23A8-4F2F-97A0-140E00DB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F976-68D1-4783-B604-3B0D70A8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ADA15-7D04-4CA3-A486-ED28331A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079E-0EB2-403A-9A7B-E0BC8B69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5B1D7-10F2-4031-B9B1-A0AEDF6C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C217-9464-44BA-9000-B867A1FC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5640-DCBB-48DF-B4E0-9B724866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Times New Roman"/>
              </a:rPr>
              <a:t>Joint COCOSDA &amp; ICCWLRE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85EC-28F5-47E6-BC56-039DBE1197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1285-7382-4E8F-AB1A-A6A67203B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000" y="2204640"/>
            <a:ext cx="687564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ffffff"/>
                </a:solidFill>
                <a:latin typeface="Arial"/>
              </a:rPr>
              <a:t>Cross-Language Information Retrieva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03640" y="4292640"/>
            <a:ext cx="338472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rol P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STI-CNR, P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ross-Language Information Retrieval (CLI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ate-of-the-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he basic cross-language text retrieval system technology now exists for bilingual and multilingual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erformance is ca. 90% of monolin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 gap between R&amp;D results and applic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rge Web search engines do not offer C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Few commercial information services offer C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ystems don’t meet needs of generic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R: Ultimate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y multilingual, multimodal information retriev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processing a query in any medium and an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relevant information from a multilingual multimedia collection containing documents in any language and for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resenting it in the style most likely to be useful to the u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LIR: Sub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ully multilingual test retriev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oss-language multimodal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ultilingual question answe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oss-language interactive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lingual Text Retrieval (MLTR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TD: 2007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Truly multilingual systems - L1 -&gt; 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Work need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ost appropriate system archit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ranslation + IR for each language or unified fra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vercoming the translation bottlen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rove LRs/optimise pivot language approaches/conceptual interlingua/language independent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MLTR systems capable of including any new language within 1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anguage Multimodal System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D: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2007 for 1s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successful retrieval across languages in collections of multimedia (video/image/speech/text) – combination of language dependent and language independent metho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120" indent="-61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2 S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-L retrieval as particular form of text retrie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.g. image captions, noisy speech transcri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-L retrieval as combination of media-specific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.g. text-based and content-based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Testing on target collections of multimedia data in fiv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lingual Question Answer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D: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2007 for 1s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LIR systems capable of precise 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2 stages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velopment of monolingua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on-Englis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velopment of C-L Q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combination of NLP and IR to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Testing on target collections in five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nteractive Cross-Language Systems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TD: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ystems that help user in query formulation and results selection and 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On-line multilingual text retrieval system searching on collections in at least five language with functionality for user-assisted query formulation, refinement, document selection and interpre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rnationally funded research programme that prepares a roadmap and promotes its completion through the orgnisation of evaluation campaigns with appropriate tasks designed to stimulate system development in the direction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5:39:02Z</dcterms:created>
  <dc:creator>Carol Peters</dc:creator>
  <dc:description/>
  <dc:language>en-US</dc:language>
  <cp:lastModifiedBy>Paola Baroni</cp:lastModifiedBy>
  <dcterms:modified xsi:type="dcterms:W3CDTF">2004-07-09T13:14:40Z</dcterms:modified>
  <cp:revision>35</cp:revision>
  <dc:subject/>
  <dc:title>DELOS NoE Evaluation Cluster</dc:title>
</cp:coreProperties>
</file>