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11B-4974-4574-8C0B-6763B1A4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137-4724-4A3B-89B6-C063E088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149-858B-4625-9ABD-D7AFD42C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406-D5DE-4B78-9DCA-85C2FB72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EEA-AE32-4558-8CCA-B630B6D9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106-7149-486E-8294-CF411F22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858-FA51-40DF-800C-10210FC8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3C7-60F0-490D-918A-F9D60D19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62F-B7E2-4CD2-9FA5-E0945A67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D57-A8F9-4E82-9FE3-362576F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A79-915A-4027-8F22-5D1D468D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6DA-5565-4470-888C-0D4ABAD8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7FE0-0D9E-4744-A416-129AAE5CF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stablishing the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ünter Neu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FKI, Saarbrü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iewed under a graphical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onents, data sources ar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nks ako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level of granula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QA one n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NER one single n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lexicon one compon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efully consider aspect of mod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plication vs. Application neutral link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e stable control f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ynamic control flow depending on appl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ruc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matic (interactive) domain adaptation even in case of 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eds an architectural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.g.,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what level of granularity? calling stems? pos?, parsing?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ola Baroni</cp:lastModifiedBy>
  <dcterms:modified xsi:type="dcterms:W3CDTF">2004-07-09T13:14:35Z</dcterms:modified>
  <cp:revision>21</cp:revision>
  <dc:subject/>
  <dc:title>PowerPoint Presentation</dc:title>
</cp:coreProperties>
</file>