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80" y="1011240"/>
            <a:ext cx="9301680" cy="5565240"/>
            <a:chOff x="-4680" y="1011240"/>
            <a:chExt cx="9301680" cy="5565240"/>
          </a:xfrm>
        </p:grpSpPr>
        <p:sp>
          <p:nvSpPr>
            <p:cNvPr id="1" name=""/>
            <p:cNvSpPr/>
            <p:nvPr/>
          </p:nvSpPr>
          <p:spPr>
            <a:xfrm>
              <a:off x="345600" y="6353280"/>
              <a:ext cx="15854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marL="228600" indent="-2286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cosda 2002- Den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444800" y="6311880"/>
              <a:ext cx="185220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marL="228600" indent="-228600">
                <a:lnSpc>
                  <a:spcPct val="9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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ELRA/EL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08440" y="6353280"/>
              <a:ext cx="12733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marL="228600" indent="-2286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C/</a:t>
              </a:r>
              <a:fld id="{A24AEE01-EC6B-4CD8-9380-1D3598B0EEF6}" type="slidenum"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0" y="1011240"/>
              <a:ext cx="91440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-4680" y="6249960"/>
              <a:ext cx="91440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267680" y="128520"/>
            <a:ext cx="1809720" cy="8096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st.sun.ac.za/Cocosda/index.htm" TargetMode="External"/><Relationship Id="rId2" Type="http://schemas.openxmlformats.org/officeDocument/2006/relationships/hyperlink" Target="http://www.milab.is.tsukuba.ac.jp/o-cocosda/" TargetMode="External"/><Relationship Id="rId3" Type="http://schemas.openxmlformats.org/officeDocument/2006/relationships/hyperlink" Target="http://www.milab.is.tsukuba.ac.jp/o-cocosda/" TargetMode="External"/><Relationship Id="rId4" Type="http://schemas.openxmlformats.org/officeDocument/2006/relationships/hyperlink" Target="http://www.elda.fr/" TargetMode="External"/><Relationship Id="rId5" Type="http://schemas.openxmlformats.org/officeDocument/2006/relationships/hyperlink" Target="http://csl.anu.edu.au/~bruce/cocosda_oceania_region.html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International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mmittee for the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ordination an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ndardisation of Speech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tabases an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echniques </a:t>
            </a: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alid Choukr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RA/EL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3920" y="27612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COSF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Mission Stat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7152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cosda supports the development of spoken language resources and speech technology evalua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cosda promotes the development of distinctive types of spoken language data corpora for the purpose of building and/or evaluating current or future spoken language technology. For the latter Cocosda offers coordination of projects and research efforts to improve their efficienc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549440"/>
                <a:gridCol w="1652400"/>
                <a:gridCol w="50277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appor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Web 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f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stus Ro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/>
                        </a:rPr>
                        <a:t>www.ast.sun.ac.za/Cocosda/index.h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uichi Itahas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/>
                        </a:rPr>
                        <a:t>www.milab.is.tsukuba.ac.jp/o-cocosda</a:t>
                      </a:r>
                      <a:r>
                        <a:rPr b="0" lang="en-US" sz="1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Eur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halid Chouk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/>
                        </a:rPr>
                        <a:t>www.elda.f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Latin Ame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lsa M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North Ame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Oce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ruce Mil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/>
                        </a:rPr>
                        <a:t>csl.anu.edu.au/~bruce/cocosda_oceania_region.ht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pic Are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ch recogn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ch synthe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ch corpo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pus annotation too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langu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mod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7600" y="28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imes New Roman"/>
              </a:rPr>
              <a:t>COCOSDA 20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0080" y="2766960"/>
            <a:ext cx="767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00"/>
                </a:solidFill>
                <a:latin typeface="Times New Roman"/>
              </a:rPr>
              <a:t>Http://www.cocosda.or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7T00:18:19Z</dcterms:created>
  <dc:creator>khalid CHOUKRI</dc:creator>
  <dc:description/>
  <dc:language>en-US</dc:language>
  <cp:lastModifiedBy>Paola Baroni</cp:lastModifiedBy>
  <cp:lastPrinted>2001-07-05T16:49:16Z</cp:lastPrinted>
  <dcterms:modified xsi:type="dcterms:W3CDTF">2004-07-09T13:14:11Z</dcterms:modified>
  <cp:revision>105</cp:revision>
  <dc:subject/>
  <dc:title>Aucun titre de diapositive</dc:title>
</cp:coreProperties>
</file>