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343-0631-4F3A-B2E7-CC473A7F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D7F-87A5-401F-B05D-EB6F100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8D7-D69C-4A6C-A5F0-612939F3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2F1-C58C-4B37-84E2-6671AC0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5E1-82D7-4872-B345-5D9BCEEF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6C0-3AAB-4FB4-B992-58009F3E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965-18BE-4595-8F9E-EA532A38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AAE-6283-44D5-B030-05AFFA9A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839-38F7-42B1-AFC7-12C550C5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117-D4C7-42F0-A0B2-73695FE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AB0-EDD5-4633-A7C3-469CD5A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1F6-DE69-426D-B1EF-5CC5E08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600" y="6095880"/>
            <a:ext cx="417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3269-7C6B-4AFA-B1B2-64F9CF54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5160" y="6095880"/>
            <a:ext cx="419040" cy="561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237360"/>
            <a:ext cx="142884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918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are we with evalu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1640" y="2997000"/>
            <a:ext cx="6264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ghi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/IS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ool of Translation and Interpr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ersity of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LR&amp;E Roadma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th Ma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EC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ly just beginning to 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uracy is not enoug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 can’t find a gold standa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 can’t identify groups of users whose interests coin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Time sc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No idea – much too early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Foresaking all others, lets concentrat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the system meet its ow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uit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the system give results the user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An easy example: terminology extr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: list all sequences of two words or more repeating two times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uitability: useless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(gives far too much no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Accuracy will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f some core functionality coincides with needs of a wide range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f there’s a way to define the ‘right’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pelling che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Fact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When accuracy isn’t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nd suitability starts to be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.g. with document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times possible to construct right answers anyway, although subjectivity and dispute begin to creep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isn’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t’s hard (impossible?) to construct right answers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corpus being treated is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corpus being treated is inherently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rs’ interests don’t coin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ample: re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So where are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’re quite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user satisfaction can be made to hang o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’re not totally ba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we can supply a definition of suitability by constructing a 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8:42:07Z</dcterms:created>
  <dc:creator>Nancy Underwood</dc:creator>
  <dc:description/>
  <dc:language>en-US</dc:language>
  <cp:lastModifiedBy>Paola Baroni</cp:lastModifiedBy>
  <dcterms:modified xsi:type="dcterms:W3CDTF">2004-07-09T13:14:29Z</dcterms:modified>
  <cp:revision>48</cp:revision>
  <dc:subject/>
  <dc:title>PARMENIDES</dc:title>
</cp:coreProperties>
</file>