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B3DD-89C5-4EF5-9E36-D209B72E9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964E-A705-4B6A-8A60-552463F9D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E263-EC70-4932-9863-ACC2D1832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B90B-092A-4BD8-8EF8-59D4C819A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9D2C2-E72D-4136-8553-59A32B3754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5AF1-3938-43F8-AC2D-E60CD40433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F0DCF-0C2F-44C8-B413-712919DB7F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FA52-8B9A-4DEB-9BA7-9C050A6C2E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5A48-C582-4688-8EBA-7BA3FBD925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d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7BC9C-57AC-4844-9CBA-205A7925D3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AC09-5223-450C-9DFE-3F10C06E60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FD9E-ACCA-4CBB-A4E3-630A9AD5F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1A559-E791-4C7B-825A-B9E8FF436A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6C448-1F53-4297-9ACE-1D122C97A5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081C9-DCE9-4E53-AFA3-B9BC1C4A24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4671F-E697-4310-8755-D4024E40EA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23580-20FD-40F2-8267-FD77EEFE1D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DE65-EEDD-4C97-A032-6298A4F62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542C-E7E4-4A33-8A6E-8871803F0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351F-2B0E-4D98-9182-86EDBE1BD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d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8427-89C6-48E7-9D7F-E0077912B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7D16-CCCB-4CEA-AAA1-45A5CA995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DA45-19D0-44A4-997E-3DD3D6C61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4689-CA02-4526-8AC1-3A7C2A8E9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-285840">
              <a:buClr>
                <a:srgbClr val="d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d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buClr>
                <a:srgbClr val="d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buClr>
                <a:srgbClr val="d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, except for quotes, which use gray backgrou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28pt Arial Regular, light blue R204 | G204 | B255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18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green R223 | G255 | B10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-647640"/>
            <a:ext cx="5605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7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" name="" descr=""/>
          <p:cNvPicPr/>
          <p:nvPr/>
        </p:nvPicPr>
        <p:blipFill>
          <a:blip r:embed="rId3"/>
          <a:srcRect l="0" t="27010" r="0" b="52403"/>
          <a:stretch/>
        </p:blipFill>
        <p:spPr>
          <a:xfrm>
            <a:off x="1440" y="1440"/>
            <a:ext cx="9144000" cy="376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441080" y="52560"/>
            <a:ext cx="26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usiness Unit or Product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resentation Tit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 |  Presentation Subtitle  |  Confi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20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sldNum" idx="1"/>
          </p:nvPr>
        </p:nvSpPr>
        <p:spPr>
          <a:xfrm>
            <a:off x="154080" y="650052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9DA0-5A70-478E-AAA1-13F32B3883B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4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611352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Indications in green = Live conten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Num" idx="2"/>
          </p:nvPr>
        </p:nvSpPr>
        <p:spPr>
          <a:xfrm>
            <a:off x="425520" y="6505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2335320" y="4203720"/>
            <a:ext cx="215928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Presentation subtitle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20pt Arial Regular,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green R223 | G255 | B10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Recommended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maximum length: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352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Indications in green = Live conten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590400" y="4343400"/>
            <a:ext cx="5191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28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-647640"/>
            <a:ext cx="5541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9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Business Unit or Product Nam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5154480"/>
            <a:ext cx="9144000" cy="169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863720" y="4217760"/>
            <a:ext cx="0" cy="933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8622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9175320" y="4341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ff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dfff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dfff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dfff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dfff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S for Metadat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49400" y="410652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ff66"/>
                </a:solidFill>
                <a:latin typeface="Arial"/>
              </a:rPr>
              <a:t>Roberto Pieraccini</a:t>
            </a:r>
            <a:endParaRPr b="0" lang="en-US" sz="2000" spc="-1" strike="noStrike">
              <a:solidFill>
                <a:srgbClr val="dfff66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ff66"/>
                </a:solidFill>
                <a:latin typeface="Arial"/>
              </a:rPr>
              <a:t>IBM T.J.Watson Research Center</a:t>
            </a:r>
            <a:endParaRPr b="0" lang="en-US" sz="2000" spc="-1" strike="noStrike">
              <a:solidFill>
                <a:srgbClr val="dfff66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ff66"/>
                </a:solidFill>
                <a:latin typeface="Arial"/>
              </a:rPr>
              <a:t>Yorktown Heights, NY - USA</a:t>
            </a:r>
            <a:endParaRPr b="0" lang="en-US" sz="2000" spc="-1" strike="noStrike">
              <a:solidFill>
                <a:srgbClr val="dfff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EMMA—Extensible MultiModal Annotation</a:t>
            </a: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of  W3C (World Wide Web Consortium) MultiModal Interaction working grou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www.w3.org/2002/mmi/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resentation of input interpretation and metadat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Working Draft - Dec 200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www.w3.org/TR/emma/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data annotation based on RDF (Resource Description Framework) – Semantic Web Activit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www.w3.org/RDF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EMMA Annotation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3608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75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rivation/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ference to proces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ck of 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nterpretable 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uman language of 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ference to sig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dence sc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52800" y="1776240"/>
            <a:ext cx="36082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up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put 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 stam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lative Positio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dium and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osite 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Example: interpretations, timestamp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8520" y="1531800"/>
            <a:ext cx="874548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emma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:emma emma:version="1.0"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xmlns:emma="http://www.w3.org/2003/04/emma#"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xmlns:rdf="http://www.w3.org/1999/02/22-rdf-syntax-ns#"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emma:interpretation rdf:ID="int1"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origin&gt;New York&lt;/origin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destination&gt;Seattle&lt;/destination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/emma:interpretation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Courier New"/>
              </a:rPr>
              <a:t>&lt;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df:RDF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Courier New"/>
              </a:rPr>
              <a:t>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rdf:Description rdf:about="#int1"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mma:start="2003-03-26T0:00:00.15"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mma:end="2003-03-36T0:00:00.2" /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lt;rdf:Description rdf:about="#int1"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mma:confidence="0.75" /&gt;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Example: Derivation chain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33600" y="1523880"/>
            <a:ext cx="1179720" cy="1067040"/>
          </a:xfrm>
          <a:prstGeom prst="rect">
            <a:avLst/>
          </a:prstGeom>
          <a:solidFill>
            <a:srgbClr val="d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Proc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1523880"/>
            <a:ext cx="1143000" cy="1067040"/>
          </a:xfrm>
          <a:prstGeom prst="rect">
            <a:avLst/>
          </a:prstGeom>
          <a:solidFill>
            <a:srgbClr val="d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Proc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7" idx="3"/>
            <a:endCxn id="138" idx="1"/>
          </p:cNvCxnSpPr>
          <p:nvPr/>
        </p:nvCxnSpPr>
        <p:spPr>
          <a:xfrm>
            <a:off x="4513320" y="2057040"/>
            <a:ext cx="165960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8" idx="3"/>
          </p:cNvCxnSpPr>
          <p:nvPr/>
        </p:nvCxnSpPr>
        <p:spPr>
          <a:xfrm>
            <a:off x="7314840" y="2057040"/>
            <a:ext cx="48348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7" idx="1"/>
            <a:endCxn id="142" idx="3"/>
          </p:cNvCxnSpPr>
          <p:nvPr/>
        </p:nvCxnSpPr>
        <p:spPr>
          <a:xfrm flipH="1">
            <a:off x="1675800" y="2057040"/>
            <a:ext cx="165780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33520" y="1447920"/>
            <a:ext cx="1143000" cy="1218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umnst777 BT"/>
              </a:rPr>
              <a:t>INP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47680" y="2133720"/>
            <a:ext cx="851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NT_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72680" y="2133720"/>
            <a:ext cx="792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NT_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15880" y="2133720"/>
            <a:ext cx="792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NT_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5480" y="3124080"/>
            <a:ext cx="8410320" cy="28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scription 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about="#INT_2"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emma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rivation 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resource="#INT_1"/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/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scription&gt;</a:t>
            </a:r>
            <a:r>
              <a:rPr b="1" lang="en-US" sz="2400" spc="-1" strike="noStrike">
                <a:solidFill>
                  <a:srgbClr val="ffffff"/>
                </a:solidFill>
                <a:latin typeface="Humnst777 B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scription 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about="#INT_3"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emma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rivation 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resource="#INT_2"/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/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scriptio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Humnst777 B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Example: multiple derivation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33600" y="1523880"/>
            <a:ext cx="1179720" cy="1067040"/>
          </a:xfrm>
          <a:prstGeom prst="rect">
            <a:avLst/>
          </a:prstGeom>
          <a:solidFill>
            <a:srgbClr val="d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 Unicode MS"/>
              </a:rPr>
              <a:t>Proc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1523880"/>
            <a:ext cx="1143000" cy="1067040"/>
          </a:xfrm>
          <a:prstGeom prst="rect">
            <a:avLst/>
          </a:prstGeom>
          <a:solidFill>
            <a:srgbClr val="d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 Unicode MS"/>
              </a:rPr>
              <a:t>Proc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8" idx="3"/>
            <a:endCxn id="149" idx="1"/>
          </p:cNvCxnSpPr>
          <p:nvPr/>
        </p:nvCxnSpPr>
        <p:spPr>
          <a:xfrm>
            <a:off x="4513320" y="2057040"/>
            <a:ext cx="165960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3"/>
          </p:cNvCxnSpPr>
          <p:nvPr/>
        </p:nvCxnSpPr>
        <p:spPr>
          <a:xfrm>
            <a:off x="7314840" y="2057040"/>
            <a:ext cx="48348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8" idx="1"/>
            <a:endCxn id="153" idx="3"/>
          </p:cNvCxnSpPr>
          <p:nvPr/>
        </p:nvCxnSpPr>
        <p:spPr>
          <a:xfrm flipH="1">
            <a:off x="1675800" y="2057040"/>
            <a:ext cx="165780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533520" y="1447920"/>
            <a:ext cx="1143000" cy="1218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Humnst777 BT"/>
              </a:rPr>
              <a:t>INPUT DE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47680" y="2133720"/>
            <a:ext cx="851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NT_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72680" y="2133720"/>
            <a:ext cx="792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NT_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15880" y="2133720"/>
            <a:ext cx="792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NT_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1440" y="4495680"/>
            <a:ext cx="87760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scription 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about="#INT_3"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emma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rivation 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resource="#INT_2"/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emma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rivation 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resource="#INT_2.1"/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/</a:t>
            </a:r>
            <a:r>
              <a:rPr b="0" lang="en-US" sz="2400" spc="-1" strike="noStrike">
                <a:solidFill>
                  <a:srgbClr val="7889fb"/>
                </a:solidFill>
                <a:latin typeface="Courier New"/>
                <a:ea typeface="Courier New"/>
              </a:rPr>
              <a:t>rdf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:Descriptio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Humnst777 B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2971800"/>
            <a:ext cx="1179360" cy="1066680"/>
          </a:xfrm>
          <a:prstGeom prst="rect">
            <a:avLst/>
          </a:prstGeom>
          <a:solidFill>
            <a:srgbClr val="d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 Unicode MS"/>
              </a:rPr>
              <a:t>Proc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3"/>
            <a:endCxn id="149" idx="2"/>
          </p:cNvCxnSpPr>
          <p:nvPr/>
        </p:nvCxnSpPr>
        <p:spPr>
          <a:xfrm flipV="1">
            <a:off x="3541320" y="2590560"/>
            <a:ext cx="3202920" cy="9151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5638680" y="3048120"/>
            <a:ext cx="983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NT_2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ola Baroni</cp:lastModifiedBy>
  <dcterms:modified xsi:type="dcterms:W3CDTF">2004-07-09T13:14:42Z</dcterms:modified>
  <cp:revision>18</cp:revision>
  <dc:subject/>
  <dc:title>PowerPoint Presentation</dc:title>
</cp:coreProperties>
</file>