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9158-9E89-4B23-A3F7-0BD34884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FD2-DEF8-404E-9414-2B6C0433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AF90-5EF8-4F43-A583-34A967B5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7D8-F886-4E38-9346-A4B7904F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2403-C7B3-4057-8059-617EDBCB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6C81-9B20-4898-8DD1-D7716212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C638-248E-43EC-AA1F-E7C550C6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4014-90CD-4BD4-BCDB-4F7E87F7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159A-9A18-4837-851A-3EE8E881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0F88-1D97-437A-92F8-EC5D440D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55D7-BEE4-4837-986A-57FBAE7D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F8A-FFDB-4D3F-8B11-A7B3FB72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34BE-8E97-49AF-BABA-20B4BDEE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1B0C-2BE0-4441-8B94-2A6639DA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69C7-5E7B-4CAC-A0FF-175317F1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0927-B2CF-4CD6-AF92-23E2CD3B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565F-935C-4C68-8E44-C7004D3F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257-6F3D-4229-9E8F-D1A8FD6C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C4A-352D-4F08-869C-81F84A3E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1DF-12C1-4BC5-B9CA-F87441F0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4DE-1C60-41B5-A4B2-FDDC309B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D624-C597-481A-AFE6-B28E4F3B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B58-4721-447A-B318-7A986D7D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FC7E-4EC3-4A89-834B-FCD89F50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CE20-E517-40FA-BA52-B49FF7B9DF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C192-E4E7-4690-A54C-13408A0FFD9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Towards a roadmap for standardization in language technology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urent Romary &amp; Nancy 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ia-INRIA — Vassar Colle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SO/TC 37/SC 4 overall rationa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743200" y="4876920"/>
            <a:ext cx="3581280" cy="914400"/>
          </a:xfrm>
          <a:prstGeom prst="cube">
            <a:avLst>
              <a:gd name="adj" fmla="val 25000"/>
            </a:avLst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W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Basic descriptors and mechanis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for language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3886200"/>
            <a:ext cx="2514600" cy="914400"/>
          </a:xfrm>
          <a:prstGeom prst="cube">
            <a:avLst>
              <a:gd name="adj" fmla="val 25000"/>
            </a:avLst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W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Representation schem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3886200"/>
            <a:ext cx="2514600" cy="914400"/>
          </a:xfrm>
          <a:prstGeom prst="cube">
            <a:avLst>
              <a:gd name="adj" fmla="val 25000"/>
            </a:avLst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W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Multilingual text represen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048120"/>
            <a:ext cx="2362320" cy="914400"/>
          </a:xfrm>
          <a:prstGeom prst="cube">
            <a:avLst>
              <a:gd name="adj" fmla="val 25000"/>
            </a:avLst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W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Lexical datab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5400000">
            <a:off x="5829480" y="3924360"/>
            <a:ext cx="3504960" cy="838080"/>
          </a:xfrm>
          <a:prstGeom prst="cube">
            <a:avLst>
              <a:gd name="adj" fmla="val 25000"/>
            </a:avLst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W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Workflow of language Resource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12320" y="2514600"/>
            <a:ext cx="8650800" cy="3581280"/>
            <a:chOff x="112320" y="2514600"/>
            <a:chExt cx="8650800" cy="3581280"/>
          </a:xfrm>
        </p:grpSpPr>
        <p:sp>
          <p:nvSpPr>
            <p:cNvPr id="409" name=""/>
            <p:cNvSpPr/>
            <p:nvPr/>
          </p:nvSpPr>
          <p:spPr>
            <a:xfrm>
              <a:off x="1523880" y="2514600"/>
              <a:ext cx="7239240" cy="358128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2320" y="4019400"/>
              <a:ext cx="167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Optima ExtraBlack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Optima ExtraBlack"/>
                </a:rPr>
                <a:t>categor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n-going activities within ISO/TC 37/SC 4 (1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ture structure re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t activity with the TEI; CD document almost acheived; planned project on FS decla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guistic Annotation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principles of annotation scheme specification and representation, pointing mechanisms for stand-off mark-up; draft document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phosyntactic annotation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ble working draft under diissemination for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xical Markup Framework (LM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eneral specification platform for lexical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proposals: core model + lexical exte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n-going activities within ISO/TC 37/SC 4 (2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entral role of the Data Category Regi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: market place of descriptors for all types of language resources and annotation sc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: /grammatical gender/, /paucal number/, /ablative case/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-line tool available: http://syntax.loria.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ad hoc groups cre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data for language 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. TEI, IMDI, OL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phosyntactic descriptors (SC4 plenary last Tuesd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. Morphosyntactic Annotation 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antic content descrip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ratory: discourse relations, dialogue acts, referential link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orities for the future (1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bilizing and dissemin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de dissemination of existing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priorities in ISO/TC 37/SC 4: morphosyntax and lexical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idation of on-going documents by our 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edback on documents, reference implemen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thering up samples and/or test suites (manpower need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ing the work on the Data Category Reg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additional topis should be address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involve a wide variety of exper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 publication and information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orities for the future (2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ling in the ga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tactic structures: cf. Treebanks, (Chunk, deep) Par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specific lex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formats should be ‘frozen’ within the LMF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antic content re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f. ACL/SIGSEM working group on Multimodal semantic content re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orities for the future (3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lingual information re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relate on-going activities on translation memories, localization, iTV, multimedia information (e.g. sub-titl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 of NLP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principles: linguistic coverage, metr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specific evaluation methods: machine translation, information extr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flow of language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ife cycle of language resources: creation, enrichment, validation, dissem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 languag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e of dissemination of existing standards (in academia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 as the identification of stable concepts in a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in academic curric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e of wide involvement of experts (academia and indust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ng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ibution to technical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ing main milestones in the roadmap with the underlying standardization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Evaluation related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background on standard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lable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-going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k ahead of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ndard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ng methods or models to facili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of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erability between software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ability of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technological point of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bilizing existing pract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ing ahead for potential roadbl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n organizational point of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ational consensus, long term availability and mainte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ical vs. horizontal standard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ndards: a complex pictu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ial standardization bod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: AFNOR, ANSI, DIN, BSI, M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: ISO, IEC, CEN, W3C, O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 fo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! e.g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I (Text Encoding Initia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A (Localization Industry Standards Associ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s with a pre-normative purpo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in EU: EAGLES, Multext, MATE, IS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isting standards (1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3C (World Wide Web consortium); horizontal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 building block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, XML Schemas (Note: growing importance of alternative RelaxNG schemas), XS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services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SDL, SO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antic web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DF, RDFS, OW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 (vertical) activities with little critical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iceML, EMMA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isting standards (2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vant standards in ISO (partial vie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 infrastructural (horizontal)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acter encoding (cf. IPA): ISO 10646/Uni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guage codes: ISO 639 (e.g. ‘fr’) and ISO 639-2 (e.g. ‘fra’/’fr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under ISO/TC 37/SC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EG7 for multimedia information — hardly implementable :-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 standards: ISO 12200 (Martif), ISO 12620 (Data categories), ISO 16642 (Terminological markup framewor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under ISO/TC 37/SC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isting standards (3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ing at other fie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-IEC/JTC 1/SC 36: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ion on language asp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-IEC/JTC 1/SC 32: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basis provided by ISO 1117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-IEC/JTC 1/SC ??: evaluation of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/IEC 9126-1 [2 &amp; 3 in progress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/IEC 14598-1 to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isting standards (4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I proposals relevant for our fie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I header: seminal work to evolve in collaboration with IMDI and OL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representation of texts: prose, poetry, drama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cription of spe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dictionaries: under revision in collaboration with ISO/TC 37/SC 4 (cf. LM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ologies: under revision to make it compatible with ISO 166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SO committee on language re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 TC37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olog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d other languag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3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puter applications in termi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 12200 - Mart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test version of TEI Terminology chap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 12620 - Data categories (under revis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 16642 - TMF (Terminological Markup Framewor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C4 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Language Resource Manag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ay 200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ec.: K.-S. Choi, Chair.: L. Ro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tc37sc4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8T10:45:27Z</dcterms:created>
  <dc:creator>Laurent Romary</dc:creator>
  <dc:description/>
  <dc:language>en-US</dc:language>
  <cp:lastModifiedBy>Paola Baroni</cp:lastModifiedBy>
  <dcterms:modified xsi:type="dcterms:W3CDTF">2004-07-09T13:14:45Z</dcterms:modified>
  <cp:revision>172</cp:revision>
  <dc:subject/>
  <dc:title>Towards a roadmap for standardization for language technology</dc:title>
</cp:coreProperties>
</file>