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F78-25CD-48F5-A160-076240D4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C6A-4552-4C9C-8BB5-15943593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5AF-F37A-4FAD-894A-357703CA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14F-4AC9-468D-AEEF-3A54BB9E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AFA1-C9CD-4B8A-80D6-F2BB0C2F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CEE0-52B2-40DE-B286-8E94E7F3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6EC1-9F6B-4BB8-9C64-D8E7D8D2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27AE-5719-466C-95C0-5422AD0A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A692-C5A4-4B17-AF6D-707D230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8D46-9FA8-49CB-B7E8-5CAE7057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D59-6552-4AED-8516-242CFE9C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7FC-5BAB-476B-A818-C41D2E0E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0F17-3D61-48BB-A95E-786CFF2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4034-9CAC-493E-83FA-102B069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48A4-F2B1-4325-8236-94A60053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68E8-AB65-454B-98EF-4DEE718B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B431-D1F5-4D9C-998C-4A76D4DA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E86-FCA8-4895-BCFF-C2372E8D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3F4-92C6-4748-9964-EC72CF4C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B96-A10B-4655-8F13-6F243E09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BA9-6B88-46C3-9C1C-B7926FB3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DD1-9061-4D43-9114-7785F9A1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FF2-0F5A-49DD-9E1E-BDEDCE0A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430-ABB7-401F-9D11-8BA1CB06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0458c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A2AB-6215-42B8-8548-8C21344C8C7A}" type="slidenum">
              <a:rPr b="0" lang="en-US" sz="1400" spc="-1" strike="noStrike">
                <a:solidFill>
                  <a:srgbClr val="40458c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0458c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7220-58F4-497B-8B40-92AEB7EEEBCB}" type="slidenum">
              <a:rPr b="0" lang="en-US" sz="1400" spc="-1" strike="noStrike">
                <a:solidFill>
                  <a:srgbClr val="40458c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Multilingual Lexico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kunaga Takenobu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kyo Institute of Technology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Goal &amp; Milestone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A multilingual lexicon of 200,000 entries for the 20 languages (hopefully including Asian languages) that is usable for MT systems by 2015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Defining specifications of entries (3 yrs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Basic 5,000 entries (2 yrs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caling up to 200,000 entries (5 yrs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AGLES applied on Asian Languages (ISLE WS)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hines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(Formosan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Hindi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Japanes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Korean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ai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Distribute the EAGLES documents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est applicability on each language (noun, verb) by comparing existing linguistic resources (lexicon, tagged corpora etc.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omparison and summarization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General Comment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ear contract between inflectional languages and others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nformation marked by inflection in the EAGLES framework is often expressed by auxiliaries, particles and affixes in Asian languages.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nformation and its representation should be distinguished clearly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1600200"/>
            <a:ext cx="624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Chu-Ren Huang (Chinese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Elizabeth Zeiton (Formosan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Paul J.K. Li (Formosan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Dipti Misra Sharma (Hindi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Tokunaga Takenobu (Japanes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Hae-Yun Lee (Korean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Asanee Kawtrakul (Thai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Thatsanee Charoenporn (Thai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  <a:ea typeface="ＭＳ Ｐゴシック"/>
              </a:rPr>
              <a:t>Virach Sornlertlamvanich (Thai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tributor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8:21:00Z</dcterms:created>
  <dc:creator>Department of Computer Science</dc:creator>
  <dc:description/>
  <dc:language>en-US</dc:language>
  <cp:lastModifiedBy>Paola Baroni</cp:lastModifiedBy>
  <cp:lastPrinted>1904-01-01T00:00:00Z</cp:lastPrinted>
  <dcterms:modified xsi:type="dcterms:W3CDTF">2004-07-09T13:14:50Z</dcterms:modified>
  <cp:revision>8</cp:revision>
  <dc:subject/>
  <dc:title>Multilingual Lexicon</dc:title>
</cp:coreProperties>
</file>