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80C-75A4-4866-AA54-0D925690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384-3A81-49FF-BF91-9BA6FC7A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5B9-8202-49EB-B83E-984E3A2A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AC9-7C74-406C-80FA-DB65FA85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128-4107-4946-867F-AF978C5C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E36-76FB-4232-A8FA-D3ACD769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0B4-BA63-4E13-B72E-1EB225F2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C3B-7528-4ACF-9206-516459BD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BBC-4B02-454D-8F98-B7DA0D87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28D-6DD0-4579-BD8C-EE33BF8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82A-1F62-4AAA-B599-8BAC288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2CA-9FB6-4742-B93B-A46EFA2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CBA-C1EC-4B34-8137-17EE8535B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etching NLE Research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for E-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istair Willis and Anne de Ro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aculty of Maths and Computing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pen University, Walton Hal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ilton Keynes, MK7 6AA, U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pen Univers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distanc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se materials written centr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tutor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st UK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,000 students worldwide, 180,000 on-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rd largest university worldw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ng towards e-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submission of cours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delivery of course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pen Universities Global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Open Universities world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lland, Singapore, Hong Kong, India, NZ, Arab OU, Africa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other distance learning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creasingly electronically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etration of technology limiting f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wil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nguage engineering techniques to support student experience/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 e-Learning Research The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research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conceptual gaps in lea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ng diagrams and text in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ic assessment in structured specialist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sing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agen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ilor made e-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in minority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6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 has (potentially) many resources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u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cle (course material, model answ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tor feed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itudin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ain specific terminology and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hallenge..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for collecting and annotat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nd text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ion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LE Solutions that are portable across language type (eg Arabic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8:13:59Z</dcterms:created>
  <dc:creator>Fraser Woodburn</dc:creator>
  <dc:description/>
  <dc:language>en-US</dc:language>
  <cp:lastModifiedBy>Paola Baroni</cp:lastModifiedBy>
  <dcterms:modified xsi:type="dcterms:W3CDTF">2004-07-09T13:14:55Z</dcterms:modified>
  <cp:revision>8</cp:revision>
  <dc:subject/>
  <dc:title>Stretching NLE Research The Case for E-Learning</dc:title>
</cp:coreProperties>
</file>