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FC8-8970-40D1-A850-63FF0189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E07-AD73-44FF-99C3-B6F2090C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22B-3584-4D02-8943-BC9A0322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3BA-662F-4A2E-BE75-066F32BD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835-622A-42AA-A598-DE3ED30F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1A9-F4ED-4054-B69D-AB6A4EFF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B2E-80AA-45E7-92E7-04957D7E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761-CC15-4727-BC96-DD3CB610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70A-4D69-4EAC-B984-E4B56327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058-3599-4F97-80EB-4C5DFF56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52A-7BAC-4992-B77B-84537FC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07E-8DA7-437B-81B0-C68FFFF7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FBB4-4470-4025-8B68-EAADADD4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-Answer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R&amp;E roadmap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ünter Neu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FKI, Saarbrü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QA: gener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A is AI-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per decomposition of the whole QA problem i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A seen as embedded basic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portant to identify the core QA functionality, which is stable and independent from specific QA application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per identify relationship to other research areas, e.g., IE, IR, KRR, SW, MT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ottom-up system development („divide-and-interac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ta-oriented user, domain, task adaptiv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chine Learning &amp; Explanation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perating specialised QA-components/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QA research sub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lingual, open-domain QA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-scale domain-specific QA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 Q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ross-lingual, open-domain Q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lready in progress: e.g., CL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dditonal needs, e.g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l cross-language answer sources (not just Engl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L-generation of answers into quer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aluation standards for complex queries (e.g., definition, template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-sca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-specific Q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s queries about a certain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-grained domain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lexica and sub-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of the domain-related knowledge are automatically acquired by the QA-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has restricted capabilities of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relevant information for controlling its internal decis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pendence of the type of question and the answer sources (raw text, marked-up web pages, numeric dat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recognizes and plans appropriate answer selection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the answer generation mode: depending on current QA-context, e.g., short answer string, (multi-media) summary, pointers into ontology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daptive Q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A system is able t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apt towards user, domain, data sou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A-system ha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stricted dia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pab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builds up and treats a structured episodic memory, which it uses as source for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lf-evalu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chine learning of novel QA-strategies, and setting up context awaren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A system (in interaction with a domain expert) is used for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uilding up domain knowled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improve/adapt its performance, system is able to create its own questions  in order to perform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lf-initiate QA-cyc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A-system can communicate with other self-adaptive QA-systems in order to built up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ociety of specialized QA-ag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ola Baroni</cp:lastModifiedBy>
  <dcterms:modified xsi:type="dcterms:W3CDTF">2004-07-09T13:14:37Z</dcterms:modified>
  <cp:revision>68</cp:revision>
  <dc:subject/>
  <dc:title>PowerPoint Presentation</dc:title>
</cp:coreProperties>
</file>