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65A8-8CE1-4B20-B731-F06A84514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BACF-9231-405F-B964-87A6C1311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3939-5389-49E4-9FB0-CDF27371E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8951-A701-472D-8053-3B71A4EE0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FFAC-DC76-471E-B86D-E6C696DC9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2A95-7998-428A-8B0A-7162B9E5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E61B-051C-45AA-AFFD-95CFAEC98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97CB-2FBC-4749-A810-45506DCD7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0D16-D10F-44EA-88DE-D4230F866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ECDE-7AFA-4FBE-B287-CC2F670C6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68A4-E671-4E0B-978E-6DAECE5D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03E5-8165-4127-BF31-F4A01500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76581-A357-4B0C-9936-E284D8A0A0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chnologically challenged languages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us Rou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COCOSDA &amp; ICCWLRE 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REC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b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rinciple: All languages are `technologically challenged`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languages are more `technologically challenged` than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ter of scale and envir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factors determining whether a language can be regarded as `technologically challenged`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Current phase of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languages have a longer `technological history` than 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ility of resources &amp; expert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grees of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languages may still be regarded as technologically challenged if they do not have full-fledged Speech-to-Speech translation capabilities – others if they do not have electronic dictionaries et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ed for being `developed`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l  (acade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we really expect all languages to be `technologically developed`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fa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l of available expertise (linguistic and technological) in a particular 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admap implies availability of expertise – not necessarily the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stion: Human capacity building as a goal in the roadmap strategy?  (Integrated training programme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t off point for development of “technologically challenged languages”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 Case of SA Englis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nguage Situation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her tongue division (n=40,5 mil speak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04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762120" y="1752480"/>
          <a:ext cx="739116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752480"/>
                    <a:ext cx="73911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38080" y="6858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priorities should be set in developing languages at technological leve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nomic facto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viabili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o-political facto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to in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g. Language specific speech based systems  empowering pre-literate communities?  (Given the growth of mobile communications in Africa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30T03:32:16Z</dcterms:created>
  <dc:creator>CSIR</dc:creator>
  <dc:description/>
  <dc:language>en-US</dc:language>
  <cp:lastModifiedBy>Paola Baroni</cp:lastModifiedBy>
  <dcterms:modified xsi:type="dcterms:W3CDTF">2004-07-09T13:14:47Z</dcterms:modified>
  <cp:revision>10</cp:revision>
  <dc:subject/>
  <dc:title>“Technologically challenged languages”</dc:title>
</cp:coreProperties>
</file>