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0F8D-4682-4C48-96F7-37DDEAA0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42E-4532-46AE-8BE5-FD819F63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315-C36C-4144-BC55-F4B0671D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0646-A4EB-4641-BBB9-C437ED16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B1B-A808-4613-A822-986B70A9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998B-F778-4412-A503-BAB46728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F157-00AD-4523-A212-B493667F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2F60-787A-498E-A1C2-9B971633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542-DE3E-4EA7-9F2E-9EE4064D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D461-3E9D-4A63-828C-17AF621B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A74-1270-494A-AF16-339F30F8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BC87-79C8-42C8-88A7-791E479F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72E5-B9AF-4B07-9E98-408AB9241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nceptual Analysis, Terminology,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Jun'ichi Tsuj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iversity of Tokyo, Tokyo,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sujii@is.s.u-tokyo.ac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08000" y="44280"/>
          <a:ext cx="8928000" cy="655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44280"/>
                    <a:ext cx="892800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332000" y="5502240"/>
            <a:ext cx="7500960" cy="590760"/>
          </a:xfrm>
          <a:custGeom>
            <a:avLst/>
            <a:gdLst/>
            <a:ahLst/>
            <a:rect l="l" t="t" r="r" b="b"/>
            <a:pathLst>
              <a:path w="4725" h="372">
                <a:moveTo>
                  <a:pt x="1795" y="342"/>
                </a:moveTo>
                <a:cubicBezTo>
                  <a:pt x="1702" y="372"/>
                  <a:pt x="1599" y="341"/>
                  <a:pt x="1503" y="334"/>
                </a:cubicBezTo>
                <a:cubicBezTo>
                  <a:pt x="1407" y="319"/>
                  <a:pt x="1308" y="309"/>
                  <a:pt x="1211" y="300"/>
                </a:cubicBezTo>
                <a:cubicBezTo>
                  <a:pt x="1139" y="293"/>
                  <a:pt x="994" y="283"/>
                  <a:pt x="994" y="283"/>
                </a:cubicBezTo>
                <a:cubicBezTo>
                  <a:pt x="793" y="245"/>
                  <a:pt x="556" y="261"/>
                  <a:pt x="368" y="258"/>
                </a:cubicBezTo>
                <a:cubicBezTo>
                  <a:pt x="329" y="255"/>
                  <a:pt x="290" y="254"/>
                  <a:pt x="251" y="250"/>
                </a:cubicBezTo>
                <a:cubicBezTo>
                  <a:pt x="212" y="246"/>
                  <a:pt x="179" y="217"/>
                  <a:pt x="142" y="208"/>
                </a:cubicBezTo>
                <a:cubicBezTo>
                  <a:pt x="90" y="196"/>
                  <a:pt x="51" y="191"/>
                  <a:pt x="0" y="183"/>
                </a:cubicBezTo>
                <a:cubicBezTo>
                  <a:pt x="75" y="133"/>
                  <a:pt x="134" y="126"/>
                  <a:pt x="226" y="117"/>
                </a:cubicBezTo>
                <a:cubicBezTo>
                  <a:pt x="267" y="106"/>
                  <a:pt x="300" y="97"/>
                  <a:pt x="343" y="91"/>
                </a:cubicBezTo>
                <a:cubicBezTo>
                  <a:pt x="398" y="73"/>
                  <a:pt x="453" y="65"/>
                  <a:pt x="510" y="58"/>
                </a:cubicBezTo>
                <a:cubicBezTo>
                  <a:pt x="568" y="39"/>
                  <a:pt x="506" y="57"/>
                  <a:pt x="618" y="41"/>
                </a:cubicBezTo>
                <a:cubicBezTo>
                  <a:pt x="732" y="24"/>
                  <a:pt x="844" y="8"/>
                  <a:pt x="960" y="0"/>
                </a:cubicBezTo>
                <a:cubicBezTo>
                  <a:pt x="1302" y="8"/>
                  <a:pt x="1638" y="49"/>
                  <a:pt x="1979" y="66"/>
                </a:cubicBezTo>
                <a:cubicBezTo>
                  <a:pt x="2102" y="81"/>
                  <a:pt x="2222" y="101"/>
                  <a:pt x="2346" y="108"/>
                </a:cubicBezTo>
                <a:cubicBezTo>
                  <a:pt x="2426" y="122"/>
                  <a:pt x="2507" y="123"/>
                  <a:pt x="2588" y="133"/>
                </a:cubicBezTo>
                <a:cubicBezTo>
                  <a:pt x="2667" y="161"/>
                  <a:pt x="2758" y="154"/>
                  <a:pt x="2839" y="158"/>
                </a:cubicBezTo>
                <a:cubicBezTo>
                  <a:pt x="3270" y="148"/>
                  <a:pt x="3701" y="130"/>
                  <a:pt x="4132" y="108"/>
                </a:cubicBezTo>
                <a:cubicBezTo>
                  <a:pt x="4213" y="111"/>
                  <a:pt x="4352" y="111"/>
                  <a:pt x="4450" y="125"/>
                </a:cubicBezTo>
                <a:cubicBezTo>
                  <a:pt x="4523" y="136"/>
                  <a:pt x="4581" y="178"/>
                  <a:pt x="4650" y="200"/>
                </a:cubicBezTo>
                <a:cubicBezTo>
                  <a:pt x="4675" y="217"/>
                  <a:pt x="4700" y="225"/>
                  <a:pt x="4725" y="242"/>
                </a:cubicBezTo>
                <a:cubicBezTo>
                  <a:pt x="4722" y="253"/>
                  <a:pt x="4724" y="266"/>
                  <a:pt x="4717" y="275"/>
                </a:cubicBezTo>
                <a:cubicBezTo>
                  <a:pt x="4683" y="315"/>
                  <a:pt x="4676" y="302"/>
                  <a:pt x="4642" y="317"/>
                </a:cubicBezTo>
                <a:cubicBezTo>
                  <a:pt x="4581" y="343"/>
                  <a:pt x="4524" y="356"/>
                  <a:pt x="4458" y="367"/>
                </a:cubicBezTo>
                <a:cubicBezTo>
                  <a:pt x="4208" y="364"/>
                  <a:pt x="3957" y="365"/>
                  <a:pt x="3707" y="359"/>
                </a:cubicBezTo>
                <a:cubicBezTo>
                  <a:pt x="3418" y="352"/>
                  <a:pt x="3135" y="287"/>
                  <a:pt x="2847" y="267"/>
                </a:cubicBezTo>
                <a:cubicBezTo>
                  <a:pt x="2720" y="240"/>
                  <a:pt x="2591" y="252"/>
                  <a:pt x="2463" y="258"/>
                </a:cubicBezTo>
                <a:cubicBezTo>
                  <a:pt x="2258" y="286"/>
                  <a:pt x="2062" y="317"/>
                  <a:pt x="1854" y="325"/>
                </a:cubicBezTo>
                <a:cubicBezTo>
                  <a:pt x="1748" y="343"/>
                  <a:pt x="1787" y="342"/>
                  <a:pt x="1737" y="34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96360" y="115920"/>
            <a:ext cx="143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380360" y="5373720"/>
            <a:ext cx="1439640" cy="107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11280" y="99864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in its absence, deficient 60 S ribosomes are assembl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which are inactive in protein synthesis resulting in cell lethalit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" y="2117880"/>
            <a:ext cx="814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utations that completely abolish recognition of 26 S rRNA, howev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lock the formation of 60S particles, demonstrating that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binding of L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to this rRNA is an essential step in the assembly of the large riboso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subunit.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9040" y="3701880"/>
            <a:ext cx="811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Depletion o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Saccharmoyces cerevisiae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ribosomal protein L16 cau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decrease in 60S ribosomal subunit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nd formation of half-m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lyribosom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5720" y="4854600"/>
            <a:ext cx="832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L3, apparent synthesis of several 60 S subunit prote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inished, and 60S subunit did not assemble. A similar phenomen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rred, when a second strai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ynthesis of ribosomal protein L29 w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ven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45360" y="295200"/>
            <a:ext cx="730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erm: Ribosomal large subunit assembly and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ls for terminologies, supported by large corpora (Medline, BioMed Central) and NLP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easibility of the tools for real worl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ioinformatics, Clinical bioinformatics, Health-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-Science, e-Learning, e-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rom successful seeds (eg: IR), from real needs (eg: Bioinformatic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inking terminology with other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mantic web, Grid (from sharing computational power to sharing knowledge and dat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79640" y="981000"/>
            <a:ext cx="5832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cognizing terms (70% with semantic class recogni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- from techniques dependent on subject domains to those independent 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- integration of larger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2) Gathering related terms and term vari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- Machine Learning (semi-unsupervise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3) Gathering semantic similar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-  Knowledge discovery from Web to that from specialized subject doma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4) NER for gathering new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5) Large discrepancy between the concept domain  and the language dom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6) Expressions in con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38920" y="189000"/>
            <a:ext cx="38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ssible contribution of NLP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80360" y="5373720"/>
            <a:ext cx="1439640" cy="107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788000" y="1557360"/>
            <a:ext cx="4392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99"/>
                </a:solidFill>
                <a:latin typeface="Arial"/>
              </a:rPr>
              <a:t>Automatic learning of r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333399"/>
                </a:solidFill>
                <a:latin typeface="Arial"/>
              </a:rPr>
              <a:t>of term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[Tsuruoka, Applied bioinformatics 0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rain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a-thesau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ariant pairs with the same concept 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nder “Amino acid or protein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6,112 variant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ule in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ules: 4,780,793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atching against running 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Gathering Ter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321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99"/>
                </a:solidFill>
                <a:latin typeface="Arial"/>
              </a:rPr>
              <a:t>Automatic learning of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99"/>
                </a:solidFill>
                <a:latin typeface="Arial"/>
              </a:rPr>
              <a:t>of spelling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[Tsuruoka, SIGIR 03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DLINE: the largest collection of abstracts in the biomedical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ul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83,142 abs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btained rules: 14,1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8,930 abs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unt the occurrences of each generated varian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16560" y="14479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80360" y="5373720"/>
            <a:ext cx="1439640" cy="1079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35560" y="407160"/>
            <a:ext cx="594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.000   NF kappa B                                                    1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500   Transcription Factor NF kappa B                    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429   NF-kappa B                                                    9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286   NF kB, Transcription Factor                            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286   NF kB                                                              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286   Immunoglobulin Enhancer-Binding Protein     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286   Immunoglobulin Enhancer Binding Protein     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286   Enhancer-Binding Protein, Immunoglobulin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286   kappa B Enhancer Binding Protein                 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286   Transcription Factor NF-kB                        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286   Transcription Factor NF kB                             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286   Factor NF-kB, Transcription                            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286   nuclear factor kappa beta                               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286   NF kappaB                                                       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273   NF kappa B chain                                      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273   NF kappa B subunit                                        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214   Transcription Factor NF-kappa B                    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214   NF-kB, Transcription Factor                            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214   NF-kB                                                               6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200   Neurofibromatosis Type kappa B                    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69040" y="1323720"/>
            <a:ext cx="5790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.000   tumor necrosis factor A                               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316   TNF A                                                          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200   tumor necrosis factor                                165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158   TNF alpha                                                   35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133   TNFA                                                            3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133   TNF                                                           26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133   Tumour necrosis factor alpha                        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133   Tumor Necrosis Factor alpha                       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133   Tumor Necrosis Factor-Alpha                      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133   TUMOR NECROSIS FACTOR.ALPHA       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133   Tumor necrosis factor alpha                          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133   Tumor Necrosis Factor-alpha                         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133   TNF-Alpha                                               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.133   TNF-alpha                                                  689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380360" y="5373720"/>
            <a:ext cx="143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35720" y="270828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nguage Dom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270828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cept Dom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80640" y="3141720"/>
            <a:ext cx="3304800" cy="398880"/>
          </a:xfrm>
          <a:prstGeom prst="rect">
            <a:avLst/>
          </a:prstGeom>
          <a:solidFill>
            <a:srgbClr val="ff00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Homologues/Ortholog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33840" y="4294080"/>
            <a:ext cx="2449800" cy="1871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0200" y="4221000"/>
            <a:ext cx="2449800" cy="187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5084640"/>
            <a:ext cx="122400" cy="8100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50000">
                <a:srgbClr val="bbe0e3">
                  <a:alpha val="99215"/>
                </a:srgbClr>
              </a:gs>
              <a:gs pos="100000">
                <a:srgbClr val="566768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74840" y="4479840"/>
            <a:ext cx="1087560" cy="862200"/>
          </a:xfrm>
          <a:custGeom>
            <a:avLst/>
            <a:gdLst/>
            <a:ahLst/>
            <a:rect l="l" t="t" r="r" b="b"/>
            <a:pathLst>
              <a:path w="685" h="543">
                <a:moveTo>
                  <a:pt x="249" y="497"/>
                </a:moveTo>
                <a:cubicBezTo>
                  <a:pt x="191" y="516"/>
                  <a:pt x="143" y="503"/>
                  <a:pt x="103" y="460"/>
                </a:cubicBezTo>
                <a:cubicBezTo>
                  <a:pt x="91" y="423"/>
                  <a:pt x="76" y="405"/>
                  <a:pt x="48" y="378"/>
                </a:cubicBezTo>
                <a:cubicBezTo>
                  <a:pt x="25" y="309"/>
                  <a:pt x="30" y="231"/>
                  <a:pt x="21" y="159"/>
                </a:cubicBezTo>
                <a:cubicBezTo>
                  <a:pt x="28" y="64"/>
                  <a:pt x="0" y="28"/>
                  <a:pt x="76" y="3"/>
                </a:cubicBezTo>
                <a:cubicBezTo>
                  <a:pt x="293" y="9"/>
                  <a:pt x="353" y="0"/>
                  <a:pt x="514" y="40"/>
                </a:cubicBezTo>
                <a:cubicBezTo>
                  <a:pt x="572" y="78"/>
                  <a:pt x="507" y="40"/>
                  <a:pt x="588" y="67"/>
                </a:cubicBezTo>
                <a:cubicBezTo>
                  <a:pt x="601" y="71"/>
                  <a:pt x="611" y="80"/>
                  <a:pt x="624" y="85"/>
                </a:cubicBezTo>
                <a:cubicBezTo>
                  <a:pt x="636" y="90"/>
                  <a:pt x="649" y="92"/>
                  <a:pt x="661" y="95"/>
                </a:cubicBezTo>
                <a:cubicBezTo>
                  <a:pt x="685" y="167"/>
                  <a:pt x="661" y="77"/>
                  <a:pt x="661" y="149"/>
                </a:cubicBezTo>
                <a:cubicBezTo>
                  <a:pt x="661" y="250"/>
                  <a:pt x="667" y="350"/>
                  <a:pt x="670" y="451"/>
                </a:cubicBezTo>
                <a:cubicBezTo>
                  <a:pt x="652" y="543"/>
                  <a:pt x="616" y="516"/>
                  <a:pt x="514" y="506"/>
                </a:cubicBezTo>
                <a:cubicBezTo>
                  <a:pt x="493" y="504"/>
                  <a:pt x="471" y="499"/>
                  <a:pt x="450" y="497"/>
                </a:cubicBezTo>
                <a:cubicBezTo>
                  <a:pt x="414" y="493"/>
                  <a:pt x="377" y="491"/>
                  <a:pt x="341" y="488"/>
                </a:cubicBezTo>
                <a:cubicBezTo>
                  <a:pt x="261" y="508"/>
                  <a:pt x="291" y="517"/>
                  <a:pt x="249" y="497"/>
                </a:cubicBezTo>
                <a:close/>
              </a:path>
            </a:pathLst>
          </a:custGeom>
          <a:solidFill>
            <a:srgbClr val="ffff99">
              <a:alpha val="99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2" idx="0"/>
            <a:endCxn id="61" idx="3"/>
          </p:cNvCxnSpPr>
          <p:nvPr/>
        </p:nvCxnSpPr>
        <p:spPr>
          <a:xfrm>
            <a:off x="3338640" y="4716000"/>
            <a:ext cx="2907360" cy="453240"/>
          </a:xfrm>
          <a:prstGeom prst="curvedConnector5">
            <a:avLst>
              <a:gd name="adj1" fmla="val 50080"/>
              <a:gd name="adj2" fmla="val 74880"/>
              <a:gd name="adj3" fmla="val 50080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024640" y="6272280"/>
            <a:ext cx="5071320" cy="3988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ss of Ribosomal subunit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8200" y="620640"/>
            <a:ext cx="2449440" cy="1871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620640"/>
            <a:ext cx="2449800" cy="1871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6000" y="1484280"/>
            <a:ext cx="122040" cy="8100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50000">
                <a:srgbClr val="bbe0e3">
                  <a:alpha val="99215"/>
                </a:srgbClr>
              </a:gs>
              <a:gs pos="100000">
                <a:srgbClr val="566768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2000" y="1197000"/>
            <a:ext cx="122040" cy="8100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50000">
                <a:srgbClr val="bbe0e3">
                  <a:alpha val="99215"/>
                </a:srgbClr>
              </a:gs>
              <a:gs pos="100000">
                <a:srgbClr val="566768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12000" y="1700280"/>
            <a:ext cx="122040" cy="8100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50000">
                <a:srgbClr val="bbe0e3">
                  <a:alpha val="99215"/>
                </a:srgbClr>
              </a:gs>
              <a:gs pos="100000">
                <a:srgbClr val="566768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8840" y="1044720"/>
            <a:ext cx="438120" cy="355320"/>
          </a:xfrm>
          <a:custGeom>
            <a:avLst/>
            <a:gdLst/>
            <a:ahLst/>
            <a:rect l="l" t="t" r="r" b="b"/>
            <a:pathLst>
              <a:path w="276" h="224">
                <a:moveTo>
                  <a:pt x="91" y="192"/>
                </a:moveTo>
                <a:cubicBezTo>
                  <a:pt x="73" y="198"/>
                  <a:pt x="54" y="210"/>
                  <a:pt x="36" y="192"/>
                </a:cubicBezTo>
                <a:cubicBezTo>
                  <a:pt x="21" y="177"/>
                  <a:pt x="0" y="137"/>
                  <a:pt x="0" y="137"/>
                </a:cubicBezTo>
                <a:cubicBezTo>
                  <a:pt x="3" y="113"/>
                  <a:pt x="0" y="87"/>
                  <a:pt x="9" y="64"/>
                </a:cubicBezTo>
                <a:cubicBezTo>
                  <a:pt x="13" y="54"/>
                  <a:pt x="28" y="54"/>
                  <a:pt x="36" y="46"/>
                </a:cubicBezTo>
                <a:cubicBezTo>
                  <a:pt x="36" y="46"/>
                  <a:pt x="70" y="3"/>
                  <a:pt x="73" y="0"/>
                </a:cubicBezTo>
                <a:cubicBezTo>
                  <a:pt x="174" y="11"/>
                  <a:pt x="158" y="20"/>
                  <a:pt x="237" y="46"/>
                </a:cubicBezTo>
                <a:cubicBezTo>
                  <a:pt x="276" y="83"/>
                  <a:pt x="276" y="128"/>
                  <a:pt x="256" y="183"/>
                </a:cubicBezTo>
                <a:cubicBezTo>
                  <a:pt x="253" y="192"/>
                  <a:pt x="238" y="191"/>
                  <a:pt x="228" y="192"/>
                </a:cubicBezTo>
                <a:cubicBezTo>
                  <a:pt x="195" y="197"/>
                  <a:pt x="161" y="198"/>
                  <a:pt x="128" y="201"/>
                </a:cubicBezTo>
                <a:cubicBezTo>
                  <a:pt x="85" y="213"/>
                  <a:pt x="91" y="224"/>
                  <a:pt x="91" y="192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86040" y="1495440"/>
            <a:ext cx="425520" cy="330120"/>
          </a:xfrm>
          <a:custGeom>
            <a:avLst/>
            <a:gdLst/>
            <a:ahLst/>
            <a:rect l="l" t="t" r="r" b="b"/>
            <a:pathLst>
              <a:path w="268" h="208">
                <a:moveTo>
                  <a:pt x="110" y="183"/>
                </a:moveTo>
                <a:cubicBezTo>
                  <a:pt x="45" y="171"/>
                  <a:pt x="22" y="172"/>
                  <a:pt x="0" y="109"/>
                </a:cubicBezTo>
                <a:cubicBezTo>
                  <a:pt x="3" y="100"/>
                  <a:pt x="2" y="88"/>
                  <a:pt x="10" y="82"/>
                </a:cubicBezTo>
                <a:cubicBezTo>
                  <a:pt x="26" y="71"/>
                  <a:pt x="64" y="64"/>
                  <a:pt x="64" y="64"/>
                </a:cubicBezTo>
                <a:cubicBezTo>
                  <a:pt x="67" y="55"/>
                  <a:pt x="67" y="43"/>
                  <a:pt x="74" y="36"/>
                </a:cubicBezTo>
                <a:cubicBezTo>
                  <a:pt x="89" y="21"/>
                  <a:pt x="128" y="0"/>
                  <a:pt x="128" y="0"/>
                </a:cubicBezTo>
                <a:cubicBezTo>
                  <a:pt x="178" y="10"/>
                  <a:pt x="213" y="28"/>
                  <a:pt x="247" y="64"/>
                </a:cubicBezTo>
                <a:cubicBezTo>
                  <a:pt x="253" y="82"/>
                  <a:pt x="268" y="110"/>
                  <a:pt x="247" y="128"/>
                </a:cubicBezTo>
                <a:cubicBezTo>
                  <a:pt x="232" y="141"/>
                  <a:pt x="210" y="140"/>
                  <a:pt x="192" y="146"/>
                </a:cubicBezTo>
                <a:cubicBezTo>
                  <a:pt x="183" y="149"/>
                  <a:pt x="165" y="155"/>
                  <a:pt x="165" y="155"/>
                </a:cubicBezTo>
                <a:cubicBezTo>
                  <a:pt x="153" y="174"/>
                  <a:pt x="135" y="208"/>
                  <a:pt x="110" y="183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70" idx="0"/>
            <a:endCxn id="68" idx="1"/>
          </p:cNvCxnSpPr>
          <p:nvPr/>
        </p:nvCxnSpPr>
        <p:spPr>
          <a:xfrm>
            <a:off x="2989440" y="1117440"/>
            <a:ext cx="304056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2757600" y="1135080"/>
            <a:ext cx="237960" cy="138240"/>
          </a:xfrm>
          <a:custGeom>
            <a:avLst/>
            <a:gdLst/>
            <a:ahLst/>
            <a:rect l="l" t="t" r="r" b="b"/>
            <a:pathLst>
              <a:path w="150" h="87">
                <a:moveTo>
                  <a:pt x="110" y="80"/>
                </a:moveTo>
                <a:cubicBezTo>
                  <a:pt x="55" y="72"/>
                  <a:pt x="30" y="79"/>
                  <a:pt x="0" y="35"/>
                </a:cubicBezTo>
                <a:cubicBezTo>
                  <a:pt x="33" y="0"/>
                  <a:pt x="59" y="25"/>
                  <a:pt x="101" y="35"/>
                </a:cubicBezTo>
                <a:cubicBezTo>
                  <a:pt x="106" y="39"/>
                  <a:pt x="150" y="60"/>
                  <a:pt x="137" y="80"/>
                </a:cubicBezTo>
                <a:cubicBezTo>
                  <a:pt x="132" y="87"/>
                  <a:pt x="119" y="80"/>
                  <a:pt x="110" y="80"/>
                </a:cubicBezTo>
                <a:close/>
              </a:path>
            </a:pathLst>
          </a:custGeom>
          <a:gradFill rotWithShape="0">
            <a:gsLst>
              <a:gs pos="0">
                <a:srgbClr val="566768"/>
              </a:gs>
              <a:gs pos="50000">
                <a:srgbClr val="bbe0e3">
                  <a:alpha val="99215"/>
                </a:srgbClr>
              </a:gs>
              <a:gs pos="100000">
                <a:srgbClr val="566768"/>
              </a:gs>
            </a:gsLst>
            <a:lin ang="54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73" idx="0"/>
            <a:endCxn id="67" idx="2"/>
          </p:cNvCxnSpPr>
          <p:nvPr/>
        </p:nvCxnSpPr>
        <p:spPr>
          <a:xfrm>
            <a:off x="2931840" y="1190160"/>
            <a:ext cx="2850120" cy="335880"/>
          </a:xfrm>
          <a:prstGeom prst="curvedConnector5">
            <a:avLst>
              <a:gd name="adj1" fmla="val 51364"/>
              <a:gd name="adj2" fmla="val 50000"/>
              <a:gd name="adj3" fmla="val 51364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5" name=""/>
          <p:cNvCxnSpPr>
            <a:stCxn id="71" idx="0"/>
            <a:endCxn id="68" idx="5"/>
          </p:cNvCxnSpPr>
          <p:nvPr/>
        </p:nvCxnSpPr>
        <p:spPr>
          <a:xfrm flipV="1">
            <a:off x="3192120" y="1280520"/>
            <a:ext cx="2925000" cy="3164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613520" y="511200"/>
            <a:ext cx="4126320" cy="398880"/>
          </a:xfrm>
          <a:prstGeom prst="rect">
            <a:avLst/>
          </a:prstGeom>
          <a:solidFill>
            <a:srgbClr val="ffff00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cluster of realizations of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68" idx="3"/>
            <a:endCxn id="67" idx="7"/>
          </p:cNvCxnSpPr>
          <p:nvPr/>
        </p:nvCxnSpPr>
        <p:spPr>
          <a:xfrm flipH="1">
            <a:off x="5900040" y="1280880"/>
            <a:ext cx="129240" cy="200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8" name=""/>
          <p:cNvCxnSpPr>
            <a:stCxn id="67" idx="6"/>
            <a:endCxn id="69" idx="1"/>
          </p:cNvCxnSpPr>
          <p:nvPr/>
        </p:nvCxnSpPr>
        <p:spPr>
          <a:xfrm>
            <a:off x="5932080" y="1525680"/>
            <a:ext cx="97560" cy="17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" name=""/>
          <p:cNvSpPr/>
          <p:nvPr/>
        </p:nvSpPr>
        <p:spPr>
          <a:xfrm>
            <a:off x="2448000" y="836640"/>
            <a:ext cx="828720" cy="1060560"/>
          </a:xfrm>
          <a:custGeom>
            <a:avLst/>
            <a:gdLst/>
            <a:ahLst/>
            <a:rect l="l" t="t" r="r" b="b"/>
            <a:pathLst>
              <a:path w="522" h="668">
                <a:moveTo>
                  <a:pt x="522" y="165"/>
                </a:moveTo>
                <a:cubicBezTo>
                  <a:pt x="447" y="112"/>
                  <a:pt x="349" y="124"/>
                  <a:pt x="266" y="92"/>
                </a:cubicBezTo>
                <a:cubicBezTo>
                  <a:pt x="213" y="72"/>
                  <a:pt x="175" y="57"/>
                  <a:pt x="120" y="46"/>
                </a:cubicBezTo>
                <a:cubicBezTo>
                  <a:pt x="81" y="27"/>
                  <a:pt x="54" y="0"/>
                  <a:pt x="19" y="37"/>
                </a:cubicBezTo>
                <a:cubicBezTo>
                  <a:pt x="0" y="95"/>
                  <a:pt x="28" y="164"/>
                  <a:pt x="47" y="220"/>
                </a:cubicBezTo>
                <a:cubicBezTo>
                  <a:pt x="92" y="352"/>
                  <a:pt x="140" y="450"/>
                  <a:pt x="239" y="549"/>
                </a:cubicBezTo>
                <a:cubicBezTo>
                  <a:pt x="243" y="562"/>
                  <a:pt x="268" y="623"/>
                  <a:pt x="275" y="631"/>
                </a:cubicBezTo>
                <a:cubicBezTo>
                  <a:pt x="293" y="652"/>
                  <a:pt x="333" y="659"/>
                  <a:pt x="357" y="668"/>
                </a:cubicBezTo>
                <a:cubicBezTo>
                  <a:pt x="366" y="662"/>
                  <a:pt x="375" y="655"/>
                  <a:pt x="385" y="649"/>
                </a:cubicBezTo>
                <a:cubicBezTo>
                  <a:pt x="397" y="642"/>
                  <a:pt x="410" y="638"/>
                  <a:pt x="421" y="631"/>
                </a:cubicBezTo>
                <a:cubicBezTo>
                  <a:pt x="447" y="614"/>
                  <a:pt x="437" y="609"/>
                  <a:pt x="458" y="585"/>
                </a:cubicBezTo>
                <a:cubicBezTo>
                  <a:pt x="472" y="569"/>
                  <a:pt x="504" y="540"/>
                  <a:pt x="504" y="540"/>
                </a:cubicBezTo>
                <a:cubicBezTo>
                  <a:pt x="509" y="512"/>
                  <a:pt x="522" y="485"/>
                  <a:pt x="522" y="457"/>
                </a:cubicBezTo>
                <a:cubicBezTo>
                  <a:pt x="522" y="155"/>
                  <a:pt x="484" y="279"/>
                  <a:pt x="522" y="165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-171360"/>
          <a:ext cx="10117080" cy="72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71360"/>
                    <a:ext cx="10117080" cy="72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885080" y="6021360"/>
            <a:ext cx="1440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79280" y="115920"/>
          <a:ext cx="9721800" cy="64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5920"/>
                    <a:ext cx="972180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028000" y="6021360"/>
            <a:ext cx="1440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20:17:48Z</dcterms:created>
  <dc:creator>tsujii</dc:creator>
  <dc:description/>
  <dc:language>en-US</dc:language>
  <cp:lastModifiedBy>Paola Baroni</cp:lastModifiedBy>
  <dcterms:modified xsi:type="dcterms:W3CDTF">2004-07-09T13:14:53Z</dcterms:modified>
  <cp:revision>34</cp:revision>
  <dc:subject/>
  <dc:title>スライド 1</dc:title>
</cp:coreProperties>
</file>