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173-7657-41A6-A9D6-71E24C8C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884-9B0B-4118-A12A-1984A48D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5DB-8069-4C37-82F8-33F4381A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D65-3FBB-4B9A-858C-C5C0E967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DFBA-B5E9-48EF-BFFE-39D97AB9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EC71-F237-4080-830F-0DBD19B2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7604-1284-4DA4-88E2-85FB9C1B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A2AC-D8A0-416C-B599-10698F9E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E560-6E2A-4F06-860E-861A0D73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BC41-35D7-41A7-846F-D77D60E9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0A7D-66E1-46AE-87C8-8E2814EF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AFF-68BF-4EFA-9C13-7BE8B82B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505F-D06F-4B8C-8096-4A91AFD9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131A-00FE-4959-9D29-1676458C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1DAB-3F2D-4BBD-95D9-ACD56F7E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F7B8-1720-41D9-B89B-49BF5B92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6D7F-753C-424C-A7B2-C1512CA5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70F-E34B-4B17-A3E0-15E02BD3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FF6-8262-4D78-A4C0-F22B2984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05A-F607-4624-949F-72A18E20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2B2-33F8-4C8C-B0EA-BDFDC5D5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F6B-0C6D-4BCF-9957-CD11F915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EF6-A666-4732-8B5D-EDCC1E57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D30-BC1F-4FB5-849C-2214E893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1897-F95D-4FE6-A073-37E78D8209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3FF3-01AA-4CDC-A65B-76FB6055EF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adenh@cs.mu.oz.au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3168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ctives on Metadata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COSDA/ICCWLRE RoadMap Meeting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REC 2004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440" y="3657600"/>
            <a:ext cx="777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den Hug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ity of Melbour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badenh@cs.mu.oz.a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with contributions from Steven Bird and Gary Simons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114800" y="5410080"/>
            <a:ext cx="961920" cy="962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343640" y="0"/>
            <a:ext cx="18003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raft Metadata Milest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mote OLAC Metadata more widely in the LR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community feedback on controlled vocabul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le infrastructure for the representation of metadata for L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sensus on a set of core metadata descriptors for basic identification and management of L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a wider DCR which integrates most descrip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previous DCR to be a repository of linguistic knowledge world w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7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231-F8E8-46F7-9C3F-18F1CC1725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contributions from OLA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riven controlled vocabulary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weight, flexible approach to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 which provide incentives for metadata creation – intuitive and familiar search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 evaluations of metadata quality – community grounded evaluation as a motivator for metadata enrich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7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799-23B2-4C9D-925B-9EA76CFACA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derata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to integrated digital libraries of available L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e beyond simple web based catalogues to rich discoverable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ed creation of basic meta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 assurance will still require human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entives to provide rich meta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ROI for metadata creation- what is the “killer app” for rich metadata in the LR community 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ldc.upenn.edu/olac/search.ph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7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6DF-1A47-4BCB-A1BC-824768FE27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derata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 evaluation methodology for metadata quality assess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as a key to improving the quality of meta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ldc.upenn.edu/olac/archiveReport.ph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interoperability between communit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osophical differences can be reduced in significance by technical solutions to interoperability and ex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le base standards as a foun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e drive towards international standards a means or an end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7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A07-4E9E-439C-B952-C555DFA62A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01:06:32Z</dcterms:created>
  <dc:creator>Baden Hughes</dc:creator>
  <dc:description/>
  <dc:language>en-US</dc:language>
  <cp:lastModifiedBy>Paola Baroni</cp:lastModifiedBy>
  <dcterms:modified xsi:type="dcterms:W3CDTF">2004-07-09T13:14:26Z</dcterms:modified>
  <cp:revision>9</cp:revision>
  <dc:subject/>
  <dc:title>Perspectives on Metadata COCOSDA/ICCWLRE RoadMap Meeting LREC 2004</dc:title>
</cp:coreProperties>
</file>