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02E3-12BF-4122-9D3E-533FA3FAB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BEDF-1EBF-4516-A476-D6596E253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9948-592F-4A1A-B45B-EBE843E0B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B4B8-F61D-4452-8CDF-BD159D703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C916-79D7-4E94-AE8D-657BC26C9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43A4-0B4A-4226-A470-D86F477D7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BECF-76A8-439C-A37E-CB2BAE3A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7C8D-3BC9-4FAD-BB83-F410C394B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15B1-0D62-4CFE-B8E5-001F7E610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AF71-611E-4AF2-A061-C6CB6964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DFAC-7290-4E35-A964-B64C168A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0CE7-AEC3-4526-9AEE-24ED8A1A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C76B1-EA1E-4340-A089-1E82F7AC77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LT Evalu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Joseph MARIAN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irector, ICT Depart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inistry of Research (Franc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cosda-ICCWLRE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0AA4-48EE-42EA-921E-8C3C5ECE323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30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96080" cy="4800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631200" y="6019920"/>
            <a:ext cx="110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Courtesy NI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cosda-ICCWLRE mee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0F53-9044-40BF-8998-1AD7AB8FB38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30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1905120"/>
            <a:ext cx="1752480" cy="380988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ar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3920" y="1905120"/>
            <a:ext cx="1828800" cy="3809880"/>
          </a:xfrm>
          <a:prstGeom prst="rect">
            <a:avLst/>
          </a:prstGeom>
          <a:solidFill>
            <a:srgbClr val="00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ic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ar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934320" y="1905120"/>
            <a:ext cx="1752480" cy="38098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elop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362320" y="289548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638320" y="2819520"/>
            <a:ext cx="1295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62320" y="502920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5029200"/>
            <a:ext cx="1295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23880" y="2225520"/>
            <a:ext cx="1148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ottlenec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dentific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78800" y="5137200"/>
            <a:ext cx="1349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earch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 quantitativ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579640" y="1936800"/>
            <a:ext cx="130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echnolog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necessita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or applica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96560" y="5137200"/>
            <a:ext cx="138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echnolog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hich have be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valida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or applicati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580716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Long term / high ris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Large return of inves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10760" y="594360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olutiona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29520" y="5807160"/>
            <a:ext cx="119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Usabil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cceptabil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235160"/>
            <a:ext cx="213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eeting points with technology develop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19760" y="1235160"/>
            <a:ext cx="114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Quantitativ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236720" y="1158840"/>
            <a:ext cx="1017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Usag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286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Model to support R&amp;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cosda-ICCWLRE mee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EC2B-C079-43EB-BBFB-01AD5DD5E4D3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30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Priority Fun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Preferred to any research topic, as not possible to assess state-of-the-art / progress on that top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While technology developers agree to participate in evaluation campaign at no cost for its intrinsic intere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cosda-ICCWLRE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1905-9705-4254-89B9-837300E4466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30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erspectives for Evalu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ed for more coord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arison of results from one language to another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R in Portuguese compared to US english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f EC SQALE pro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of same data for various tasks at various levels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 tagging, syntactic parsing, Named Entity extraction, text retrieval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cosda-ICCWLRE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4BA6-AAAA-4D1B-BCC4-2DEB8F001DC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30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30T00:20:48Z</dcterms:created>
  <dc:creator>MDRNT - Descartes</dc:creator>
  <dc:description/>
  <dc:language>en-US</dc:language>
  <cp:lastModifiedBy>Paola Baroni</cp:lastModifiedBy>
  <dcterms:modified xsi:type="dcterms:W3CDTF">2004-07-09T13:14:32Z</dcterms:modified>
  <cp:revision>14</cp:revision>
  <dc:subject/>
  <dc:title>Présentation PowerPoint</dc:title>
</cp:coreProperties>
</file>