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136-25DB-46CB-813C-52598C16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074-140F-4852-9DB6-3DEFE90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481-90E2-4A80-A66E-39BB9CBC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091-92AD-4CAD-95F1-0A0518D5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CC0-0D95-4EC6-BAF5-C4D6617A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CC9-0821-461E-B92B-9D384D4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001-C37A-4FF2-87D3-E2D340B3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52F-803B-4B95-857D-8C812308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2BA-EC49-4A7F-8869-EE69C25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5B0-87D4-4B7D-A48D-F51C9B1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F78-E009-4A99-8A73-73904A5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65C-1653-48A6-B530-776F353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600" y="6095880"/>
            <a:ext cx="41767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5BC-839E-459B-B233-50E2A1B31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15160" y="6095880"/>
            <a:ext cx="419040" cy="561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237360"/>
            <a:ext cx="142884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918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are we with evalu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1640" y="2997000"/>
            <a:ext cx="62643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ghi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/IS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ool of Translation and Interpr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ersity of Gen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LR&amp;E Roadma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th Ma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EC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Only just beginning to think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pplications 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uracy is not enoug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e can’t find a gold standar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e can’t identify groups of users whose interests coin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Time sca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No idea – much too early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Foresaking all others, lets concentrat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oes the system meet its ow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uit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does the system give results the user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An easy example: terminology extr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: list all sequences of two words or more repeating two times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uitability: useless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(gives far too much no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Accuracy will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f some core functionality coincides with needs of a wide range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f there’s a way to define the ‘right’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Spelling che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Fact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When accuracy isn’t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nd suitability starts to be a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.g. with document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etimes possible to construct right answers anyway, although subjectivity and dispute begin to creep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Accuracy isn’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It’s hard (impossible?) to construct right answers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corpus being treated is too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corpus being treated is inherently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sers’ interests don’t coin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ample: re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So where are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e’re quite goo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pplications where user satisfaction can be made to hang on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We’re not totally ba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Applications where we can supply a definition of suitability by constructing a gol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8:42:07Z</dcterms:created>
  <dc:creator>Nancy Underwood</dc:creator>
  <dc:description/>
  <dc:language>en-US</dc:language>
  <cp:lastModifiedBy>Paola Baroni</cp:lastModifiedBy>
  <dcterms:modified xsi:type="dcterms:W3CDTF">2004-07-09T13:14:29Z</dcterms:modified>
  <cp:revision>48</cp:revision>
  <dc:subject/>
  <dc:title>PARMENIDES</dc:title>
</cp:coreProperties>
</file>