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3F86-5B5C-44DE-88F0-F79B973B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15B0-46FB-48F7-B457-210C7D64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D95A-99B5-4A05-BE66-3C505F9E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3487-A680-4A81-901E-6E24A387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6D5F-4950-4241-B2D4-08E13F4A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3033-ECB8-4AA3-BDFE-1A7B2B9D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93F4-54C6-451E-B5CD-49E24715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7647-7FC9-4428-8C19-C00D5F84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49FC-BED9-430B-AF82-29844346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2DC6-387D-4FB1-A543-CFF760D1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C80E-1C07-4868-A4F3-3C7A4EAE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B0CC-A857-4E27-9DD1-0E002F67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B541-263C-40A6-897A-BA9ACAF6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84A8-F89B-4CCD-89A0-1B6BEBA0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463A-CB0B-4E98-93DE-7C17FD0B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DC7C-75D5-4518-A1F9-D634E861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7001-6ABD-4C40-B10F-2C9F866E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CE5-1BF1-4C61-9C69-490331DC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28B7-4088-4D79-8592-21BEABC3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4532-9ED9-400F-B492-4E79FC59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E1DA-8EA4-44E8-8920-8C0E8E26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5E66-8E6F-4DA6-8E3D-2183F6AB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BFE3-350C-4930-8DA1-C2374CCD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651A-1CD5-47A3-B6F5-167F263C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8E7C-79E7-410D-8404-15E0E9C9F7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D74E-36C0-4AEA-8B95-55F9DA5FAD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adenh@cs.mu.oz.au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31680"/>
            <a:ext cx="777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ctives on Metadata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COSDA/ICCWLRE RoadMap Meeting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REC 2004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440" y="3657600"/>
            <a:ext cx="7775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den Hug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ity of Melbour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badenh@cs.mu.oz.a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with contributions from Steven Bird and Gary Simons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114800" y="5410080"/>
            <a:ext cx="961920" cy="962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343640" y="0"/>
            <a:ext cx="18003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raft Metadata Milest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mote OLAC Metadata more widely in the LR commun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 community feedback on controlled vocabul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le infrastructure for the representation of metadata for L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sensus on a set of core metadata descriptors for basic identification and management of L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 a wider DCR which integrates most descripto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previous DCR to be a repository of linguistic knowledge world w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43640" y="0"/>
            <a:ext cx="1800360" cy="7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DC2-B6A3-43E7-9D49-81C6D2F46B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contributions from OLA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riven controlled vocabulary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ghtweight, flexible approach to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 which provide incentives for metadata creation – intuitive and familiar search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 evaluations of metadata quality – community grounded evaluation as a motivator for metadata enrich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43640" y="0"/>
            <a:ext cx="1800360" cy="7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C838-A66B-408B-9D63-1D4851AD14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derata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to integrated digital libraries of available L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e beyond simple web based catalogues to rich discoverable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ed creation of basic meta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 assurance will still require human in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entives to provide rich meta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ROI for metadata creation- what is the “killer app” for rich metadata in the LR community 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ldc.upenn.edu/olac/search.ph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343640" y="0"/>
            <a:ext cx="1800360" cy="7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9BA6-E1B7-4009-85A1-2BAAF9F469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derata #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 evaluation methodology for metadata quality assess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as a key to improving the quality of meta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ldc.upenn.edu/olac/archiveReport.ph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interoperability between communit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ilosophical differences can be reduced in significance by technical solutions to interoperability and exchan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le base standards as a found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the drive towards international standards a means or an end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343640" y="0"/>
            <a:ext cx="1800360" cy="7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72A0-76D6-4C33-B62B-33F695C302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01:06:32Z</dcterms:created>
  <dc:creator>Baden Hughes</dc:creator>
  <dc:description/>
  <dc:language>en-US</dc:language>
  <cp:lastModifiedBy>Paola Baroni</cp:lastModifiedBy>
  <dcterms:modified xsi:type="dcterms:W3CDTF">2004-07-09T13:14:26Z</dcterms:modified>
  <cp:revision>9</cp:revision>
  <dc:subject/>
  <dc:title>Perspectives on Metadata COCOSDA/ICCWLRE RoadMap Meeting LREC 2004</dc:title>
</cp:coreProperties>
</file>