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374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1584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358920" indent="-17964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079640" indent="-17964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3" marL="179280" indent="-17928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4" marL="179280" indent="-17928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5" marL="179280" indent="-179280">
              <a:lnSpc>
                <a:spcPct val="93000"/>
              </a:lnSpc>
              <a:spcAft>
                <a:spcPts val="37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6" marL="179280" indent="-179280">
              <a:lnSpc>
                <a:spcPct val="93000"/>
              </a:lnSpc>
              <a:spcAft>
                <a:spcPts val="37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739440" y="3325320"/>
            <a:ext cx="86072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Dafydd Gib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U Bielefeld,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LREC 2004 post-conference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Building the LR&amp;E Roadmap: Joint COCOSDA and ICCWLRE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Lisbon, 30 Ma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739440" y="1670040"/>
            <a:ext cx="86072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Resources for Endangered Languages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pecifications for a Roadmap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880" y="627120"/>
            <a:ext cx="900288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ain goal: resources for endangered languages (1)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800" y="1433520"/>
            <a:ext cx="963792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scription: Provision of model resources for endangered languages with different typological characteristics (audio and video recordings, texts, transcriptions, annotations, sketch grammar, extended core lexicon, appropriate acquisition t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arget: 2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Justification: A number of the model descriptive / documentary ventures are under way, but most other activities do not use state-of-the-art LRE method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bstacles: Bottlenecks connected with the "digital divide" between commercially interesting and uninteresting languages and societies and social prejudices against minority low prestige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880" y="627120"/>
            <a:ext cx="900288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ain goal: resources for endangered languages (2)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3440" y="1432080"/>
            <a:ext cx="94726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Prerequisites: enabling approaches and technologies,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WELD, PSI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LLSTI</a:t>
            </a: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BL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Impact: For example, TTS (text-to-speech) system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empower pre-literate members of rural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by providing information channels parallel to traditional social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about health, agriculture, marketing, banking,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Evaluation: Various evaluation techniques are needed in connection with diagnostic analysis and field functionality for local and scientific commun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8880" y="627120"/>
            <a:ext cx="900288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ilestone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509840"/>
            <a:ext cx="784872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98560" indent="-89856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Provi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model </a:t>
            </a:r>
            <a:r>
              <a:rPr b="0" i="1" lang="en-GB" sz="2400" spc="-1" strike="noStrike">
                <a:solidFill>
                  <a:srgbClr val="00008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with model </a:t>
            </a:r>
            <a:r>
              <a:rPr b="0" i="1" lang="en-GB" sz="2400" spc="-1" strike="noStrike">
                <a:solidFill>
                  <a:srgbClr val="00008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and access </a:t>
            </a:r>
            <a:r>
              <a:rPr b="0" i="1" lang="en-GB" sz="2400" spc="-1" strike="noStrike">
                <a:solidFill>
                  <a:srgbClr val="000080"/>
                </a:solidFill>
                <a:latin typeface="Arial"/>
              </a:rPr>
              <a:t>por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for endangered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with different typ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8560" indent="-89856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in the form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audio and video recor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ranscriptions and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ext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core 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3000"/>
              </a:lnSpc>
              <a:tabLst>
                <a:tab algn="l" pos="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sketch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627120"/>
            <a:ext cx="900288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Recommend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27000" y="1336680"/>
            <a:ext cx="884556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echnological empowerment of endangered and other minority languag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more work on the PSI methodology for securing interpre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implementation of the WELD principl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Work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requirements specification, design and implement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he BLARK for H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according to LRE guidelines (ELS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development of basic speech technology applications (LLS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0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provision of access to resources via metadata portals (OL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84692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roduction: current EL resource situatio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napshot of some documentation initiativ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cumentation logistics: an overview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orkable Efficient Language Documentatio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me resource typ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SI: the Principle of Securing Interpretability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cessibility: pocket metadata - import + expor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in goal: resources for endangered languages (1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in goal: resources for endangered languages (2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374"/>
              </a:spcAft>
              <a:buClr>
                <a:srgbClr val="00008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ntroduction: current EL resource situation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58800"/>
            <a:ext cx="917604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Key conc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i="1" lang="en-GB" sz="2400" spc="-1" strike="noStrike">
                <a:solidFill>
                  <a:srgbClr val="000080"/>
                </a:solidFill>
                <a:latin typeface="Arial"/>
              </a:rPr>
              <a:t>language documentation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80"/>
                </a:solidFill>
                <a:latin typeface="Arial"/>
                <a:ea typeface="Arial"/>
              </a:rPr>
              <a:t>≈ language resources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ntroduced by Lehmann ("language museum") and Himmel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("language description vs. language documentation") around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hus: the development in general linguistics arose at abo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Same</a:t>
            </a:r>
            <a:r>
              <a:rPr b="0" lang="de-DE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ime as the LRE paradigm in the SAM and EAGLES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Language documentation is embedded in context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buClr>
                <a:srgbClr val="3333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heritage preservation</a:t>
            </a: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(texts, audio-visual record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buClr>
                <a:srgbClr val="3333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educatio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(primers for spelling, vocabulary; read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buClr>
                <a:srgbClr val="3333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language maintenance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(large dictionaries, translation, public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buClr>
                <a:srgbClr val="333399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language revitalisatio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(administrative and political re-instat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Snapshot of some documentation initative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7680" y="1600200"/>
            <a:ext cx="94327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Some organisational and funding initi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 indent="-1079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FEL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Foundation for Endangered Languages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(Nick Ost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 indent="-1079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ELF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Endangered Languages Fund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(Doug Whal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 indent="-1079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GbS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Gesellschaft für bedrohte Sprache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(Hans-Jürgen Sas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 indent="-1079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HRELP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Hans Rausing Endangered Languages Project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(SO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 indent="-1079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DoBeS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Dokumentation Bedrohter Sprache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(VW Found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 indent="-1079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E-MELD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Electronic Metastructures for Endangered Languages Documentatio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(Linguist List - Tony Dry, Helen Aristar-D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 indent="-1079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ALP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ROSETTA 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1000 Language Project / ALL Language Project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(Jim Ma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he good n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diverse funding is available for diverse n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he less good n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there is generally little interest in or awareness of state-of-the-art L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Understandable, but controversial prior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if in doubt, 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descriptio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first, then 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applicatio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and LRE standard 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documentation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 later (if at 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1680" y="1506600"/>
            <a:ext cx="9489960" cy="561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475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br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ocumentation logistics: an overview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2960" y="2192400"/>
            <a:ext cx="819612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80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 orkable </a:t>
            </a:r>
            <a:r>
              <a:rPr b="0" i="1" lang="en-GB" sz="2800" spc="-1" strike="noStrike">
                <a:solidFill>
                  <a:srgbClr val="00008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 fficient </a:t>
            </a:r>
            <a:r>
              <a:rPr b="0" i="1" lang="en-GB" sz="28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 anguage </a:t>
            </a:r>
            <a:r>
              <a:rPr b="0" i="1" lang="en-GB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 ocumentation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760" y="1447920"/>
            <a:ext cx="916776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he WELD Four Level Content conc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1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Primary documentation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recordings, tex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Secondary documentation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annotations, lexica, sketch grammar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3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Primary description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large coverage lexica, descriptive gramm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4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Secondary description: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theoretical typological and form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The WELD Five Procedural Criteria conce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1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C 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E </a:t>
            </a:r>
            <a:r>
              <a:rPr b="0" lang="de-DE" sz="2000" spc="-1" strike="noStrike">
                <a:solidFill>
                  <a:srgbClr val="000080"/>
                </a:solidFill>
                <a:latin typeface="Arial"/>
              </a:rPr>
              <a:t>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3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S 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tate-of-th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4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ffor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5.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F 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Operationalising the concepts with technology initi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LLSTI, </a:t>
            </a:r>
            <a:r>
              <a:rPr b="0" i="1" lang="en-GB" sz="2000" spc="-1" strike="noStrike">
                <a:solidFill>
                  <a:srgbClr val="000080"/>
                </a:solidFill>
                <a:latin typeface="Arial"/>
              </a:rPr>
              <a:t>Local Language Speech Technology In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i="1" lang="de-DE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(Roger Tucker, Ksenia Shalo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ELSNET (Steven Krauwer and many others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59480" y="2608200"/>
            <a:ext cx="3516480" cy="4816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ome resource type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2680" y="5440320"/>
            <a:ext cx="4552920" cy="2024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508200" y="383544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76160" y="1857240"/>
            <a:ext cx="3068640" cy="23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992400" y="1442880"/>
            <a:ext cx="3059280" cy="227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883560" y="1116000"/>
            <a:ext cx="149832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93840" y="1293840"/>
            <a:ext cx="121572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SI: the Principle of Securing Interpretability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1294920"/>
            <a:ext cx="860724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7480" indent="0">
              <a:lnSpc>
                <a:spcPct val="93000"/>
              </a:lnSpc>
              <a:spcAft>
                <a:spcPts val="374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Lexicon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355320" indent="0">
              <a:lnSpc>
                <a:spcPct val="93000"/>
              </a:lnSpc>
              <a:spcAft>
                <a:spcPts val="2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Conversion of inconsistently structured print media, undocumented Shoebox databases into standardised formats with appropriate metadata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177480" indent="0">
              <a:lnSpc>
                <a:spcPct val="93000"/>
              </a:lnSpc>
              <a:spcAft>
                <a:spcPts val="374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Character encoding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355320" indent="0">
              <a:lnSpc>
                <a:spcPct val="93000"/>
              </a:lnSpc>
              <a:spcAft>
                <a:spcPts val="2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Conversion of proprietary - often unknown - fonts into Unicode standard character definitions, if possibly by glyph comparison of printed matter - always scan your documents too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177480" indent="0">
              <a:lnSpc>
                <a:spcPct val="93000"/>
              </a:lnSpc>
              <a:spcAft>
                <a:spcPts val="374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Interlinear glossed text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355320" indent="0">
              <a:lnSpc>
                <a:spcPct val="93000"/>
              </a:lnSpc>
              <a:spcAft>
                <a:spcPts val="2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Conversion of visually formatted text - i.e. text which is unstructured in terms of coherent text objects such as tables - into coherent text objects into an XML format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177480" indent="0">
              <a:lnSpc>
                <a:spcPct val="93000"/>
              </a:lnSpc>
              <a:spcAft>
                <a:spcPts val="374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Annotated recordings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355320" indent="0">
              <a:lnSpc>
                <a:spcPct val="93000"/>
              </a:lnSpc>
              <a:spcAft>
                <a:spcPts val="2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Conversion of various received formats (esps/waves+, Transcriber, Praat) into a generic format TASX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177480" indent="0">
              <a:lnSpc>
                <a:spcPct val="93000"/>
              </a:lnSpc>
              <a:spcAft>
                <a:spcPts val="374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Linguistic descriptions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355320" indent="0">
              <a:lnSpc>
                <a:spcPct val="93000"/>
              </a:lnSpc>
              <a:spcAft>
                <a:spcPts val="2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As far as possible, conversion of received English, French etc. descriptions and metadata into GOLD (General Ontology for Linguistic Descriptions)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4040" y="7162920"/>
            <a:ext cx="70120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93000"/>
              </a:lnSpc>
              <a:spcBef>
                <a:spcPts val="275"/>
              </a:spcBef>
              <a:spcAft>
                <a:spcPts val="56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Gibbon, Bow, Bird, Hughes, </a:t>
            </a: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Securing Interpretability ...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LREC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499600" y="1117440"/>
            <a:ext cx="1387440" cy="98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ccess: pocket metadata - input + expor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760040"/>
            <a:ext cx="405144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CorpusMetaData 02-3-12:HanDBase Ex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RecordID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Agni200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LANGname(s)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Agni, Any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ILcode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Affiliation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Kwa/T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Lect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Indéni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Country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Côte d'Iv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ISO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Continent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LangNot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ESSION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FieldIn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essionDate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02-3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essionTime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8: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essionLocale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Ada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Domain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ynt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Genre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Question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Part/Sex/Age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Kouamé Ama Bié f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Interviewers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Adouak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Recordist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alffner, Gib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Media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Laryngo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Equipment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1) Audio: 2 channe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l laryngograp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r Sennheiser studio mi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2) Stills: Sony 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3) Video: Panasonic 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(illustration of techniq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SessionNote: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f. Adouakou phrases rep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64000" y="1773720"/>
            <a:ext cx="540864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CorpusMetaDat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Rec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RecordID&gt;Agni2002a&lt;/Record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LANGnames&gt;Agni, Anyi&lt;/LANGnam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SILcode&gt;ANY&lt;/SILc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Affiliation&gt;Kwa/Tano&lt;/Affili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Lect&gt;Indénié&lt;/Lec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Country&gt;Côte d'Ivoire&lt;/Countr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ISO&gt;CI&lt;/IS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Continent&gt;Africa&lt;/Contin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LangNote&gt;&lt;/LangNo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SESSION&gt;FieldIndoor&lt;/SESS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SessionDate&gt;03/11/2002&lt;/SessionD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SessionTime&gt;08:57 am&lt;/Session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SessionLocale&gt;Adaou&lt;/SessionLoca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Domain&gt;Syntax&lt;/Domai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Genre&gt;Questionnaire&lt;/Genr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PartSexAge&gt;Kouamé Ama Bié f 35&lt;/PartSexAg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Interviewers&gt;Adouakou&lt;/Interviewer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Recordist&gt;Salffner, Gibbon&lt;/Recordis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Media&gt;Laryngograph&lt;/Medi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Equipment&gt;1) Audio: 2 channel, l laryngograph, r Sennheiser studio mi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2) Stills: Sony 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3) Video: Panasonic digital (illustration of techniques)&lt;/Equip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&lt;SessionNote&gt;f Adouakou phrases repeat&lt;/SessionNo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80"/>
                </a:solidFill>
                <a:latin typeface="Arial"/>
              </a:rPr>
              <a:t>... &lt;/Record&gt; ...&lt;/CorpusMetaDat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404120" y="1430280"/>
            <a:ext cx="147168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402760" y="220176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407440" y="38307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ola Baroni</cp:lastModifiedBy>
  <dcterms:modified xsi:type="dcterms:W3CDTF">2004-07-09T13:14:23Z</dcterms:modified>
  <cp:revision>11</cp:revision>
  <dc:subject/>
  <dc:title>Dafydd Gibbon U Bielefeld, Europe   LREC 2004 post-conference workshop Building the LR&amp;E Roadmap: Joint COCOSDA and ICCWLRE Meeting  Lisbon, 30 May 2004</dc:title>
</cp:coreProperties>
</file>