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AC6-472F-4593-B571-AAF9383D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77A-EACA-433C-9D7C-B74D8132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28F-7187-484D-8287-0518AA7B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9BC-D916-4FAE-96F9-8DFD8884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11F-89BC-4023-9D8E-707D26E3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0A2-8ECE-43D7-9BD9-7215929D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F77-6234-47A6-9C7A-E0E199A1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A37-80FD-467D-94F0-FCFCAE4D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7C5-A53D-47FD-93D2-64E47925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5DB-69CD-46D9-ABE7-9FD5472D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B62E-4835-4886-8D1D-C273D02C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2C5-5983-4E5B-8DD6-0E90B179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CDC5-0E53-4A09-9A71-54E38FB86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arpa.mil/ipto/programs/ears/" TargetMode="External"/><Relationship Id="rId2" Type="http://schemas.openxmlformats.org/officeDocument/2006/relationships/hyperlink" Target="ftp://ftp.cordis.lu/pub/ist/docs/istag040319-draftnotesofthemeeting.pdf" TargetMode="External"/><Relationship Id="rId3" Type="http://schemas.openxmlformats.org/officeDocument/2006/relationships/hyperlink" Target="http://www.nesc.ac.uk/esi/events/Grand_Challenges/panelc/c24.pdf" TargetMode="External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tp://ftp.cordis.lu/pub/ist/docs/istag040319-draftnotesofthemeeting.pdf" TargetMode="Externa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10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enneth W.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&amp;T Labs-Research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lorham Park, New Jersey,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kwc@research.at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10 (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r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280"/>
            <a:ext cx="40384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ghes, Wittenburg, Sim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ary, Pieraccini, 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iani,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ically challenged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x, Gib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eri, Choukri, Max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lingual lexicons &amp; impact on apps (M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kunaga, Buitelaar, Magnusdot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 analysis, terminology,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ujii, Bu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A, CLIR, 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bagin, Peters, Ciraveg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e, R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 in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10 Topic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based on a recent conferen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Extraction (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Answering (Q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Retrieval (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ation /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Modeling (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Machine Translation (M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10 (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r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, lexicons, ontologies, tools, standards,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ch, parsing, summa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A, CLIR, IE,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52280"/>
            <a:ext cx="43434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guistics, CS, AI, Stats, 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Forward-Lo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otics (Martin K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everything, but especially statistical M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worthy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d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ies for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fordable Pedabytes: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ing and making searchable a very large personal multi-medi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: PDAs, Cell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0"/>
            <a:ext cx="4343400" cy="459720"/>
          </a:xfrm>
          <a:prstGeom prst="wedgeRectCallout">
            <a:avLst>
              <a:gd name="adj1" fmla="val 55185"/>
              <a:gd name="adj2" fmla="val 539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more of the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2522520" y="2741760"/>
            <a:ext cx="3200400" cy="459720"/>
          </a:xfrm>
          <a:prstGeom prst="wedgeRectCallout">
            <a:avLst>
              <a:gd name="adj1" fmla="val -43064"/>
              <a:gd name="adj2" fmla="val -2301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 Exc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6816600" y="2823480"/>
            <a:ext cx="4195080" cy="459360"/>
          </a:xfrm>
          <a:prstGeom prst="wedgeRectCallout">
            <a:avLst>
              <a:gd name="adj1" fmla="val 22421"/>
              <a:gd name="adj2" fmla="val 4788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ebrate accomplishment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 of the Solution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ot the union of what we are all do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Replace keyboard with micro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iting (memorable) sound b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grand challenge that we can work toward but never so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: word error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to perform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mea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be no question if it has been accomp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reduce WER on task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by tim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mplishments v.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lishments are 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y is not a substitute for accomplish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estones look forward whereas accomplishments look back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endipity is goo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is 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y is not a good 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slide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uccessful, you can maybe 3 more 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: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ics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estones: a d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ly for next year: Q1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s some for years 2, 5, 10 &amp;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lishments: a d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 applicability &amp; illust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’t cover every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light stuff 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s to multiple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ward-Looking / Exc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etch of a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: corpora, lexicons, ontologies, tools, standards,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become the preferred source for European languag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, Citations, Sales / Down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est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ownloads by tim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: speech, parsing,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, Affordable, Reusable Speech-to-Text (EAR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ics: error rate,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estones: EARS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arpa.mil/ipto/programs/ears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1640" y="151920"/>
            <a:ext cx="42670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: QA, CLIR, IE, MT, distanc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e NLP apps that change the way people communicate with one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 and recall on particula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est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-look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ultilingual Compan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tourists, cultural heritage, business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ies for lif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fe L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fordable Pedabytes 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ing and making searchable a very large personal multi-media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est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tp://ftp.cordis.lu/pub/ist/docs/istag040319-draftnotesofthemeeting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esc.ac.uk/esi/events/Grand_Challenges/panelc/c24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762120"/>
            <a:ext cx="1904760" cy="459720"/>
          </a:xfrm>
          <a:prstGeom prst="wedgeRectCallout">
            <a:avLst>
              <a:gd name="adj1" fmla="val 25319"/>
              <a:gd name="adj2" fmla="val 925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: L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019920"/>
            <a:ext cx="2133720" cy="459720"/>
          </a:xfrm>
          <a:prstGeom prst="wedgeRectCallout">
            <a:avLst>
              <a:gd name="adj1" fmla="val 30495"/>
              <a:gd name="adj2" fmla="val -678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: 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6391440"/>
            <a:ext cx="3657600" cy="459720"/>
          </a:xfrm>
          <a:prstGeom prst="wedgeRectCallout">
            <a:avLst>
              <a:gd name="adj1" fmla="val 39407"/>
              <a:gd name="adj2" fmla="val -1047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: Grand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2514600"/>
            <a:ext cx="2133720" cy="459720"/>
          </a:xfrm>
          <a:prstGeom prst="wedgeRectCallout">
            <a:avLst>
              <a:gd name="adj1" fmla="val -28578"/>
              <a:gd name="adj2" fmla="val -98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: T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2972" t="6603" r="8911" b="30860"/>
          <a:stretch/>
        </p:blipFill>
        <p:spPr>
          <a:xfrm>
            <a:off x="152280" y="1752480"/>
            <a:ext cx="8839440" cy="4705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d Challenges</a:t>
            </a:r>
            <a:br>
              <a:rPr sz="4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tp://ftp.cordis.lu/pub/ist/docs/istag040319-draftnotesofthemeeting.pd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172200"/>
            <a:ext cx="2590560" cy="228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752480"/>
            <a:ext cx="3352680" cy="228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4419720"/>
            <a:ext cx="2743200" cy="228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181480"/>
            <a:ext cx="2590560" cy="228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276720"/>
            <a:ext cx="2361960" cy="228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5638680"/>
            <a:ext cx="2438280" cy="228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2514600"/>
            <a:ext cx="762120" cy="228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286" t="13428" r="40857" b="22573"/>
          <a:stretch/>
        </p:blipFill>
        <p:spPr>
          <a:xfrm>
            <a:off x="380880" y="22320"/>
            <a:ext cx="838224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13817" r="44572" b="42096"/>
          <a:stretch/>
        </p:blipFill>
        <p:spPr>
          <a:xfrm>
            <a:off x="0" y="45720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1:33:31Z</dcterms:created>
  <dc:creator>Kenneth Church</dc:creator>
  <dc:description/>
  <dc:language>en-US</dc:language>
  <cp:lastModifiedBy>Paola Baroni</cp:lastModifiedBy>
  <dcterms:modified xsi:type="dcterms:W3CDTF">2004-07-09T13:14:14Z</dcterms:modified>
  <cp:revision>38</cp:revision>
  <dc:subject/>
  <dc:title>Slide 1</dc:title>
</cp:coreProperties>
</file>