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011240"/>
            <a:ext cx="9301680" cy="5565240"/>
            <a:chOff x="-4680" y="1011240"/>
            <a:chExt cx="9301680" cy="5565240"/>
          </a:xfrm>
        </p:grpSpPr>
        <p:sp>
          <p:nvSpPr>
            <p:cNvPr id="1" name=""/>
            <p:cNvSpPr/>
            <p:nvPr/>
          </p:nvSpPr>
          <p:spPr>
            <a:xfrm>
              <a:off x="345600" y="6353280"/>
              <a:ext cx="1585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cosda 2002- Den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44800" y="6311880"/>
              <a:ext cx="18522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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LRA/EL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440" y="6353280"/>
              <a:ext cx="1273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C/</a:t>
              </a:r>
              <a:fld id="{7ED479C0-1251-4FDE-BF8E-24DF4E0FEF74}" type="slidenum"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0" y="101124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-4680" y="624996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67680" y="128520"/>
            <a:ext cx="180972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t.sun.ac.za/Cocosda/index.htm" TargetMode="External"/><Relationship Id="rId2" Type="http://schemas.openxmlformats.org/officeDocument/2006/relationships/hyperlink" Target="http://www.milab.is.tsukuba.ac.jp/o-cocosda/" TargetMode="External"/><Relationship Id="rId3" Type="http://schemas.openxmlformats.org/officeDocument/2006/relationships/hyperlink" Target="http://www.milab.is.tsukuba.ac.jp/o-cocosda/" TargetMode="External"/><Relationship Id="rId4" Type="http://schemas.openxmlformats.org/officeDocument/2006/relationships/hyperlink" Target="http://www.elda.fr/" TargetMode="External"/><Relationship Id="rId5" Type="http://schemas.openxmlformats.org/officeDocument/2006/relationships/hyperlink" Target="http://csl.anu.edu.au/~bruce/cocosda_oceania_region.html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nternational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mmittee for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ordination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dardisation of Speech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abases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echniques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alid Choukr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RA/E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20" y="276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COSF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152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sda supports the development of spoken language resources and speech technology evalu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sda promotes the development of distinctive types of spoken language data corpora for the purpose of building and/or evaluating current or future spoken language technology. For the latter Cocosda offers coordination of projects and research efforts to improve their efficien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49440"/>
                <a:gridCol w="1652400"/>
                <a:gridCol w="50277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appor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Web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stus Ro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www.ast.sun.ac.za/Cocosda/index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uichi Itahas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www.milab.is.tsukuba.ac.jp/o-cocosda</a:t>
                      </a: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halid Chouk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www.elda.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sa M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ce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uce Mil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csl.anu.edu.au/~bruce/cocosda_oceania_region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pic Are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recogn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syn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corp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us annotation t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600" y="28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OCOSDA 20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080" y="2766960"/>
            <a:ext cx="767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Http://www.cocosda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00:18:19Z</dcterms:created>
  <dc:creator>khalid CHOUKRI</dc:creator>
  <dc:description/>
  <dc:language>en-US</dc:language>
  <cp:lastModifiedBy>Paola Baroni</cp:lastModifiedBy>
  <cp:lastPrinted>2001-07-05T16:49:16Z</cp:lastPrinted>
  <dcterms:modified xsi:type="dcterms:W3CDTF">2004-07-09T13:14:11Z</dcterms:modified>
  <cp:revision>105</cp:revision>
  <dc:subject/>
  <dc:title>Aucun titre de diapositive</dc:title>
</cp:coreProperties>
</file>