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B75A-3E3A-4271-AB63-658E28B7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0E61-2F79-4939-AD4C-54C034BC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3345-E256-4240-87FC-C768745D9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ABC1-F57E-44E2-B2B0-358CFAFCD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DBE8-2414-48EC-B899-7EA40763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3145-F273-40C7-98CA-C2D84AEC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5E02-D616-4017-8548-5A61246C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E9FF-6D75-4407-899B-8AC2BF91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17B4-055F-4876-8A1D-A88CDBDD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F9E0-E9CF-41DA-8460-B178BE15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9F6E-E0A1-46F4-8B45-44584234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7AA5-D19B-4A86-B27C-038E3098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3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33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33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33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2590920" y="655272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777777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8697-A991-481B-9A41-26C6840A52EE}" type="slidenum">
              <a:rPr b="0" lang="it-IT" sz="10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" name=""/>
          <p:cNvGrpSpPr/>
          <p:nvPr/>
        </p:nvGrpSpPr>
        <p:grpSpPr>
          <a:xfrm>
            <a:off x="0" y="533520"/>
            <a:ext cx="1219320" cy="1066680"/>
            <a:chOff x="0" y="533520"/>
            <a:chExt cx="1219320" cy="1066680"/>
          </a:xfrm>
        </p:grpSpPr>
        <p:sp>
          <p:nvSpPr>
            <p:cNvPr id="23" name="Puzzle3"/>
            <p:cNvSpPr/>
            <p:nvPr/>
          </p:nvSpPr>
          <p:spPr>
            <a:xfrm>
              <a:off x="593640" y="533520"/>
              <a:ext cx="479160" cy="56700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Puzzle2"/>
            <p:cNvSpPr/>
            <p:nvPr/>
          </p:nvSpPr>
          <p:spPr>
            <a:xfrm>
              <a:off x="454320" y="946440"/>
              <a:ext cx="765000" cy="51624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Puzzle4"/>
            <p:cNvSpPr/>
            <p:nvPr/>
          </p:nvSpPr>
          <p:spPr>
            <a:xfrm>
              <a:off x="158040" y="939960"/>
              <a:ext cx="461160" cy="66024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Puzzle1"/>
            <p:cNvSpPr/>
            <p:nvPr/>
          </p:nvSpPr>
          <p:spPr>
            <a:xfrm>
              <a:off x="0" y="704880"/>
              <a:ext cx="774360" cy="39348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" name=""/>
          <p:cNvSpPr/>
          <p:nvPr/>
        </p:nvSpPr>
        <p:spPr>
          <a:xfrm>
            <a:off x="137880" y="72216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685800" y="6858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>
            <a:off x="289080" y="1066680"/>
            <a:ext cx="29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"/>
          <p:cNvSpPr/>
          <p:nvPr/>
        </p:nvSpPr>
        <p:spPr>
          <a:xfrm>
            <a:off x="685800" y="1066680"/>
            <a:ext cx="27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981080"/>
            <a:ext cx="9144000" cy="1752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17762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4114800"/>
            <a:ext cx="1113120" cy="2743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71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33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74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33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33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33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4"/>
          </p:nvPr>
        </p:nvSpPr>
        <p:spPr>
          <a:xfrm>
            <a:off x="2590920" y="6546960"/>
            <a:ext cx="39621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777777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2280" y="2438280"/>
            <a:ext cx="1219320" cy="1067040"/>
            <a:chOff x="152280" y="2438280"/>
            <a:chExt cx="1219320" cy="1067040"/>
          </a:xfrm>
        </p:grpSpPr>
        <p:sp>
          <p:nvSpPr>
            <p:cNvPr id="86" name="Puzzle3"/>
            <p:cNvSpPr/>
            <p:nvPr/>
          </p:nvSpPr>
          <p:spPr>
            <a:xfrm>
              <a:off x="745920" y="2438280"/>
              <a:ext cx="479160" cy="56700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Puzzle2"/>
            <p:cNvSpPr/>
            <p:nvPr/>
          </p:nvSpPr>
          <p:spPr>
            <a:xfrm>
              <a:off x="606600" y="2851200"/>
              <a:ext cx="765000" cy="51624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Puzzle4"/>
            <p:cNvSpPr/>
            <p:nvPr/>
          </p:nvSpPr>
          <p:spPr>
            <a:xfrm>
              <a:off x="310320" y="2845080"/>
              <a:ext cx="461160" cy="66024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Puzzle1"/>
            <p:cNvSpPr/>
            <p:nvPr/>
          </p:nvSpPr>
          <p:spPr>
            <a:xfrm>
              <a:off x="152280" y="2609640"/>
              <a:ext cx="774360" cy="39348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International Coordination Committee for Written LRs &amp; Evaluation (ICCWLRE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icoletta Calzol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stituto di Linguistica Computazionale del CNR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niversità degli Studi di Pisa - Dipartimento di Linguistica</a:t>
            </a:r>
            <a:br>
              <a:rPr sz="1600"/>
            </a:b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glottolo@ilc.cnr.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LREC 2004, Lisb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097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5ebc1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Black"/>
              </a:rPr>
              <a:t>Political &amp; Strategic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coordinate national initiatives (E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cope with a changing scene in funding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HLT action line </a:t>
            </a:r>
            <a:r>
              <a:rPr b="1" lang="en-GB" sz="2400" spc="-1" strike="noStrike">
                <a:solidFill>
                  <a:srgbClr val="336600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6600"/>
                </a:solidFill>
                <a:latin typeface="Arial"/>
              </a:rPr>
              <a:t>difficulty in designing common global long-term strategies (more opportunis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47920" y="4800600"/>
            <a:ext cx="609480" cy="762120"/>
          </a:xfrm>
          <a:custGeom>
            <a:avLst/>
            <a:gdLst>
              <a:gd name="textAreaLeft" fmla="*/ 81360 w 609480"/>
              <a:gd name="textAreaRight" fmla="*/ 528120 w 609480"/>
              <a:gd name="textAreaTop" fmla="*/ 117720 h 762120"/>
              <a:gd name="textAreaBottom" fmla="*/ 568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671" stAng="-5400000" swAng="-5400000"/>
                <a:lnTo>
                  <a:pt x="0" y="12769"/>
                </a:lnTo>
                <a:arcTo wR="21600" hR="6671" stAng="10800000" swAng="-2468308"/>
                <a:lnTo>
                  <a:pt x="14400" y="21218"/>
                </a:lnTo>
                <a:lnTo>
                  <a:pt x="21600" y="16391"/>
                </a:lnTo>
                <a:lnTo>
                  <a:pt x="14400" y="10800"/>
                </a:lnTo>
                <a:lnTo>
                  <a:pt x="14400" y="12960"/>
                </a:lnTo>
                <a:arcTo wR="21600" hR="6671" stAng="8331692" swAng="1927237"/>
                <a:lnTo>
                  <a:pt x="2388" y="9720"/>
                </a:lnTo>
                <a:arcTo wR="21600" hR="6671" stAng="-10258929" swAng="4858929"/>
                <a:close/>
              </a:path>
              <a:path fill="darkenLess" w="21600" h="21600">
                <a:moveTo>
                  <a:pt x="21600" y="0"/>
                </a:moveTo>
                <a:arcTo wR="21600" hR="6671" stAng="-5400000" swAng="-5400000"/>
                <a:lnTo>
                  <a:pt x="0" y="6671"/>
                </a:lnTo>
                <a:arcTo wR="21600" hR="6671" stAng="10800000" swAng="-541071"/>
                <a:lnTo>
                  <a:pt x="2388" y="9720"/>
                </a:lnTo>
                <a:arcTo wR="21600" hR="6671" stAng="-10258929" swAng="4858929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f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54100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ERA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&amp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ICCWL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5334120"/>
            <a:ext cx="754380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Need of bodies where to discuss a broad research agenda &amp; strategic 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REC 2004, Lisb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6F28-AFB1-47E2-93E4-221091722D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097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5ebc1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Black"/>
              </a:rPr>
              <a:t>Committe &amp; Roadmap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Maintain Road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aluate Roadmap wrt state-of-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ologic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rs of Roadmap: e.g. extraction of ´hot topics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00"/>
                </a:solidFill>
                <a:latin typeface="Arial"/>
              </a:rPr>
              <a:t>Here we are…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5257800"/>
            <a:ext cx="990720" cy="53352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REC 2004, Lisb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7B74-600C-4251-B200-E6C6969B29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5438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5ebc1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International Coordination Committee for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Written LRs &amp; Evaluation (ICCWLRE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other initiative of Antonio Zampoll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00"/>
                </a:solidFill>
                <a:latin typeface="Arial"/>
              </a:rPr>
              <a:t>International foru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 support international coordination &amp; cooperation in the field of written LRs and technology assessment method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formulate a common agenda of medium- and long-term research pri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iscuss innovative research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volvement of various ‘continents’, topics, distribution ce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the model of &amp; in cooperation with </a:t>
            </a:r>
            <a:r>
              <a:rPr b="1" lang="en-GB" sz="2000" spc="-1" strike="noStrike">
                <a:solidFill>
                  <a:srgbClr val="336600"/>
                </a:solidFill>
                <a:latin typeface="Arial"/>
              </a:rPr>
              <a:t>COCOSD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00"/>
                </a:solidFill>
                <a:latin typeface="Arial"/>
              </a:rPr>
              <a:t>Common meetings (Spoken &amp; Written) at LRE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5791320"/>
            <a:ext cx="609480" cy="761760"/>
          </a:xfrm>
          <a:custGeom>
            <a:avLst/>
            <a:gdLst>
              <a:gd name="textAreaLeft" fmla="*/ 81360 w 609480"/>
              <a:gd name="textAreaRight" fmla="*/ 528120 w 609480"/>
              <a:gd name="textAreaTop" fmla="*/ 117360 h 761760"/>
              <a:gd name="textAreaBottom" fmla="*/ 56808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671" stAng="-5400000" swAng="-5400000"/>
                <a:lnTo>
                  <a:pt x="0" y="12769"/>
                </a:lnTo>
                <a:arcTo wR="21600" hR="6671" stAng="10800000" swAng="-2468308"/>
                <a:lnTo>
                  <a:pt x="14400" y="21218"/>
                </a:lnTo>
                <a:lnTo>
                  <a:pt x="21600" y="16391"/>
                </a:lnTo>
                <a:lnTo>
                  <a:pt x="14400" y="10800"/>
                </a:lnTo>
                <a:lnTo>
                  <a:pt x="14400" y="12960"/>
                </a:lnTo>
                <a:arcTo wR="21600" hR="6671" stAng="8331692" swAng="1927237"/>
                <a:lnTo>
                  <a:pt x="2388" y="9720"/>
                </a:lnTo>
                <a:arcTo wR="21600" hR="6671" stAng="-10258929" swAng="4858929"/>
                <a:close/>
              </a:path>
              <a:path fill="darkenLess" w="21600" h="21600">
                <a:moveTo>
                  <a:pt x="21600" y="0"/>
                </a:moveTo>
                <a:arcTo wR="21600" hR="6671" stAng="-5400000" swAng="-5400000"/>
                <a:lnTo>
                  <a:pt x="0" y="6671"/>
                </a:lnTo>
                <a:arcTo wR="21600" hR="6671" stAng="10800000" swAng="-541071"/>
                <a:lnTo>
                  <a:pt x="2388" y="9720"/>
                </a:lnTo>
                <a:arcTo wR="21600" hR="6671" stAng="-10258929" swAng="4858929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f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ENABLERlogo" descr=""/>
          <p:cNvPicPr/>
          <p:nvPr/>
        </p:nvPicPr>
        <p:blipFill>
          <a:blip r:embed="rId8"/>
          <a:stretch/>
        </p:blipFill>
        <p:spPr>
          <a:xfrm>
            <a:off x="0" y="2895480"/>
            <a:ext cx="1523880" cy="76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REC 2004, Lisb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4AE5-CD50-49A7-9D72-93F413780D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28640" y="2209320"/>
            <a:ext cx="52578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5ebc1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Black"/>
              </a:rPr>
              <a:t>Committee…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 Black"/>
              </a:rPr>
              <a:t>Possible Role &amp; Tas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523520" y="3809880"/>
            <a:ext cx="72392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 Disse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semination of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ittee &amp; Road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pyright &amp; I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motion &amp; Coordination for L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abl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itical &amp; Strate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ENABLERlogo" descr=""/>
          <p:cNvPicPr/>
          <p:nvPr/>
        </p:nvPicPr>
        <p:blipFill>
          <a:blip r:embed="rId1"/>
          <a:stretch/>
        </p:blipFill>
        <p:spPr>
          <a:xfrm>
            <a:off x="7391520" y="228600"/>
            <a:ext cx="1523880" cy="762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7200" y="0"/>
            <a:ext cx="8686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 Black"/>
              </a:rPr>
              <a:t>WRITE </a:t>
            </a:r>
            <a:r>
              <a:rPr b="1" lang="en-GB" sz="2400" spc="-1" strike="noStrike">
                <a:solidFill>
                  <a:srgbClr val="ff3300"/>
                </a:solidFill>
                <a:latin typeface="Arial Black"/>
              </a:rPr>
              <a:t>Committ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3300"/>
                </a:solidFill>
                <a:latin typeface="Arial Black"/>
              </a:rPr>
              <a:t>Written Resources Infrastructure, Technology, &amp;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WR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Written Resources &amp; Evaluation Committ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0492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New name?? 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LREC 2004, Lisb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097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5ebc1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Black"/>
              </a:rPr>
              <a:t>Information Dissemin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240" y="2514600"/>
            <a:ext cx="7086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semination of Committee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00"/>
                </a:solidFill>
                <a:latin typeface="Arial"/>
              </a:rPr>
              <a:t>Maintenance of Website for LR Land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 about influence, usability.. of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tch &amp; keep contact with other relevant communities &amp; coordinate commo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ertise out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REC 2004, Lisb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5D49-F178-4EB9-9796-E7A756C8AE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097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5ebc1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Black"/>
              </a:rPr>
              <a:t>Dissemination of info on standards &amp; dissemination of standard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orting on practical experience of standard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ok at models/guidelines for adapting standards to different purp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ok at good practice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to maintain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to evaluate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isory group of experts to help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REC 2004, Lisb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E149-9BCD-42CB-96D1-BB5835A14B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097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5ebc1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Black"/>
              </a:rPr>
              <a:t>Promotion &amp; Coordin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mote development of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free, shared LRs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ompatible with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rge repositories of LRs &amp; direct access via cata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Architecture/Open Source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amework allowing an incrementa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rify links betw. LRs &amp;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REC 2004, Lisb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9000-5FC2-4820-87D4-ED4B1A151C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480" y="456840"/>
            <a:ext cx="7174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5ebc1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Black"/>
              </a:rPr>
              <a:t>How to go for a framework allowing incremental creation/merging/…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240" y="2057040"/>
            <a:ext cx="75438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"organise" creation/acquisition of multilingual LRs: evaluate differen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cope with/affect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organise technology transfer amo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support BLARK/EL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launch an international initiative linking Semantic Web &amp; L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otstrapping this by "opening" a few L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3300"/>
                </a:solidFill>
                <a:latin typeface="Arial"/>
              </a:rPr>
              <a:t>Declaration on open access to L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5791320"/>
            <a:ext cx="990360" cy="53316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REC 2004, Lisb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E203-FAB4-47DA-8EF0-957EE9A0D0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80720" y="456840"/>
            <a:ext cx="6945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5ebc1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Black"/>
              </a:rPr>
              <a:t>Copyright issu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rify IP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ys of contrac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i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REC 2004, Lisb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5534-9684-4616-B954-9D9E966B5E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52480" y="456840"/>
            <a:ext cx="7174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5ebc1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Black"/>
              </a:rPr>
              <a:t>Enabling activiti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conditions to highlight emerging needs from the community, discuss, share, see which have consensus.., &amp; proposals of how to tackl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conditions to arrive at consensual recommendations, to be conveyed t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ok at landscape initiatives &amp; how exploit, coordinate them (&amp; what is miss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REC 2004, Lisb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8468-D1A1-47F8-8ABA-2388F9C3E6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icoletta Calzolari</dc:creator>
  <dc:description/>
  <dc:language>en-US</dc:language>
  <cp:lastModifiedBy>Paola Baroni</cp:lastModifiedBy>
  <dcterms:modified xsi:type="dcterms:W3CDTF">2004-07-09T13:14:04Z</dcterms:modified>
  <cp:revision>148</cp:revision>
  <dc:subject/>
  <dc:title>PowerPoint Presentation</dc:title>
</cp:coreProperties>
</file>